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C9372-F877-4409-9A60-64C15956C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3339F-9095-4404-A239-F9544A32A0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0BE8B-1A76-4DDB-8CE2-A10FF11FDF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BDF44-77B8-44B4-9983-8466968721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71709-4801-4CFA-9EFE-53CB77B3AE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31E1D-98BF-4710-9CD8-2DA973B7DD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10938-0C5B-415D-A31F-B67249FE21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8CC35-B44E-47A1-834E-B13C839F7B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E2E1C-6459-4F19-BE09-2E3FE90288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778F2-7C3A-424A-BADA-798D520DCF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56DDD-DFAF-4D9B-AC3B-666731A2A8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B9569-A679-4D57-A96B-CA9A8DF11C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93047-0D70-4D39-B2D7-E88A06A48E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36D1C-6826-4EA3-A07A-78C9CFAB6E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58AD516-DA8C-48EC-A7D5-4824D4F3B9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6FD69EC-0157-41A9-9DE3-7A0CAF75FD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3065F52-B238-4DBF-A401-5642EB3B3A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D5D237F-B751-40D5-A124-9E52C5167A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DC2F255-4FF4-4BA5-A534-B9CFC7D75E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738F631-5481-41A8-A394-DAF94616B1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D2CB-A5BB-454F-9113-6A8F9137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91D8-A87A-46C3-B0EB-8B03DAF9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D63-8058-4540-89EF-B8070999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4B3-A37B-4E7A-BBF5-0421B9D0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23A-BA01-47E0-98EA-3CE0B948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7BD2-1109-48DB-95C3-447BF455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7F3-E383-4DBC-91B6-4DFA779A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8591-97FA-466B-932F-C1973D8B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0B57-3818-4656-9886-E96D3E33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F6D-2FC4-45C9-A1D1-2FFB0996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8EB-994A-4B99-8A04-CC9A36D4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D82-3A0B-445A-BEA3-F779CDB0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89F7-070A-4369-979E-9EAD960343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92120" y="5562720"/>
            <a:ext cx="478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after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 same Web site today that we started in Lecture 2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so open SQL Server Management Studi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6: More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have XML columns in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query, update and index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at a time, ru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1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2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3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4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es each 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nice way to store highly variable information where standard columns don’t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600520" y="6253200"/>
            <a:ext cx="359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XML1-4 code from Kiessig, Ultra-Fast ASP.N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Exercise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1: Creates XML schema and Product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by Products table to validate XML colum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ll columns from all r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props where width ex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width where color of top part is bl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first color where color of legs is ch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 leg color to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arm with color wh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 first color (a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4: creates index on XML column, path, properties and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indexes on Products table in SSMS explo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dpoint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: snippet of database being sent from one Web server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ains tags defined by business, hyperli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ew from HTML but defines content, not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and/or XSD: contains business rules (1-1, 1-many, null/not null, etc) to validate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transforms and styles and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change to sent or received XML to meet business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query language used for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role as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mple Object Access Protocol: SOA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XML and 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 is to use no extra technology for distribute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some headers to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new MIME type: text/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s agreed definitions of data types, mandatory valu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POST and XML replace complex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text rather than binary, so it’s much easier to interoperate across machines and debu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nary transmissions are not human-read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AP can send binary objects like pictures (that are human read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sufficiently efficient for most machine-machine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the key component in Web services, or Service Oriented Architectures (S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provides information in an XML format to be used by a 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does not display the data in a user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tied to a specific Web page or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in .NET are on pages with a .asmx extension (not .asp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W and .NET make writing simple Web services ea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is generally used to generate the XML pay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accept parameters, such as customer number or order number, to return only data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meters are used in the WHERE clause in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Description Language (WSDL) describes a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ically created by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7: Web Services in VS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ll create a Web service in a regular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ly we create a separate project/site for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open previous Web site, or create new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-&gt; New File -&gt; Web Service: TemperatureService.asm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‘place code in separate file’. No master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the following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ouble toCelsius(double t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(5.0 / 9.0) * (tf - 32.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view in browser: a WSDL page is sh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TemperatureService.asmx HTTP/1.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30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ToCelsius" 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oCelsius xmlns="http://tempuri.org/"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F&gt; 32.0&lt;/TF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ToCelsius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spon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HTTP/1.1 200 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Length: 25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ponse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ult&gt; 0.0&lt;/ToCelsiusResul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ToCelsiusRespons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Envelope&gt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database qu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sh to query the Parts table for all parts of a given ven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endor will be a parameter to th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eb service will use a database connection to execute the SQL qu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will return an XML document as its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de is in your Lecture 22 download as ProductService.asm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mit1264lecture22/ProductsService.asmx HTTP/1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leng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GetProducts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etProducts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Vendor&gt;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string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Vendo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etProduct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ap of XML Bas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hold self-describ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erarchies, objects, database table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flexible, decided by industry groups, part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documents can transform or styl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S isn’t enough because we want to display tag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files can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has the DTD that server or client can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TDs are limited: can’t define data typ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chema (XSD) files preferred to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structured, more extensible than DT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s can read and write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s can send and receive XML as payload in HTTP, much like HTML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has made XML the markup language in 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ting a disruptive technology in place to automate comme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ductService.asm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WebService Language="C#" Class="ProductService"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ing System;  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nd other ‘using’ direc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(Namespace = "http://tempuri.org/"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Binding(ConformsTo = WsiProfiles.BasicProfile1_1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class ProductService  : System.Web.Services.WebServic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ataSet GetProducts(string Vendor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Connection con1264= new SqlConnection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onnect to d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"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DataAdapter dad1264= new SqlDataAdapter("SELECT * FR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arts WHERE Vendor= @Vendor", con1264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SelectCommand.Parameters.Add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dd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ew SqlParameter("@Vendor", Vendor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Set dstProducts= new DataSet(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output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Fill(dstProducts, "Products"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Run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dstProduct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b service example 2: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3" descr="WebSvcOutput"/>
          <p:cNvPicPr/>
          <p:nvPr/>
        </p:nvPicPr>
        <p:blipFill>
          <a:blip r:embed="rId1"/>
          <a:stretch/>
        </p:blipFill>
        <p:spPr>
          <a:xfrm>
            <a:off x="228600" y="914400"/>
            <a:ext cx="87850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8: Web serv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the connection string in ProductService as nee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the Web service to return parts and vendors only if the part ID is 1000 or gre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y the connection string to log into your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SELECT * FROM Parts WHERE Vendor= @Vendor AND partID &gt; 1000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mlDataSource: BookMIT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DataSource control on page, config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 for Books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Path: //booklist/bo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[Forward slashes, not backward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DataList onto Xm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XmlData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View in browser—MS tools only show attributes, not e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source view, delete all text in &lt;ItemTemplate&gt; and replace wi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p&gt; &lt;%# XPath("author/first-name")%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author/last-name")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ric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topic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publicationdat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ISB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ve and test (BookMIT2.aspx has nicer format—see down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SLT: XML Stylesheet Language/Transform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is a language to transform and style XML documents from one form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or display, especially to show tags, which CSS does not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o convert an XML document from one format to another, in passing it from one organization to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on next page transforms Books.xml into Authors.xml by selecting just the author t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has loops, if statements and is a mini-programming language to select and transform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o understand the details of XS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AuthorXSLT.aspx applies Books.xslt to Books.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e download and example run in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XSLT: Books.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 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stylesheet xmlns:xsl="http://www.w3.org/1999/XSL/Transform" version="1.0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s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apply-templates select="//book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book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fir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xt&gt; &lt;/xsl:tex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la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styleshee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28600" y="644364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n BookAuthorXSLT.aspx to apply Books.xslt to Books.xm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Simple 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3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 control on page from the Standard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 XMLDataSource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gure it by typing two properties in Source view, or by using the Properties window to select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Source="Books.xml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Source="Books.xsl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XML control will display the authors from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a simple illustration of trans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of these exercises are illustrative. XML still requires some programming, often simple, which is beyond the scope of this cla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4: Blogs are XML: Blog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09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Page Language="C#“ (details omitted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DOCTYPE html … (details omitted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 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 id="Head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XmlDataSource Blog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id="form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DataList ID="D1" Runat="server“ DataSourceID="XmlData1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ubDat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descriptio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Data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XmlDataSource ID="XmlData1" Runat="server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File="http://www.hanselman.com/blog/feed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XPath="rss/channel/item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XmlDataSourc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671400" y="651996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e Blog.aspx. Compare with www.hanselman.com in browser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5: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SQL Server Mgt Studio, use MIT1264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attrib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,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a root tag (e.g., &lt;Customerlist&gt;) and end tag around the SQL result set, and we have a valid XML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the root and end tags with SQL, C#, Java, 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also INSERT, UPDATE, DELETE with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database insert examp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REATE PROCEDURE xmlOrderInsert @order ntext 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DECLARE @docHandle int, @OID 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preparedocument @docHandle OUTPUT, @or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BEGIN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Orders( CustomerID, EmployeeID, OrderDate, RequiredDate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CustomerID, EmployeeID, OrderDate, RequiredDa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', 3) WITH ( CustomerID nchar(5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mployeeID int,   OrderDate datetime, RequiredDate datetime  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0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T @OID = SCOPE_IDENTITY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[Order Details] ( OrderID, ProductID, UnitPrice, Quantity, Discount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@OID AS [PO ID], ProductID, UnitPrice, Quantity, Discou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/OrderDetails', 1)   WI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( ProductID int, UnitPrice money, Quantity smallint, Discount real  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1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OMMIT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removedocument @docHandle SELECT @OID AS [Order ID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094880" y="643104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codeproject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09-22T22:04:20Z</cp:lastPrinted>
  <dcterms:modified xsi:type="dcterms:W3CDTF">2013-10-31T14:02:11Z</dcterms:modified>
  <cp:revision>277</cp:revision>
  <dc:subject/>
  <dc:title>1.264 Lecture 5</dc:title>
</cp:coreProperties>
</file>