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B06B5-F6D0-43E7-A116-6CFB12B8C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9AFA7-3AB9-4B4E-AA93-581BC3BD05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FF118-D502-4A78-842C-97607F0383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F8BF1-EBA1-4941-A74E-32C7030E0D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89086-FA25-4D6A-AFF6-B15B59DF1D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53B2D-E44B-42B0-9FE4-3276D11C9B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27C12-6F1F-4903-BFC0-7CE389E0DE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26521-CF63-44D7-9DF7-00D5002F1B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2FBF3-42C7-4E23-96E7-059AE49456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59683-6321-41C2-A84F-BD2E564CF6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518A3-D8FD-4969-A440-8979D35C6B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C0963-8E40-4FA7-B2A2-C4D4F51690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4B34B-A7B5-45B3-B571-56D145836C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5681E-02C6-4D40-A2F5-7B6C3357C9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1599A-AE56-4356-A881-1A8397443E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B9E5F-8E9A-4FBE-814E-AE63D03EF3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319EE-8020-42CC-83D0-2303599135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91D95-38C3-4828-A9FB-BBD5B397F5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D362A-4B46-4A1D-8144-65048B38D3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103-AF8F-4CEF-83F0-FE51AC3C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F0AD-D0D2-431C-864E-55B4DDFD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2E68-CE2E-4FC0-B6D4-756F8C0D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DBC5-FE51-4CFC-9476-39BF385B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E07-ADF6-43D4-B580-F0D22AF6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643-75C3-4B8C-A687-82D8E3E5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275-F49E-4A4A-A9C0-35E44EF2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CC1C-1F47-468C-83A9-65A1FAF2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89E-9B4B-4C2D-914C-1632EB88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2CE-388F-4B21-8D49-77079A40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239-AE78-4FD7-AEC9-A75FD100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BF06-2EC9-4B8A-84DD-830A4C4B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9C7E-1F28-4A98-9470-340F078C543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6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Wireless net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898000" y="5719680"/>
            <a:ext cx="31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ease do subject evaluation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 service se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oom or area is a typical BSS (basic service se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ESS is a set of rooms and areas in the 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ons capabilities may b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ary on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move within a single BSS (ad hoc or infrastructur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move between BSS, but communication may not be continuous during the mo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48280" cy="2532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7662240" y="647388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om Forouza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Fi (802.11b, 802.11g, 802.11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pensive, pervasive, reliable, easy to man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t spots common, but unscalable for metro area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~100 meters: ok within buildings, campu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dwidth: 11 Mbps (b), 54 Mbps (g), 100 Mbps (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bandwidth often half of nominal due to interference, fading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lf of traffic at many companies is non-work (music or video streaming, Web access, personal email, 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is difficult, because signals propagate beyond the building or s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P easy to break; use WPA and WPA2 instea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n’t use WPS (WiFi protected setup); it has a security fla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nicipal network plans problematic (30+ points/sq m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 warehouse, what type of LAN would you set up (ad hoc, BSS, ESS), and wh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ere are forklifts and other vehicles oper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ere are pick/pack stations, conveyor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uld you try to lay out the network to minimize handoffs, or is that not important? Why or why no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802.11b, how would you stream video from 25 forklifts/vehicles in the wareho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your video is 1.5 Mb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up an ESS, to allow handoffs and to connect all devices/stations to the WAN if nee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y out the network to cover aisles/areas that minimize handoff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cations is not continuous in wireless LAN handoff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deo: 802.11b is 11 Mbps, or 5.5 Mbps practic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need 25 * 1.5 Mbps, or 37.5 Mbps, or at least 8 BSS, which is one AP for every 3 vehicles in an ar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ause of interference, fading, etc. you may need m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use 802.11n, at 100 Mbps nominal or 50 Mbps actual, you may find 2 APs sufficient (1 for redundanc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bile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bile telephony is dominant. Alternatives a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alized mobile radio (SMR), used primarily for local dispat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3,000 licensed SMR providers in US (taxi, trucking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el bought many SMR providers and created national network: radio, cell phone, data, messag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el uses variation on GSM cellular technolo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 mobile radio service (police, fire, railroads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red frequencies among all us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se stations, repeaters; squelch or tone contr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unking radio (multiple channels) used by larger organiz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e control channel to which all units liste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lk channel then designat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options use spectrum less well than cell phon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ing pushed to narrowband; other meas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bile (cellular)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ell phone is a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fore cell phones, there was mobile radio, with one tower per metro area and about 25 chann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 phones had to be high powered but for little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telephony divides a metro area into cells for much, much more capac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32 channels in standard US cellular radio spectrum band; European GSM varies but simil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 to 5 more bands have been allocated via auction in 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one can operate on any of these 1,000+ chann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switches are called Mobile Telephone Switching Offices, or MTS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s same as standard telco voice switch, plus handoff across cells, for voice ca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les TCP/IP data for data and 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SM (2G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 is European standard, adopted worldwide and increasingly in 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’s a 2G (second generation) standard, being superseded by 3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switches voice calls, like landlines, and is being replaced by voice over 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voice band is 13 kbps (versus 64 kbps fib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GSM has 124 chann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channel is 270.8 kbps carried in 200 k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 users per chann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SM can (re)use 1/3 of channels in each cell, due to good error corr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acity =~ 124 channels * 8 users/channel * 1/3 reuse= 329 calls (users) per c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 data is carried over GPRS (General Packet Radio Services), often considered 2.5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G wirel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wide standard, though frequency bands vary by reg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aming phones must use different frequency ban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a few common frequency bands worldw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ed for many servic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-time gam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 download and uplo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and e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G data protocols are WCDMA, HS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broad use, continue to evolve new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 be supported for many years until full 4G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rates of 500 kbps to 1 Mbps typ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G wirel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G is also called LTE (long term evolution) and release 8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is 3GPP (in GSM lineag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backward compatible with 3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rely IP based; no voice switched traff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 spectrum flexibility for worldwide op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offs at 350 km/hr to support high speed r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ny individual phone supports limited spectrum, since RF and filter design are expensive/inflexi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rates of up to 20 Mbps typ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rcity of bandwidth resulting in throttling of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MA (50% of US) 1x-EV-DO Rev C is very similar to LTE, and is converging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is 3GPP2 (in CDMA lineag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equency reuse in cellular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938160" y="1460520"/>
            <a:ext cx="7139160" cy="4559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1094040" y="601992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a 7-cell pattern; 9-cell is also comm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a system for an intercity rail passenger train to provide Internet access to its passengers and operating crew. Address each challeng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ro areas: frequent physical obstructions, such as underpasses, tall build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ne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ral areas: gaps in cellular coverage, trees, hills obstruct line of s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applications: what to do when a user wants to download a 200MB 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changes: train goes through many networks of varying quality at varying spee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ption in passenger cars: metal car bodies affect sig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ular serv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Picture 4" descr="Lec21e"/>
          <p:cNvPicPr/>
          <p:nvPr/>
        </p:nvPicPr>
        <p:blipFill>
          <a:blip r:embed="rId1"/>
          <a:stretch/>
        </p:blipFill>
        <p:spPr>
          <a:xfrm>
            <a:off x="1836720" y="990720"/>
            <a:ext cx="5630760" cy="5486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1006200" y="6521400"/>
            <a:ext cx="75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mple honeycomb pattern rarely holds. Actual cell coverage highly variabl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ume LTE can provide 20 Mbps to areas with industry/warehousing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a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ocation serv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100 locations in the c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each has 10 Web users (1 Mbps), 1 Web/data server (5 Mbps), limited videoconference/video (4 Mbp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tal bandwidth for each location is 10 Mbps (1+5+4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re LTE t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SL (1.5-13 Mbps, a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V (30-300 Mbps, asymmetric bu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a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er all 100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1 over copper (1.5 Mbps, 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gabit Ethernet MAN (1 Gbps, 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LTE solve the ‘last mile’ problem sometim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verage user needs 10 Mb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SL (1.5-13 Mbps) may meet it in some cases, but usually not. DSL usually 3-6 Mb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V has 30-300 Mbps, but 100 users *10 Mbps= 1 Gbps. CATV would need many segments; not effect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1 over copper (1.5 Mbps) is not enoug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gabit Ethernet MAN is plenty, of cour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TE (20 Mbps) is suffici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andwidth is available. In lower and medium density areas, it should be 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cell can handle 100+ channels at 20 Mb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TE appears to solve the ‘last mile’ problem for residences (low/medium density) and low/medium density small business, but not major bandwidth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ng-range wireless: satellite commun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1684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s (wireless WAN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 satellites are on the equator and orbit every 24 hours, appearing station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satellites 120 degrees apart can cover the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O orbits are between the two Van Allen belts of charged particles that would destroy a satell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O satellites orbit every 6 to 8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PS is a set of 24 MEO satellites in 6 orbits, designed so 4 satellites are always visible from any point on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PS triangulates among the 4 satellites to determine position in 3D; it computes intersection of sphe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O satellites are in polar orb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orbit every 90 to 120 minu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managed like a set of cells on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ttle” LEOs: text messaging (e.g. truckin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” LEOs: Iridium, Globalstar (e.g. sat phon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adband LEOs: network video, other broadb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O satellite appl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marsat for marine and remote appl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0,000 ships, vehicles, aircraf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32 kbps Internet access data rate, 11 satell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se service ended in 2005 for commercial vess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y small aperture terminal (VSAT): 56 kbps- 4 Mbps for remote area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areas can get 18 Mbps down, 4 Mbps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data rates 512 kbps or less down, 128 kbps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 Internet providers’ for rural consu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SAT operators for Africa, other areas without fi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V programming distrib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 broadcast T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O, LEO satellite appl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adband L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desic, similar to fiber, fai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g LE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ridium not successful but still oper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 expensive to compete with terrestrial cell serv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6 satellites, each with 48 spot beams: ~2000 cel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, fax, paging at 2.4 to 4.8 kb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star has 48 satellites, similar service as Iridiu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tle L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ucking and rail information systems, pag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positioning system (GP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 lin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0" name="Picture 4" descr="Lec21d"/>
          <p:cNvPicPr/>
          <p:nvPr/>
        </p:nvPicPr>
        <p:blipFill>
          <a:blip r:embed="rId1"/>
          <a:stretch/>
        </p:blipFill>
        <p:spPr>
          <a:xfrm>
            <a:off x="1254240" y="1981080"/>
            <a:ext cx="663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a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50 milliseconds (1/4 second) delay between two Earth stations communicating via geosynchronous (GEO) satelli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ay noticeable for voice commun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ay requires special treatment of dat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CP/IP will assume network congestion or dropped packets with these delays; must use special parameters or equipment to spoof acknowledgem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in absorp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n transit outage at equinox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wer is limited on satell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ed signal to noise ratio, limits bandwid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 Broadcast Satellite (DBS) satellites are overpowered to allow small consumer antennas; overall system costs are hig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ttle room left for satellites in equatorial (GEO) orbi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operate a diamond mine in northern Canada and need 20 Mbps to remotely monitor and diagnose mining equipment, provide Internet and some video for employees, handle email and files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 GEO, big LEO, little LEO, broadband LEO, MEO to meet your nee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ould the other end of the satellite link connect? Does it matter? Options are your corporate HQ, a large peering point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 flipV="1">
            <a:off x="990720" y="3962160"/>
            <a:ext cx="7772400" cy="6858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886200" y="5105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il 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14400" y="38098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6019920" y="388620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2362320" y="3124080"/>
            <a:ext cx="304560" cy="1295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819520" y="4191120"/>
            <a:ext cx="30456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956320" y="31640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il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191120" y="4267080"/>
            <a:ext cx="99036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889440" y="380988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pa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H="1" flipV="1">
            <a:off x="3886200" y="44953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7529400" y="278280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7315560" y="43070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lls, tr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 need 20 Mbps up and down in northern Can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 offers max 18 Mbps down and 4 Mbps up, and not in all area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ar areas are strange: beams are turned off from lack of demand but could possibly be turned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ight need 5 connections, which would be expensive…but a diamond mine can probably pay 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 LEO and Little LEO are low bandwid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O does not offer data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adband LEO (Teledesic) fai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y connect near corporate HQ to use MAN from ground station to HQ for cost, bandwidth, security reas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838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SS: Basic service set (WiF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: Extended service set (WiF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P: Wired Equivalent Privacy (WiFi secur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PA: WiFi Protected Access (WiFi secur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R: Specialized Mobile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MA: Code Division Multiple Access (US wireles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: Global System for Mobile Communications (wireless voice standard, worldwi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PRS: General Packet Radio Service, over GS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CDMA: Wideband Code Division Multiple Access (3G data standar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SPA: High Speed Packet Access (3G data st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GPP: 3G Partnership Project (sets 3G/4G std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x EV-DO: Evolution-Data Optimized (3G CDMA st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 are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ellular data carri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on train chooses best signal, maintains 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WiFi (wireless LAN) at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nels (short ones)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on train caches Web content, handles email via store and forw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ng tunnels require leaky fiber and/or base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ral area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ellular data  carriers, and satellite ser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in trai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ennas mounted on multiple cars, wireless LAN between cars so any antenna can serve all ca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, applicatio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train server manages traffic, ensures ‘fairness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handles authentication and bill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How do long distance trucking, buses do this?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4" descr="RailWirelessLec22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540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603120" y="658188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pointshotwireless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example: Amtrak wireless covera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072040" cy="5581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7294320" y="640080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: Amtra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dio propag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s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e space lo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mospheric attenuation: rain, water, du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ath loss: water body or fog causes reflections, and signals arrive out of phase at destin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raction: hills, buildings, obstr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enna proble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now, icing (use heaters, radom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oning restrictions (hide antennas in building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wave frequencies are line of si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have like light, can be focused and refl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issues hold for mobile phones, wireless data, satellites als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dio lo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7" name="Picture 4" descr="Lec21b"/>
          <p:cNvPicPr/>
          <p:nvPr/>
        </p:nvPicPr>
        <p:blipFill>
          <a:blip r:embed="rId1"/>
          <a:stretch/>
        </p:blipFill>
        <p:spPr>
          <a:xfrm>
            <a:off x="2286000" y="990720"/>
            <a:ext cx="4479840" cy="217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Lec21c"/>
          <p:cNvPicPr/>
          <p:nvPr/>
        </p:nvPicPr>
        <p:blipFill>
          <a:blip r:embed="rId2"/>
          <a:stretch/>
        </p:blipFill>
        <p:spPr>
          <a:xfrm>
            <a:off x="1905120" y="3352680"/>
            <a:ext cx="532908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LAN (WiFi) standard is IEEE 802.1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types of wireless L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d ho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ere stations (computers) directly conn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frastruct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ith an access point (AP) that connects to a wired LAN and usually a MAN/W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ed coordination required between stations due to colli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sense multiple access/collision avoidance (CSMA/CA) protocol is used, as discussed earl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environment is very noi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mes are fragmented into small frames so retransmission, which is frequent, is more effici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2-06T00:37:43Z</cp:lastPrinted>
  <dcterms:modified xsi:type="dcterms:W3CDTF">2013-12-07T14:39:08Z</dcterms:modified>
  <cp:revision>257</cp:revision>
  <dc:subject/>
  <dc:title>1.264 Lecture 5</dc:title>
</cp:coreProperties>
</file>