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958F7-8872-4768-B6F7-192F72DA9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CA4B2-E87F-4AC5-BAA6-B58F0033A7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5D186-DD6A-41E5-AD64-AFBA05FC7D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DEFA4-2234-48AE-9D00-C2F7FA330C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0AC74-F2F1-4263-A170-E6ACFC0F38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9BD6D-916B-4727-B847-153C55CD97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F3117-1C24-4771-ABC9-643654BEE4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086D0-7CD7-4301-83D9-DD4AFF609C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C2B7B-C3AD-438D-9C1A-407BA8A955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82FD1-F542-41DD-8F8F-53F494AF86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AD1BF-E5E2-4DE9-B4BC-1A1545965C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2A482-5D85-4F56-B7A6-6015B59FD0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D479-C5F0-42E2-9A6A-68B80F5C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3EA4-55B3-470B-BBBD-A6647477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93A-640F-492D-ABE1-4C322BA3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7AA-FF96-4BAC-93C3-5677AF9A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7FE-ABD7-4EEA-8A71-B452186B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BC8-F700-4274-BACC-4A64E886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C93-0BCC-4CFB-8AF1-CE7446E7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9C1E-7A90-4352-B36F-55112995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BFA-DD41-4788-AE12-13D37A0B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93F-EBD5-4E73-9F15-496BB98A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8B3-B0FB-4FD9-986F-55E12E06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6F2B-26FC-4B18-B621-8047CBC1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620D-7F83-4399-8953-8674CCA977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Controls, Forms, par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386080" y="5719680"/>
            <a:ext cx="456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t Visual Studio. Open the Lecture18/19 Web s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.  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3989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905120" y="1754280"/>
            <a:ext cx="54892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Inserting data, other featu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rcise: Improve the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/edit the page links in the nav bar in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n Offices.aspx page if you have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(h2) text on the pages created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t website.map to include new pages created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what the ‘breadcrumb’ navigation uses as its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ext to Default.aspx, your hom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‘Contact us’ link; it should send em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itles to the pages you created (&lt;title&gt;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some SQL by hand in the SQLDataSource wiz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e INSERT statement in CustomerOrders.aspx to confirm it does not have a primary key field, because the customer number is IDENTITY (auto-genera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351600" y="6324480"/>
            <a:ext cx="58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toolkit.ashr.transportation.org/NCHRP.aspx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ember to save pages in VSW after making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 on tab means the page has not been sa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ember to refresh the browser after you make a change to a Web page and are testing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rowser caches the page, and doesn’t know that you’ve changed it unless you force a refre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 up you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your Web site to another Web site on your computer periodic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NET (and JEE 6, LAMP) framework allows Web site construction from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connection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id, form, data, detail views for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ation controls (we didn’t cover th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vigation controls (SiteMapPath, oth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n and permission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JAX: Asynchronoux Javascript and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es the sorting in GridView, for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: machine-to-machine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this in the next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works for Web-database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.NET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, IIS, SQL Server, ASP.NET and C# or other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va Enterprise Edition (JEE 6 or, older, J2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S, Glassfish/Apache, any database, J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MP open source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ux, Apache, MySQL, 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can essentially interop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ices based on cost-speed-performance-security-stability tradeoff: Java -&gt; .NET -&gt; LA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have similar features, though details v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P.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pages are .aspx pages. They have 2 par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Aspx page, which is considered a Web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Microsoft ASP.NET server code that converts the controls on the .aspx page into XHTML that is sent back to a client (browser or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HTML code is generated dynamically based on database queries and programs that run on the server, such as optimization or design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ites are compiled to check for errors, just like software programs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bug-&gt; Build Web Sit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heck for err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t-driven model, as we’ve seen in our exerci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Inserted, DataUpdated, DataDeleted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 and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Web site Lecture18 in V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Customer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ORDER B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Advanced’ and generate edit, update, delete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s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edit,  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header &lt;h2&gt; at the top of the ContentPlaceHolder: “Custom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: edit, de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 delete a customer if they have an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not present in Grid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, insert,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Sales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ORDER BY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a second SqlDataSource into ContentPlaceHolder, below the fir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WHER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WHERE button: RepNbr, =, Control, GridView1, A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Advanced button: Generate INSERT,UPDATE,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FormView control o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second SqlDataSource as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&lt;h2&gt;, save and test in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7169760" y="6581880"/>
            <a:ext cx="19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o to next slide to fin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, delete: part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View doesn’t update when you change data. To make it do 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Design view, click on Form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Events button (lightning bolt) in Properties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click ItemInserted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following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View1.DataBi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double-click ItemDele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uble-click ItemUpda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 your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Edit data between two tab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3 SqlDataSources, 2 GridViews and Form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 and edit orders for a cust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use this to display and edit line items in an order in homework 7/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s to create CustomerOrders p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1: select * from custo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Gridview1 on data source 1: enable se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2: select * from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customer is selected value from Gridview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Gridview2 on data source 2: enable se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3: select * from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order is selected value from Gridview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d: Enable insert, delete, up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FormView1 on data sourc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GridView2.DataBind() to events as in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&lt;h2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447920" y="1065240"/>
            <a:ext cx="62910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Passing a WHERE parameter across p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get parameters for WHERE clause f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(e.g., GridVie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String (e.g., localhost/Order?ID=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ssion variables, profil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rci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SalesReps2.aspx with two hyper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1: SalesReps3.aspx?office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2: SalesReps3.aspx?office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SalesReps3.aspx. On 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qlDataSource1 WHERE RepOffice= QueryString 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GridView on SQLDataSource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n SalesReps2 in browser and click on 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use this to display your catalog in homework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06T02:50:22Z</cp:lastPrinted>
  <dcterms:modified xsi:type="dcterms:W3CDTF">2013-10-23T23:49:51Z</dcterms:modified>
  <cp:revision>217</cp:revision>
  <dc:subject/>
  <dc:title>1.264 Lecture 5</dc:title>
</cp:coreProperties>
</file>