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97F1-0E82-4A78-BA65-54B9A95AB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8FE0-3EDC-4997-B53F-9763122697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184B-3C37-46DC-A5EF-0B67A2CED3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CED0-858B-4257-9C6F-4E73CB7ABB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8D5E-275B-4145-B59A-73BC370684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9A18-8D60-40B9-AE55-6AC4591079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18CE-234F-4982-9933-896668E898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CAEF-F1D7-4635-8D36-D74111803E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FBE8-CAB6-43D6-ADE3-B0405EC4E6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415D-4885-4E61-903E-C12C43C1B3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E412-54FD-442F-873B-986F7ED928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5D2-7DE2-44A0-A84A-E2F866A4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FA5-2A90-4FDC-9E7A-0A1B9507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A3F-95B7-4B98-B5E9-6B0CB767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A71-F1B6-46A0-93AC-B9DD25CB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5EE-B81C-423C-AFF9-45562E1C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3A4-CB8B-4B31-88F3-062C83EA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0D6-202E-432B-B556-D9093448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06F-D993-47A0-9E1C-FDA1BBC9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31E-B8C3-492C-87B6-1C7A8F36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4A7-7EF9-4BA6-9F14-2DBEEB31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544-3E81-4791-A230-56309029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703-A548-4AB8-8D44-C17C63F0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5813-5C08-4297-86F3-F8C57C74FB8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5800" y="5719680"/>
            <a:ext cx="51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 class: Anderson chapter 4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er places bar code or RFID tag on each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bar code or RFID tag to verify authenticity with manufacturer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think like a crimi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bar code or RFID tag on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to verif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bar code or RFID tag and place on counterfeit item, sell it before the real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up fake Web site and 800 number that will verify anything.  Alter instructions to stores or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store can be compromised, even more attacks are possible.  Store can fail to check, falsify record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pply chain and transportation increasingly involved in anti-counterfeiting and other securit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are versions of replay, man in the middl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he process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ing information (referred to a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in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a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gorith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often called a cipher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it unreadable to anyon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t those possessing special knowledge, usually referred to 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e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sult of the process is encrypted information,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phertex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verse process, i.e. to make the encrypted information readable again, is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(i.e. to make it unencrypte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cesses are called protocols. They addres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 and authentication of 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s and authorization of ro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for resources used by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ing 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 and invalid actions taken by principals, including attackers, e.g.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in the middle attac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y attacks, and other issues with freshness/stal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mpering with network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sonation, extortion, physical theft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r organization has significant assets, you must protect against sophisticated/tailored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 nota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-&gt; G : T, {T, N}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ken T used to enter garage G  (T and G a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incipa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 (e.g. like EZ Pass) transmits its serial number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transmits its serial number T and a number used only once (nonce) N, encrypted with its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ce assures that message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s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not a rep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ce can be sequential, random, or third party challe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ume nonce is sequential in this protoc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nown by both T and 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serve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s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s up the corresponding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its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phers {T, N}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the message includes T, 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N has not been seen before or has expected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(obtain)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like a criminal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Have a rogue reader before garage entrance that reads all EZ Pass units seen.  Copy the tag’s message to the reader onto another unit. Use that one to enter garag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Break the reader, cut its power, etc. Gate will be left 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Since each message has non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Z can go into garage with rogue reader and interrogate an EZ Pass unit repeatedly. Z knows part of the message is the sequential number and part is the fixed key. Z can infer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enough (N, 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pai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 (Easiest one!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can break into car and steal EZ Pass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challenge and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hicle anti-theft system as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hicle key inserted into steering lo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has serial number, which is its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sends random number challenge to car key using short range rad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computes response by encrypting the random number challenge and also sends car key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decrypts, reads response and verifies it matches the challenge, and car key serial nbr corr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cise: write out the protocol using the notation conventions from the last slid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_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 key) -&gt;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 C (car key): 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-&gt; E : {C, N}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e car key must send its identif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must verify that C is valid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can often be predicted somewhat because the engine controller is simple (e.g., black hat intercepts N and knows next N is based on 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cing black hat to find C makes break-in significantly har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and engine management unit must be matched at time of manufacture; engine management unit must know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protocol is between a key and the engine. Since the user has the key, the key and engine are only in proximity when the user is too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key must be in the ignition for the protocol to start. This also makes the protocol better: contact rather than contactles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factors make man in the middle attacks harder, but not impossi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very common approach but has been broken repeated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numbers often not very random and can be grabbed or guessed by thie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also vulnerable to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lt;-&gt; B &lt;-&gt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can masquerade as C, passing A’s requests to C and sending C’s responses to A.  After (fraudulent) authentication, B gains ac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examp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ack hat has reader, masquerades as garage reader, interrogates card, gets its serial number T, (N,T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lays it to real reader, gets response back, enters gar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 attack: jam radio frequency so car owner can’t lock car when lea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14T15:16:28Z</cp:lastPrinted>
  <dcterms:modified xsi:type="dcterms:W3CDTF">2013-11-07T23:22:11Z</dcterms:modified>
  <cp:revision>191</cp:revision>
  <dc:subject/>
  <dc:title>1.264 Lecture 5</dc:title>
</cp:coreProperties>
</file>