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764A848-7D8F-4D1E-AD1B-50820744C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05A7765-2B4D-404A-B472-AC1C369FCB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7423F13-0BFF-4779-981F-1253D3353E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2D0CA53-9EEA-41C2-B707-484C2466ED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C1DDC7B-49CF-4C10-9E84-09F4E8B558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65DEEC4-640C-40D0-9F32-A38C71D1CB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72AB671-2048-429F-BB76-0741890809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896B0B2-4F53-46B1-91E7-F456231130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6A1B438-F204-498F-B92B-6A53AC3F01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B383F56-F520-494A-803A-D4F4602099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B3C2430-DC75-4D7F-B245-7CA91EA5C4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6F61207-E299-4C41-9B06-829A201F47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A786ECE-10CC-48FF-9DE3-0C1163A2DE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C60613F-022F-4982-B0CE-B0E107C8FC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54028B5-26D0-4DE7-BA65-EF83FCB3EB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3732-3C55-459F-9940-0197368A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BB4A-9395-4850-83DA-7A6F8286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E4B3-C013-4960-99A9-CD43BFD4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A03E-3AC2-43BF-B6D5-D10110B2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CCA1-1D67-47ED-B547-854A1E95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59F-AFE6-48CD-9F20-E0F9423B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0C5C-FA03-4310-8647-0A64D009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1BEA-2BE6-4B91-B310-8D25C4FD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E27B-DB8A-4434-A480-3EA69B1F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BB73-5BC6-4F7F-BC70-5D09B936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F7D-E3CA-470C-B44E-155C6EB2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20B0-F19A-413D-B94C-42F6C4D1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147D-63AB-44E2-BD5D-EAB6D48371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Wired LAN, 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36000" y="5719680"/>
            <a:ext cx="51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8, 32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cal area network (LA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speed, privately owned, short rang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EEE 802.3 or Ethernet is nearly univer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s of 10Mbps to 1Gbps (1000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range: building or campus (1-5 km typical leng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permission for right of way on stre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s can extend Ethernet over metro area using Carrier Ethernet, a metro-area network (M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technology is not Ethernet per se, but it looks like and is managed like Ethernet from the customer’s point of 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MANs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peater, bridge/hub, router, gateway at customer si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855720" y="1044720"/>
            <a:ext cx="722160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thernet (initial wired, current wireless versio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36440" y="762120"/>
            <a:ext cx="8931240" cy="5330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1017360" y="6172200"/>
            <a:ext cx="71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ocol is carrier sense multiple access/collision detection (CSMA/CD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liest wired Ethernet used this protocol also, now supersed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4582440" y="4495680"/>
            <a:ext cx="451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frame= 512 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ender sends 512 bits and has heard 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ming signal, it can continue w/o interrup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st case is farthest station collides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 signal, which must reach sender before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s more than 512 bi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- Maximum traditional LAN lengt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LAN length: L= ct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 of signal: 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x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/sec, 2/3 speed of 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 speed: 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.g.,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s/sec, or 100Mb/s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ot time t: 512/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in Ethernet frame size=512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00 M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 G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’ll see the 1 Gb/sec LAN isn’t feasible with traditional LAN. 1 Gb/sec LAN u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ll duplex (two wires per station, one to send, one to receiv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witches only, no repeaters or bridges, and no collis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ber optics (often), with 500 to 5000 meter seg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tance limited by signal fading, etc. (more on this lat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LAN length: L= ct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 of signal: 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x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/sec, 2/3 speed of 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 speed: 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.g.,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s/sec, or 100Mb/s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ot time t: 512/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in Ethernet frame size=512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00 M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= (2x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* 512/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/2 = 512 meters= 0.5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 G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60960" indent="-3052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= (2x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* 512/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/2 = 51.2 meters= 0.05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 though collisions are avoided in full duplex, switched LANs, signal attenuation and other losses are limi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s typically are 5 km or 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N: Telecom carrier network facilit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de area networks (W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d over same physical facilities as voice (next lect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loop, local switch, tandem switch, tru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d on permanent circuits of much higher bandwidth than for a single voice call;  no swi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tocols based on ISO 7-layer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ly HTTP (Web services), tcp, and 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ulated by routers and data swit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sessions are highly variable compared to voice,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brow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k ATM mach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base back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 interconn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addresses are Ethernet addresses or IP ad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phone nu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data network speeds 56 kbps to 40 Gbps per circ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voice network secure without en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925760" y="632448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de area networks (WAN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fferences from metro-area (MAN) or local-area (LAN) n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Glob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ually provided by multiple carriers (one is le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acy WANs are present but usually not good choices for new data comm need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(point to point) circuits: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alup circuits: low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ame relay: still viable, being superseded by IP (cost, rea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drop 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d for bank ATMs, point-of-sale (POS) terminals, lottery termin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w that banks, stores have general Internet access, encrypted ATM and POS traffic often goes over the general ac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ket networks (X.25): expensive, limited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AT (satellite): widely dispersed, low bandwidth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-based networks becoming domin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ically over a business-only, carrier-provided infrastructure separate from the open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rrier/public network: major compon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56560" cy="5383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7601040" y="222876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ar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7581960" y="416412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ar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925760" y="65833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980440" y="419112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r or IP-PB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821400" y="1676520"/>
            <a:ext cx="22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per, becoming fiber or wirel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service are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6" name="Picture 4" descr="Lec20a"/>
          <p:cNvPicPr/>
          <p:nvPr/>
        </p:nvPicPr>
        <p:blipFill>
          <a:blip r:embed="rId1"/>
          <a:stretch/>
        </p:blipFill>
        <p:spPr>
          <a:xfrm>
            <a:off x="1130400" y="1076400"/>
            <a:ext cx="69469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NET uses time division multiplexing (TD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locks in the network sync to a master cl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er/demultiplexers start/end a SONET circ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/drop multiplexers insert/extract subset of sign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C-1 signal is 51.84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voice call is 64 kbits/sec, or 0.064 Mbit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capacity= 51.84/0.064, or 810 voice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 it has about 15% overhead (framing, con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ctually carries 672 voice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7 to 28 video channels (1.5 Mbps to 6 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C-192 signal is 192 times higher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SONET rate (though fiber can go high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’s on a telephone po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types of network; name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is highest on the pole? 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are point to point connec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are shared (point to many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can carry da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can carry voi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have competitive (open) acc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type(s) of wiring does each u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ber optic (SONET) ring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220760" y="701640"/>
            <a:ext cx="6170760" cy="6080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849800" y="64771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SO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are a large airline with a single server site that handles all your reserv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erage transaction is 10,000 bytes (80,000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handle 2,000 transactio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re can you locate your servers on the network in the previous sl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central office A, in a telco colocation si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 SONET hub on one of the OC-12 ring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 multiplexer on one of the OC-3 ring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 the server bandwidth and compare to the network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C-3 is 3 * OC-1; OC-12 is 12 * OC-1; OC-48 is 48 * OC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80,000 * 2,000= 160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1 is 51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3 is 155 Mbits/sec. Not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12 is 622 Mbits/sec.  Clearly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to be at central office A or at a SONET hub on one of the OC-12 r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on’t need the full OC-12 or OC-48 capacity. Carriers will sell you an appropriate 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eater: layer 1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dge: layer 2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: layer 3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teway: layer 7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SAT: Very Small Aperture Terminal (satelli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.25: Packet service, pre-Internet (replaced by 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BX: Private branch exchange, to switch voice calls in an office (now mostly IP-PB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A: Local access and transport area, defines service areas for regulatory, pric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’s on a telephone po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 T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is highest on pole? Wh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, high voltage/curr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of these are point-to-point connection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 on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shared (point-to-many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, c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an carry dat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, cable, 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an carry vo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, cable, 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have competitive acces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: unbundled to CLE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: not compet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: distribution monopoly, generation compet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type(s) of wiring does each u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: copper, fi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: coax, fi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: copp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systems manage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project/system must estimate the amount of data to be exchanged with partners/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ehouse RFID example from last l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appropriate techn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d: higher bandwidth/reliability (~gigabits/sec/circui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less: mobile, flexible, low bandwidth (~megabits/sec/ce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between build, lease, o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ends on right of way,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will interconnect different network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 area (LAN), metro area (MAN), wide area (W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networks will be standards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carriers, bandwidths, service levels, costs, etc., similar to physical trans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are likely to need a lot of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bandwidt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 is a key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data carried over analog (continuous) circuits at the physical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ne were designed for data: telecom circuits for voice, broadcast and CATV for radio and T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have been repurposed to carry data while retaining their historic physical structure ($$$ existing capi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og bandwidth measured in Hz: cycle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less communications can carry 2 bits/Hz in 5 GHz b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d communications have vastly more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 for digital bandwidth based on signal/noise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factors determine the building blocks you’ll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channels have more bandwidth than 1 user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users are multiplexed (shared) on comm chann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network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travels over different network se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 at your site: cheap, high bandwidth (1 Gbps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from your site to local switch/cable headen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pper: ~5 Mbps,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V: ~20 Mbps, 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ber: essentially unlimited,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 or CATV network: fiber, high bandwidth, che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chronous optical network (SONET) r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y high availability (99.999%),  recover from many fa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circuits are permanent, unlike voice c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packet flow over the permanent network is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IP networks handle most voice, data and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ge routers exist at carrier switch facilities for IP traf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networks are generally not encrypted; rely on physical 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ata communication protoco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67480" cy="5220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7849800" y="65070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TCP/I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4" descr="Lec20d"/>
          <p:cNvPicPr/>
          <p:nvPr/>
        </p:nvPicPr>
        <p:blipFill>
          <a:blip r:embed="rId1"/>
          <a:stretch/>
        </p:blipFill>
        <p:spPr>
          <a:xfrm>
            <a:off x="2057400" y="1066680"/>
            <a:ext cx="5064120" cy="5615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849800" y="65070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Ns and WA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8" name="Picture 4" descr="Lec20b"/>
          <p:cNvPicPr/>
          <p:nvPr/>
        </p:nvPicPr>
        <p:blipFill>
          <a:blip r:embed="rId1"/>
          <a:stretch/>
        </p:blipFill>
        <p:spPr>
          <a:xfrm>
            <a:off x="838080" y="2209680"/>
            <a:ext cx="7772400" cy="319896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2453760" y="5943600"/>
            <a:ext cx="42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/or MAN if within a metro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" name="Straight Arrow Connector 3"/>
          <p:cNvCxnSpPr/>
          <p:nvPr/>
        </p:nvCxnSpPr>
        <p:spPr>
          <a:xfrm flipH="1" flipV="1">
            <a:off x="4494960" y="4952520"/>
            <a:ext cx="113400" cy="99144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21T00:54:03Z</cp:lastPrinted>
  <dcterms:modified xsi:type="dcterms:W3CDTF">2013-11-27T15:06:41Z</dcterms:modified>
  <cp:revision>248</cp:revision>
  <dc:subject/>
  <dc:title>1.264 Lecture 5</dc:title>
</cp:coreProperties>
</file>