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F5DE-1316-4097-82A6-CAAE0B2D0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06BB-D5E4-4E4C-85F1-EB88DE55B24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6414-DB39-42F7-92C1-741928D7EF1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A2E3-0890-40B8-9EA0-5BC31090A6A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32B2-E2F9-43B1-A0ED-A0113DB9835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08D0-940E-47CF-8E43-B1E02D525D8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183B-93C1-4C90-9BCE-A1602CF310F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27DD-93C9-464D-9BC7-F32BDDB6963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4B51-FC5C-46BF-A932-C7CBB49DBDA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9A81-12D4-4B7A-8104-56F8D2DB920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8939-BD75-4763-98E8-04518FBCB95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E67-D5F4-4DDC-B6F3-0F9F251F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8A5-B902-4867-A702-6F4A26D4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F3A-C376-4D42-87A9-824E45B7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D84-6BD1-42F8-9B80-7AD133C5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377-467D-4A32-9FAA-77FF48C7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E27-74AA-4CEB-A8B9-48C99128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1CC-991B-44CC-B800-29D8A164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B7F-5F3F-4668-80C4-5401A1F7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AA2-4B25-4BC0-9805-73346DA0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F6E-D419-40E2-BD48-46EF2A17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705-0666-45E1-9AF8-C20323D9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C6A-F999-41D9-A102-9A79E163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AC5B-C2A4-4FC6-8EDF-DE6973386B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7240" y="5719680"/>
            <a:ext cx="50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-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B development tools (UML, Visual Studio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the following abbrev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aaS: infrastructu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aS: platform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aS: softwa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atabase development tools (UML…) softw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, or perhaps I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 these two Web sites to get prices: (What kind of clou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ws.amazon.com/ec2/  Estimat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-dema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serv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 to “EC2 Pricing”, “AWS Simple Monthly Calculator”, US 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/Web SQL Svr, 50% utilization, m3.xlarge (15 GB memory, 13 CPU units)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n demand and then reserv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age: 1000GB standard, 100 iops, 100GB-mo snapsh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: 1,000GB/month inter-region in and 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d: Medium util, 1 yr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windowsazure.com. Pricing, “Calculator”, “Shared” tab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y as you go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2 month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site, 150GB database (less than Amazon), 1000GB data trans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ance at developers.google.com/appengin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 to “Quotas and pricing”-&gt;”Pric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ogle costs require more work to estimate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about comparing to running your own data cent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dware, software, space, security, staff to manage, 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azon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demand: $488/month (was $831/month last year, for l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ed: $1100 + $286/month (was $1837 + $590/mont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: $355 PAYG, $275 12 mos (was $943/month last ye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og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the sam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 growing exponenti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, flexibility, higher quality 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jor vendors offer cloud storage, computing, office applications, enterprise applications (CRM, SCM, ERP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 as a service (SaaS) is cloud compu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 are infrastructure and platform as a service (IaaS, Pa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computing is heavily based on Service Oriented Architectures (SO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Web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HTTP and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exchange data between databases using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and public clouds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prise servers and applications will contin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architecture provides a cost estimate for the software and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required early in a project. Use first spiral to develo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timate staff and software costs from lecture 3,4 approa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examp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trip plan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real tim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fare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vehicle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transit dispatch and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a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ll examples, architecture generates budg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: from function points, person mon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: from TPC and cloud computing estim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: from bandwidth and technology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formance metric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ics (database server as an exam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roughput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/O operations/second, data transfer rate/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yste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throughput is low, more servers used than really nee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seek time (seconds), response time (secon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us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latency is high, users have slow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ilization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centage of data transfer rate, disk capacity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futur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avg utilization &gt; 60%, your systems will crawl on busy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verage server utilization  ~15-20% in traditional data cen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data transfer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Mbit/sec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2.5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0.0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m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6,000 bits/sec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0.007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omparable units when assess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 bits (b)=  1 byte (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B may be 1,000,000 B or 1,024,000 B.  GB, TB discrepancies high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Database server cost, perform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 on to www.tpc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C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n “system” for top performing choice and open executive summary as pdf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ick the 2</a:t>
            </a:r>
            <a:r>
              <a:rPr b="1" lang="en-US" sz="2000" spc="-1" strike="noStrike" baseline="30000">
                <a:solidFill>
                  <a:srgbClr val="ff99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one: IB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configuration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Note the 50% disc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hardware cost? How many us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How many are there? Total stora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What does the software cost? (This one is unusual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 How much memo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nore the client hardware, which is just for the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H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100GB results, same items as TPC-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ts are queries per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with TPC-C performance, which is transactions per minute. Why the differe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C: IBM x36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 ~$30,000.  Users: ~1,000,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 ~$26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~$25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115, holding 40,0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8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768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 ~0.1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H: Lenovo ThinkServer RD630 (100 GB data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~$13,500.   Users: a few (5-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(not specified, but most of i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8, holding 2,4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16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64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response times: 0.3-12.7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: 420,000 QpH= 7,000 Q/min(H) vs 1,300,000 q/min(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 transaction is about 1,000,000 times the cost of a C trans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s are faster/cheaper n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00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,000 tpmC, $58/tpmC, 6,000 users, 5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13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,600,000 tpmC, $0.47/tpmC, 1,000,000 users, 0.1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3,200,000 total transactions/minute in bench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800,000 total transactions/minute actual 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% utilization max for good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system is less highly tuned than benchmark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 for future 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x of transactions changing: more status/inquiry with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st performance 2013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,000,000 tpmC, $1/tpmC,  24,000,000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 vs traditional op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zon, Microsoft Azure, Google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application/database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databas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your application and place it in the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 by the h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ons fo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/C-E-H systems that you purchase and host in-house or in a host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 servers from Dell, etc. that you configure for latency, throughput, utilization, etc. using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types of clou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 own operating system, database, ap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flexible, mo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Rack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tfor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operating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provides OS, database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mazon, Microsoft, Goog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oftw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no app of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the third party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salesforc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st flexible, lea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ation exampl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ve On-Demand APT (package carrier T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Network (logistic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1-21T16:29:48Z</cp:lastPrinted>
  <dcterms:modified xsi:type="dcterms:W3CDTF">2013-11-23T01:07:07Z</dcterms:modified>
  <cp:revision>254</cp:revision>
  <dc:subject/>
  <dc:title>1.264 Lecture 5</dc:title>
</cp:coreProperties>
</file>