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B39D-3490-4914-A4D7-722ADC4D5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79F4-5EB0-42A4-8BB1-80F9A243AB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5685-77E3-4E77-A093-54D5B76293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A767-C5FF-425A-8025-E9C8E01452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8248-33C2-4938-8D27-EAA3AE2971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6F14-44C4-4CC3-A079-BA2376D20C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7506-54B5-4F13-A76F-0E699AE630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7C22-51B1-41EC-B534-B0AB5C33CA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105B-D37C-46F0-96FD-9A5A8A62E3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ACEC-C27F-49F8-86E4-82161F0FF5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9263-AC3B-4EE5-8C8D-AC7B462E65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36B-80A7-4FAF-B99B-FF0E007C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A1C-99DE-49C5-92F3-35A53E13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7DA3-6456-449F-ACCD-70A0B5EF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FFCF-F2DB-45B8-BB62-73BDDC5E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0C72-7C5A-4A7D-B9FB-0D35F0EC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3A71-5A33-424F-994F-6D3DB81B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E5B5-1D30-4FD2-90F2-3FC92897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7482-F0E3-458E-B8A8-9286EFF8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514F-AE80-4F79-A3A0-4E66C204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6BD8-C2E4-4B71-BB21-E28568CC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4812-00DE-4C7C-8EFB-C75B95AC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0CC9-DEE1-4649-B015-3688160B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C66D-B4F5-41BB-B25F-1836860F91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mmetric ke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215800" y="5719680"/>
            <a:ext cx="538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s 20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Reading doesn’t cover same topics as lectur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ignatures/certificates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 signatures are implemented using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ertific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are the MIT certificates we all have on our compu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s with digital sign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oofer can cut and paste encrypted signature from old message to new faked mess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 solution is for receiver to send ‘challenge phrase’ to s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er then encrypts with sender private key and sends to receiver, who can check if it’s what she sent initi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oofer can alter parts of the 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ution is message digest functions to provide integrity che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ssage digest is function run on entire message that produces short digest, often 128 bits (note that 2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128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 a very big number of combinations!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 digest and message.  Receiver runs digest algorithm on message and checks if same 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SA: Rivest-Shamir-Adleman: asymmtric encryption algori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ES: American Encryption Standard: symmetric encryption algorith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Dx, sha-x: hash or message digest functions to ensure message integ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SL: Secure Sockets Layer, protocol for entire trans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LS: Transport Layer Security, successor to SS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ymmetric or “public key” encryp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 pairs: public key for encryption, private key for de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SA: 1024-2048 bit, in common use for Web and em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ent expired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 with public key algorith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ed: RSA is 1000 times slower than symmetric algorith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blem avoided by using RSA to exchange a symmetric session key and then using symmetric encryption method for the rest of the sessio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 a different symmetric key each session to limit damage if key is brok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335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7339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pher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69343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1676520" y="22096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4876920" y="22096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1821960" y="1627200"/>
            <a:ext cx="1690200" cy="1165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’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4"/>
          <p:cNvSpPr/>
          <p:nvPr/>
        </p:nvSpPr>
        <p:spPr>
          <a:xfrm>
            <a:off x="5022360" y="1627200"/>
            <a:ext cx="1690200" cy="1165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’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ublic key (RSA) concep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blic key P is pair of integers (N, 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ret or private key S is pair of integers (N, 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large random prime numbers (Fermat’s Little Th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gest is s.  Call the other two x and 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= x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= smallest integer such that (ps) mod (x-1)(y-1)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message into a series of chunks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 message chunk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ciphertext chunk 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 = 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rypt ciphertext chunk 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plaintext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 is hard to compute from N and 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ires knowledge of x and y, which requires factoring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toring is exponential time algorithm, so if the number to be factored is big enough, it takes a very long time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(again, very simplifie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GETURL as A=01, B=02…E=05,G=07,L=12,R=18,T=20,U=21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random primes: 47, 79, 97 (way too small in real life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s= __, x= __, y= __. Verify that p= 37 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s) mod (x-1)(y-1)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N= xy: 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the message into three 4-digit chunk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ciphertext: raise each chunk to the p power % N: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% =mo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70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564, 202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645, 181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rieve plaintext: raise each chunk to s power % 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564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705, 164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2021, 3378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GETURL as A=01, B=02…E=05,G=07,L=12,R=18,T=20,U=21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2021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random primes: 47, 79, 97 (way too small in real life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s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9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x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y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79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Verify that p= 37 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s) mod (x-1)(y-1)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N= xy: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37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the message into three 4-digit chunk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2012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ciphertext: raise each chunk to the p power % N: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% =mo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564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64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70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564, 202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645, 181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rieve plaintext: raise each chunk to s power % 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2021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564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705, 164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2021, 3378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secure are AES and RSA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stions to ask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algorithm correct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s, though if we learn to factor large numbers, RSA is d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algorithm coded correctly, including chaining, digests, padding of short blocks, etc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a vulnerability: 2010 ASP.NET br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key management correct and secure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a vulnerability; keys protected by weak passwords, revocation lists not checked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a message be cracked by brute for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if key is too short: 128-256 bits for symmetric is ok, 1024-2048 for RSA is o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keys for high value assets (defense, nuclear, etc.) merit the effort to crack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ph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a message is longer than the key (the usual c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exclusive-or (add bits without carrying) each block of plaintext with the previous block of ciphertext before encrypting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disguises any patterns in plain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eated plaintext is coded differently each time it appe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90512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34340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62940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236232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1676520" y="4819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001160" y="452448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213480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236232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213516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2362320" y="62485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 flipV="1">
            <a:off x="3581280" y="48006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15"/>
          <p:cNvSpPr/>
          <p:nvPr/>
        </p:nvSpPr>
        <p:spPr>
          <a:xfrm>
            <a:off x="358128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>
            <a:off x="474984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452232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18"/>
          <p:cNvSpPr/>
          <p:nvPr/>
        </p:nvSpPr>
        <p:spPr>
          <a:xfrm>
            <a:off x="708660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685908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20"/>
          <p:cNvSpPr/>
          <p:nvPr/>
        </p:nvSpPr>
        <p:spPr>
          <a:xfrm>
            <a:off x="473400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450684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22"/>
          <p:cNvSpPr/>
          <p:nvPr/>
        </p:nvSpPr>
        <p:spPr>
          <a:xfrm>
            <a:off x="4734000" y="62485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23"/>
          <p:cNvSpPr/>
          <p:nvPr/>
        </p:nvSpPr>
        <p:spPr>
          <a:xfrm flipV="1">
            <a:off x="5952960" y="48006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24"/>
          <p:cNvSpPr/>
          <p:nvPr/>
        </p:nvSpPr>
        <p:spPr>
          <a:xfrm>
            <a:off x="595296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25"/>
          <p:cNvSpPr/>
          <p:nvPr/>
        </p:nvSpPr>
        <p:spPr>
          <a:xfrm>
            <a:off x="710100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687384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27"/>
          <p:cNvSpPr/>
          <p:nvPr/>
        </p:nvSpPr>
        <p:spPr>
          <a:xfrm>
            <a:off x="7086600" y="62485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Group 35"/>
          <p:cNvGrpSpPr/>
          <p:nvPr/>
        </p:nvGrpSpPr>
        <p:grpSpPr>
          <a:xfrm>
            <a:off x="2314440" y="4775040"/>
            <a:ext cx="92160" cy="91800"/>
            <a:chOff x="2314440" y="4775040"/>
            <a:chExt cx="92160" cy="91800"/>
          </a:xfrm>
        </p:grpSpPr>
        <p:grpSp>
          <p:nvGrpSpPr>
            <p:cNvPr id="95" name="Group 34"/>
            <p:cNvGrpSpPr/>
            <p:nvPr/>
          </p:nvGrpSpPr>
          <p:grpSpPr>
            <a:xfrm>
              <a:off x="2314440" y="4775040"/>
              <a:ext cx="92160" cy="91800"/>
              <a:chOff x="2314440" y="4775040"/>
              <a:chExt cx="92160" cy="91800"/>
            </a:xfrm>
          </p:grpSpPr>
          <p:sp>
            <p:nvSpPr>
              <p:cNvPr id="96" name="Oval 28"/>
              <p:cNvSpPr/>
              <p:nvPr/>
            </p:nvSpPr>
            <p:spPr>
              <a:xfrm>
                <a:off x="2314440" y="4775040"/>
                <a:ext cx="9216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Line 29"/>
              <p:cNvSpPr/>
              <p:nvPr/>
            </p:nvSpPr>
            <p:spPr>
              <a:xfrm>
                <a:off x="2314440" y="482256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" name="Line 30"/>
            <p:cNvSpPr/>
            <p:nvPr/>
          </p:nvSpPr>
          <p:spPr>
            <a:xfrm>
              <a:off x="2358720" y="477504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36"/>
          <p:cNvGrpSpPr/>
          <p:nvPr/>
        </p:nvGrpSpPr>
        <p:grpSpPr>
          <a:xfrm>
            <a:off x="4699080" y="4753080"/>
            <a:ext cx="92160" cy="91800"/>
            <a:chOff x="4699080" y="4753080"/>
            <a:chExt cx="92160" cy="91800"/>
          </a:xfrm>
        </p:grpSpPr>
        <p:grpSp>
          <p:nvGrpSpPr>
            <p:cNvPr id="100" name="Group 37"/>
            <p:cNvGrpSpPr/>
            <p:nvPr/>
          </p:nvGrpSpPr>
          <p:grpSpPr>
            <a:xfrm>
              <a:off x="4699080" y="4753080"/>
              <a:ext cx="92160" cy="91800"/>
              <a:chOff x="4699080" y="4753080"/>
              <a:chExt cx="92160" cy="91800"/>
            </a:xfrm>
          </p:grpSpPr>
          <p:sp>
            <p:nvSpPr>
              <p:cNvPr id="101" name="Oval 38"/>
              <p:cNvSpPr/>
              <p:nvPr/>
            </p:nvSpPr>
            <p:spPr>
              <a:xfrm>
                <a:off x="4699080" y="4753080"/>
                <a:ext cx="9216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Line 39"/>
              <p:cNvSpPr/>
              <p:nvPr/>
            </p:nvSpPr>
            <p:spPr>
              <a:xfrm>
                <a:off x="4699080" y="480060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" name="Line 40"/>
            <p:cNvSpPr/>
            <p:nvPr/>
          </p:nvSpPr>
          <p:spPr>
            <a:xfrm>
              <a:off x="4743360" y="475308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Group 41"/>
          <p:cNvGrpSpPr/>
          <p:nvPr/>
        </p:nvGrpSpPr>
        <p:grpSpPr>
          <a:xfrm>
            <a:off x="7039080" y="4753080"/>
            <a:ext cx="91800" cy="91800"/>
            <a:chOff x="7039080" y="4753080"/>
            <a:chExt cx="91800" cy="91800"/>
          </a:xfrm>
        </p:grpSpPr>
        <p:grpSp>
          <p:nvGrpSpPr>
            <p:cNvPr id="105" name="Group 42"/>
            <p:cNvGrpSpPr/>
            <p:nvPr/>
          </p:nvGrpSpPr>
          <p:grpSpPr>
            <a:xfrm>
              <a:off x="7039080" y="4753080"/>
              <a:ext cx="91800" cy="91800"/>
              <a:chOff x="7039080" y="4753080"/>
              <a:chExt cx="91800" cy="91800"/>
            </a:xfrm>
          </p:grpSpPr>
          <p:sp>
            <p:nvSpPr>
              <p:cNvPr id="106" name="Oval 43"/>
              <p:cNvSpPr/>
              <p:nvPr/>
            </p:nvSpPr>
            <p:spPr>
              <a:xfrm>
                <a:off x="7039080" y="4753080"/>
                <a:ext cx="9180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44"/>
              <p:cNvSpPr/>
              <p:nvPr/>
            </p:nvSpPr>
            <p:spPr>
              <a:xfrm>
                <a:off x="7039080" y="4800600"/>
                <a:ext cx="75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" name="Line 45"/>
            <p:cNvSpPr/>
            <p:nvPr/>
          </p:nvSpPr>
          <p:spPr>
            <a:xfrm>
              <a:off x="7083000" y="475308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ssage diges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ic hashes are a one-way function that creates a short number (128 to 160 bits, often) that is very unlikely to be generated by any other me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hashes are the last (chained) block cipher of a message, so it depends on the entire 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’s used to verify that the message has not been alt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on message diges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D4: 3 rounds, 128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D5: 4 rounds, 128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1: 5 rounds, 160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256: 64 rounds, 256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512: 80 rounds, 512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ignatures/certifica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51424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public/private key in opposite fashion from message encryption to provide sender authent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er signs document with her private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r decrypts with sender’s public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he decryption is correct, message must have been sent by s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ryp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 encrypts message with receiver public key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 decrypts with receiver’s private 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allows any sender to send secure messages to any rece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ure Sockets Layer(SSL) distributes public keys– covered n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gital signa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 signs message with own private key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 decrypts with sender’s public 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allows any receiver to verify the sender of any mess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685800" y="1142640"/>
            <a:ext cx="7162920" cy="1219320"/>
            <a:chOff x="685800" y="1142640"/>
            <a:chExt cx="7162920" cy="1219320"/>
          </a:xfrm>
        </p:grpSpPr>
        <p:sp>
          <p:nvSpPr>
            <p:cNvPr id="114" name="Rectangle 5"/>
            <p:cNvSpPr/>
            <p:nvPr/>
          </p:nvSpPr>
          <p:spPr>
            <a:xfrm>
              <a:off x="68580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373392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gital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670572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1828800" y="1904760"/>
              <a:ext cx="1905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>
              <a:off x="4876920" y="1904760"/>
              <a:ext cx="1828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0"/>
            <p:cNvSpPr/>
            <p:nvPr/>
          </p:nvSpPr>
          <p:spPr>
            <a:xfrm>
              <a:off x="2209680" y="1447560"/>
              <a:ext cx="91440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’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iva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ke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1"/>
            <p:cNvSpPr/>
            <p:nvPr/>
          </p:nvSpPr>
          <p:spPr>
            <a:xfrm>
              <a:off x="5410080" y="1447560"/>
              <a:ext cx="91440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’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ubl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ke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12"/>
            <p:cNvSpPr/>
            <p:nvPr/>
          </p:nvSpPr>
          <p:spPr>
            <a:xfrm>
              <a:off x="855720" y="114264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6688080" y="1142640"/>
              <a:ext cx="109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cipi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2-12-30T00:03:03Z</cp:lastPrinted>
  <dcterms:modified xsi:type="dcterms:W3CDTF">2013-11-17T22:07:09Z</dcterms:modified>
  <cp:revision>161</cp:revision>
  <dc:subject/>
  <dc:title>1.264 Lecture 5</dc:title>
</cp:coreProperties>
</file>