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8056-DE91-4372-95D6-97CC653C4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B89D-22C7-47E6-A08C-4D202B07A8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0E3F-D937-43DB-A249-187311C528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6FFC-BE53-4E3F-BB83-BFDEE2C5F9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D24F-9915-45A3-9212-4ADB74C2CB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98A8-2B01-4910-B066-0A18B51B0B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9649-5C52-4B2B-A1E8-7040705F64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974C-4FCF-4A60-A20D-15EA5053A0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2E24-3C89-4A8C-B8F0-F13BA24369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8485-5FFE-4623-B67A-6EDF6FDF8D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D524-EC4B-4E3E-A290-8B91D48EBA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E6EC-E8FC-4FDA-93F0-4717FFCFD8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7067-1350-45E2-A379-162EBDC5AF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855E-2C9E-4CD9-9B3C-9B12315CA8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A13E-F9B0-417D-8863-75E388C59B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B785-0D6F-4873-82A1-15C70021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AAD-E75A-4D80-AD08-B56CAD6C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DD7-64F8-493B-81E9-0FDB0BCF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1ED-8AF2-41AE-960D-A55BCFDA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DEAE-B54C-4A5B-812B-2A4252C4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33B8-A4E3-4ED5-9753-CC0B1161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2B20-9EA0-4845-8BA6-9AAF1D53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4CD-6BFC-4EE8-961B-72F75448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C04-3DBE-4A8C-81B6-DA12B87D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2923-E3C3-481B-907D-8B2FF85C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DE54-58BE-4DE4-8E74-0661D3D8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CE8A-F688-4C2C-BEBB-1CFD8E5D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D370-087C-4119-8D67-6CF4002C432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cryptograph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720" y="5719680"/>
            <a:ext cx="51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10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yptography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y protects against eavesdropping, tampering (cut and past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does not protect against replay (need freshness for that) or necessarily against man-in-the-midd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hing protects against denial of service attacks except shutting down the attack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aging network risks: Cryptograph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intext: original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phertext: encrypted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yptographic algorithm: function converting plaintext to ciphert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: number used by algorithm to encrypt and/or decry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the same as a database key (primary or foreign!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metric: sender and receiver use same secret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ymmetric: sender and receiver use different, but related keys. Receiver key public, used by all senders to that recei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91440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96252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93432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057400" y="48769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5105520" y="48769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2438280" y="4419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5638680" y="4419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mmetric encryp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algorithms use same key to encrypt and decry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 (Data Encryption Standard): 56 bit k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lits data into pieces, reshuff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acked in 1998 after 30 years of use: faster hardwa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ple DES: encrypt/decrypt/encrypt with 3 DES keys: 168 bit effective key leng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ward compatible with DES in banking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C2, RC4, RC5: 40-2048 bit keys, in common use by encrypting Web servers and brow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ES: Current US government standard, uses Rijndael algorith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 with symmetric 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be exchanged in advance, via secure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-way communication not supported effectively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many users must communicate with server, compromising any one can compromise a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(very simplified from real thing!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: 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1= 3, k2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er algorithm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left. (Wrap around as needed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ract k2 from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phertext: 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r algorith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k2 to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right. (Wrap around as needed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 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eal symmetric algorithms chop, shift, add/subtract in complex patterns to remove statistical patterns in data—see text: S-box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: 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1= 3, k2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er algorithm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lef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ract k2 from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phertext:  28495736 -&gt;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173846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r algorith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k2 to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r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 62517384 -&gt;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eal symmetric algorithms chop, shift, add/subtract in complex patterns to remove statistical patterns in data---see text: S-box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 Box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5" name="Picture 8" descr="SBox"/>
          <p:cNvPicPr/>
          <p:nvPr/>
        </p:nvPicPr>
        <p:blipFill>
          <a:blip r:embed="rId1"/>
          <a:stretch/>
        </p:blipFill>
        <p:spPr>
          <a:xfrm>
            <a:off x="990720" y="1828800"/>
            <a:ext cx="731196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7834320" y="65530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Ander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7394040" y="6172200"/>
            <a:ext cx="182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see AES Wiki en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hotel key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protoco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attacks are possibl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t and pas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effect of encryp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1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hotel key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co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(card) -&gt; D (door) : N1, N2,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N3, N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N1 is the current c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2,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N3 and N4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 previous codes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(if they can fit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 is the number of days the room is reserv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N2 is correct, N1 is written to door unit, door op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N1 is correct and days&lt;T, door op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ied card can be used. No protection in this protoco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ker can change value of T. Works unless another guest is given the roo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is possible. Attacker can intercept card-door interaction, write it to new card, and enter room.  Mag stripe readers emit radi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doesn’t prevent copy or replay; it makes cut and paste ha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xpected problem: unused rooms/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sic key management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and Bob wish to commun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 is a trusted third party (shares keys with Alice and Bob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key is a secret number that both encrypts and decryp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calls Sam, asks for key to talk with B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-&gt; S: A, B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A and B are principals or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ame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 sends Alice pair of certificates (ciphertex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contains copy of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rst is encrypted so only Alice can read it: K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A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is encrypted so only Bob can read it: K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B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 -&gt; A: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A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,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T is tim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retrieves her key, sends Bob the second certif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then sends him a message that he can decry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-&gt; B: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, {M} 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an be replayed; no freshnes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rber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trusted ser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server to which users log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cket-granting server, which gives access to files and programs (authorizatio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more scalable than a single 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asks ticket server for access to B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-&gt; S: A,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ends ticket, encrypted with A’s password (key), granting access to B at time T for lifetime L of tick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 -&gt; A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B,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A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sends timestamp to resource B, which confirms it’s al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-&gt; B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A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B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{A,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b sends timestamp incremented by o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 -&gt; A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+1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rberos, co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avoids replay attacks and compromised keys by using timestam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romised keys are a problem only for their lifetime L, typically measured in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clocks must now be synchroniz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beros is used for Microsoft security and many single login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don’t we use Kerberos for Internet and Web securit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rberos requires a central key server trusted by all par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is broken, all communications are expo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is down, no one can initiate secure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 would such a trusted party be on the Internet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would be expens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use a different protocol, SSL (next lectur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words as a protocol: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implest security protocol is a username and pas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the most vulnerable piece of 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used to protect other security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browser SSL certificate is protected by a pass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beros/Microsoft security key is your pass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iss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nginee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disclose passwords to third pa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96000" indent="-185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y accident, on purpose, or through decep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96000" indent="-185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eption common in health care, insurance, bank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password ent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mistype passwords; password rese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embering pass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write down passwords, choose weak passwo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words: solu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26 letters, 10 digits: 36 possible characters at each location in a pas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should be about 5 bits (2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32 combination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ause of patterns, it’s usually only 1.5-2 bits/ch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8 character password is less than a 16 bit k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 broken (see the book for many attack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phr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 password gener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metrics (which can also be attack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yptographic primitiv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key encry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encrypt ses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(public) key encry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distribute symmetric key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is for digital sign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am or block ciph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apply key to mes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sage digests (hash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verify message integ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ignatures (certificat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verify identity of princip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vered as part of Secure Sockets Layer (SS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8T15:50:20Z</cp:lastPrinted>
  <dcterms:modified xsi:type="dcterms:W3CDTF">2013-11-12T17:45:46Z</dcterms:modified>
  <cp:revision>195</cp:revision>
  <dc:subject/>
  <dc:title>1.264 Lecture 5</dc:title>
</cp:coreProperties>
</file>