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2.pct" ContentType="image/x-pict"/>
  <Override PartName="/ppt/media/image59.pct" ContentType="image/x-pict"/>
  <Override PartName="/ppt/media/image21.pct" ContentType="image/x-pict"/>
  <Override PartName="/ppt/media/image58.pct" ContentType="image/x-pict"/>
  <Override PartName="/ppt/media/image19.pct" ContentType="image/x-pict"/>
  <Override PartName="/ppt/media/image20.pct" ContentType="image/x-pict"/>
  <Override PartName="/ppt/media/image57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5.pct" ContentType="image/x-pict"/>
  <Override PartName="/ppt/media/image2.pct" ContentType="image/x-pict"/>
  <Override PartName="/ppt/media/image32.pct" ContentType="image/x-pict"/>
  <Override PartName="/ppt/media/image26.pct" ContentType="image/x-pict"/>
  <Override PartName="/ppt/media/image3.pct" ContentType="image/x-pict"/>
  <Override PartName="/ppt/media/image33.pct" ContentType="image/x-pict"/>
  <Override PartName="/ppt/media/image27.pct" ContentType="image/x-pict"/>
  <Override PartName="/ppt/media/image4.pct" ContentType="image/x-pict"/>
  <Override PartName="/ppt/media/image34.pct" ContentType="image/x-pict"/>
  <Override PartName="/ppt/media/image28.pct" ContentType="image/x-pict"/>
  <Override PartName="/ppt/media/image5.pct" ContentType="image/x-pict"/>
  <Override PartName="/ppt/media/image35.pct" ContentType="image/x-pict"/>
  <Override PartName="/ppt/media/image10.pct" ContentType="image/x-pict"/>
  <Override PartName="/ppt/media/image47.pct" ContentType="image/x-pict"/>
  <Override PartName="/ppt/media/image29.pct" ContentType="image/x-pict"/>
  <Override PartName="/ppt/media/image45.pct" ContentType="image/x-pict"/>
  <Override PartName="/ppt/media/image46.pct" ContentType="image/x-pict"/>
  <Override PartName="/ppt/media/image50.pct" ContentType="image/x-pict"/>
  <Override PartName="/ppt/media/image13.pct" ContentType="image/x-pict"/>
  <Override PartName="/ppt/media/image11.pct" ContentType="image/x-pict"/>
  <Override PartName="/ppt/media/image48.pct" ContentType="image/x-pict"/>
  <Override PartName="/ppt/media/image51.pct" ContentType="image/x-pict"/>
  <Override PartName="/ppt/media/image52.pct" ContentType="image/x-pict"/>
  <Override PartName="/ppt/media/image41.pct" ContentType="image/x-pict"/>
  <Override PartName="/ppt/media/image53.pct" ContentType="image/x-pict"/>
  <Override PartName="/ppt/media/image42.pct" ContentType="image/x-pict"/>
  <Override PartName="/ppt/media/image54.pct" ContentType="image/x-pict"/>
  <Override PartName="/ppt/media/image43.pct" ContentType="image/x-pict"/>
  <Override PartName="/ppt/media/image55.pct" ContentType="image/x-pict"/>
  <Override PartName="/ppt/media/image44.pct" ContentType="image/x-pict"/>
  <Override PartName="/ppt/media/image56.pct" ContentType="image/x-pict"/>
  <Override PartName="/ppt/media/image40.pct" ContentType="image/x-pict"/>
  <Override PartName="/ppt/media/image31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38.pct" ContentType="image/x-pict"/>
  <Override PartName="/ppt/media/image8.pct" ContentType="image/x-pict"/>
  <Override PartName="/ppt/media/image49.pct" ContentType="image/x-pict"/>
  <Override PartName="/ppt/media/image12.pct" ContentType="image/x-pict"/>
  <Override PartName="/ppt/media/image1.png" ContentType="image/png"/>
  <Override PartName="/ppt/media/image37.pct" ContentType="image/x-pict"/>
  <Override PartName="/ppt/media/image7.pct" ContentType="image/x-pict"/>
  <Override PartName="/ppt/media/image6.pct" ContentType="image/x-pict"/>
  <Override PartName="/ppt/media/image36.pct" ContentType="image/x-pict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1887200" y="9448920"/>
            <a:ext cx="1028880" cy="203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832440" y="9385200"/>
            <a:ext cx="5042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Principles of Computer System Desig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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 Saltzer &amp; Kaashoek 2009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ct"/><Relationship Id="rId2" Type="http://schemas.openxmlformats.org/officeDocument/2006/relationships/image" Target="../media/image37.pct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ct"/><Relationship Id="rId2" Type="http://schemas.openxmlformats.org/officeDocument/2006/relationships/image" Target="../media/image37.pct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ct"/><Relationship Id="rId2" Type="http://schemas.openxmlformats.org/officeDocument/2006/relationships/image" Target="../media/image37.pct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ct"/><Relationship Id="rId2" Type="http://schemas.openxmlformats.org/officeDocument/2006/relationships/image" Target="../media/image37.pct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image" Target="../media/image37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ct"/><Relationship Id="rId2" Type="http://schemas.openxmlformats.org/officeDocument/2006/relationships/image" Target="../media/image37.pct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pct"/><Relationship Id="rId2" Type="http://schemas.openxmlformats.org/officeDocument/2006/relationships/image" Target="../media/image37.pct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ct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ct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pct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ct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ct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ct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pct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image" Target="../media/image57.pct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image" Target="../media/image58.pct"/><Relationship Id="rId3" Type="http://schemas.openxmlformats.org/officeDocument/2006/relationships/image" Target="../media/image59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579600" y="3078000"/>
            <a:ext cx="1183320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657360" y="1585800"/>
            <a:ext cx="116838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635040" y="1130400"/>
            <a:ext cx="11842560" cy="749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635040" y="917640"/>
            <a:ext cx="11671200" cy="790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520560" y="3575160"/>
            <a:ext cx="1184760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660240" y="2722680"/>
            <a:ext cx="11684160" cy="43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660240" y="2540160"/>
            <a:ext cx="11677680" cy="41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520560" y="2911320"/>
            <a:ext cx="1182384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660240" y="1701720"/>
            <a:ext cx="11801520" cy="635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507960" y="1479600"/>
            <a:ext cx="11858760" cy="67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1889280" y="3027240"/>
            <a:ext cx="9181800" cy="369756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 flipV="1">
            <a:off x="570960" y="5676480"/>
            <a:ext cx="11861640" cy="12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570960" y="3301920"/>
            <a:ext cx="11861640" cy="12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836640" y="3706920"/>
            <a:ext cx="11404440" cy="26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682560" y="2800440"/>
            <a:ext cx="11798280" cy="43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704880" y="3828960"/>
            <a:ext cx="11663280" cy="21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660240" y="3433680"/>
            <a:ext cx="11696760" cy="27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763560" y="3916440"/>
            <a:ext cx="11595240" cy="20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633240" y="2178000"/>
            <a:ext cx="11839680" cy="53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673200" y="2448000"/>
            <a:ext cx="11671200" cy="48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774720" y="3102120"/>
            <a:ext cx="11760120" cy="38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646200" y="2940120"/>
            <a:ext cx="1186812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168560" y="2444760"/>
            <a:ext cx="1121868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654120" y="1390680"/>
            <a:ext cx="11825280" cy="69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722160" y="2692440"/>
            <a:ext cx="11612880" cy="43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2560680" y="812880"/>
            <a:ext cx="7451640" cy="76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665280" y="1884240"/>
            <a:ext cx="12433320" cy="59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668160" y="3060720"/>
            <a:ext cx="1245420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789120" y="2190600"/>
            <a:ext cx="117126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647640" y="1593720"/>
            <a:ext cx="1171440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4149720" y="6310440"/>
            <a:ext cx="4208400" cy="146052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2368440" y="760320"/>
            <a:ext cx="826776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4875120" y="5996160"/>
            <a:ext cx="3240360" cy="313668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2368440" y="760320"/>
            <a:ext cx="826776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5232240" y="6345360"/>
            <a:ext cx="2565720" cy="16682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2368440" y="760320"/>
            <a:ext cx="826776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973080" y="6654960"/>
            <a:ext cx="11302920" cy="21333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2368440" y="760320"/>
            <a:ext cx="826776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558880" y="6562800"/>
            <a:ext cx="6553440" cy="24541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2368440" y="760320"/>
            <a:ext cx="826776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939960" y="3108240"/>
            <a:ext cx="11023560" cy="35067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 flipV="1">
            <a:off x="6616080" y="3517560"/>
            <a:ext cx="75960" cy="571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1685880" y="6083280"/>
            <a:ext cx="9618840" cy="279396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2368440" y="760320"/>
            <a:ext cx="826776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282840" y="4976640"/>
            <a:ext cx="6438960" cy="426888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2368440" y="760320"/>
            <a:ext cx="826776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642960" y="1693800"/>
            <a:ext cx="11836440" cy="636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654120" y="2679840"/>
            <a:ext cx="11694960" cy="43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520560" y="2779560"/>
            <a:ext cx="11950920" cy="41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00040" y="2590920"/>
            <a:ext cx="1199052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863640" y="1611360"/>
            <a:ext cx="11544120" cy="61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519120" y="2502000"/>
            <a:ext cx="11825280" cy="47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495360" y="763560"/>
            <a:ext cx="11976120" cy="74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898560" y="1003320"/>
            <a:ext cx="11206080" cy="782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673200" y="2484360"/>
            <a:ext cx="1182060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666720" y="1306440"/>
            <a:ext cx="11798280" cy="705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514440" y="4705200"/>
            <a:ext cx="11979360" cy="9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635040" y="4002120"/>
            <a:ext cx="11747520" cy="17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614520" y="3159000"/>
            <a:ext cx="1187424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47640" y="2292480"/>
            <a:ext cx="1184112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1731960" y="1147680"/>
            <a:ext cx="9283680" cy="405288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4343400" y="5856120"/>
            <a:ext cx="3378240" cy="27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731960" y="1147680"/>
            <a:ext cx="9283680" cy="405288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2803680" y="6311880"/>
            <a:ext cx="2798640" cy="130824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3"/>
          <a:stretch/>
        </p:blipFill>
        <p:spPr>
          <a:xfrm>
            <a:off x="6953400" y="6299280"/>
            <a:ext cx="302256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660240" y="2398680"/>
            <a:ext cx="11669760" cy="49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885960" y="1244520"/>
            <a:ext cx="11302920" cy="731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812880" y="2405160"/>
            <a:ext cx="1166652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036800" y="2482920"/>
            <a:ext cx="11440800" cy="511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