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248A-D9E4-41B6-B5E0-426CCB77B4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AC42-EF73-4745-91F7-17EC8AB1FB4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3B8-3830-45F3-80BB-9466E42D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808-6473-4016-BCF5-E0E0AD5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67C-C0A6-456B-82DF-9CF47E93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5BF-FDA1-4ADE-9102-7155A320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4FB-A38B-44A4-979A-D4FA2BEC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83B-1C4F-4C01-A79C-B10FA6FF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F19-2D51-4046-A67B-28B4C82E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450-9035-42A0-9D1F-E2012006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83A-DDB6-4265-893F-8C3C1A9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A8A-C04B-45DD-8826-D553E94F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B31-89F7-4348-AA7C-E1294CDE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6B9-7780-4AE6-9521-2093067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BF5D-2511-4F35-8E4F-FB0A349E7AE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vember 30, 2010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Multicommodity Flow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DD25-433D-4B18-A5A0-564212FE81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Fractional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linear multicommodity flow problems have fractional flows, even if all data is integ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ger multicommodity flow problem is difficult to solve to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B868-B7E2-4FB5-A582-F2FAA78A021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49" name="Group 45"/>
          <p:cNvGrpSpPr/>
          <p:nvPr/>
        </p:nvGrpSpPr>
        <p:grpSpPr>
          <a:xfrm>
            <a:off x="1828800" y="2209680"/>
            <a:ext cx="4876920" cy="4269960"/>
            <a:chOff x="1828800" y="2209680"/>
            <a:chExt cx="4876920" cy="4269960"/>
          </a:xfrm>
        </p:grpSpPr>
        <p:sp>
          <p:nvSpPr>
            <p:cNvPr id="250" name="Oval 3"/>
            <p:cNvSpPr/>
            <p:nvPr/>
          </p:nvSpPr>
          <p:spPr>
            <a:xfrm>
              <a:off x="2743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5181480" y="220968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38862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Oval 17"/>
            <p:cNvSpPr/>
            <p:nvPr/>
          </p:nvSpPr>
          <p:spPr>
            <a:xfrm>
              <a:off x="312408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312408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20"/>
            <p:cNvSpPr/>
            <p:nvPr/>
          </p:nvSpPr>
          <p:spPr>
            <a:xfrm>
              <a:off x="464832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21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22"/>
            <p:cNvSpPr/>
            <p:nvPr/>
          </p:nvSpPr>
          <p:spPr>
            <a:xfrm>
              <a:off x="46483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3200400" y="2590920"/>
              <a:ext cx="7621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V="1">
              <a:off x="4267080" y="2590560"/>
              <a:ext cx="9907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581280" y="441972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V="1">
              <a:off x="3505320" y="3581280"/>
              <a:ext cx="45720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267080" y="350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2209680" y="3505320"/>
              <a:ext cx="99072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 flipH="1">
              <a:off x="2286000" y="2666880"/>
              <a:ext cx="53352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V="1">
              <a:off x="5105520" y="3657240"/>
              <a:ext cx="99036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5562720" y="25909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335268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487692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3581280" y="594360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19051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586728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373392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4" name="Text Box 42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B453-11D6-4164-BE35-BBCAA8C02A5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5181480" y="220968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8862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1828800" y="32004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12408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312408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64832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5943600" y="327672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1905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586728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7339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33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36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38"/>
          <p:cNvSpPr/>
          <p:nvPr/>
        </p:nvSpPr>
        <p:spPr>
          <a:xfrm flipH="1">
            <a:off x="3581280" y="4572000"/>
            <a:ext cx="106704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39"/>
          <p:cNvSpPr/>
          <p:nvPr/>
        </p:nvSpPr>
        <p:spPr>
          <a:xfrm flipV="1">
            <a:off x="3352680" y="3504960"/>
            <a:ext cx="4572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42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Line 43"/>
          <p:cNvSpPr/>
          <p:nvPr/>
        </p:nvSpPr>
        <p:spPr>
          <a:xfrm>
            <a:off x="4419720" y="3429000"/>
            <a:ext cx="4572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6095880" y="4425840"/>
            <a:ext cx="274320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timal solution: send ½ unit of flow in each of these 15 arcs.  Total cost = $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DB7C-247D-4AD3-94FE-3A696D62821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composition based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106668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ce directed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cus on prices or tolls on the arcs.  Then solve the problem while ignoring the capacities on arc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62120" y="32004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ource directive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llocate flow capacity among commodities and solv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2120" y="51814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x based approaches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y to speed up the simplex method by exploiting the structure of the MCF problem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0A97-8735-418F-A3FC-BD6E7FB76FC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ormulation without OD pair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457200" y="1676520"/>
            <a:ext cx="8077320" cy="685800"/>
            <a:chOff x="457200" y="1676520"/>
            <a:chExt cx="8077320" cy="685800"/>
          </a:xfrm>
        </p:grpSpPr>
        <p:grpSp>
          <p:nvGrpSpPr>
            <p:cNvPr id="330" name="Group 17"/>
            <p:cNvGrpSpPr/>
            <p:nvPr/>
          </p:nvGrpSpPr>
          <p:grpSpPr>
            <a:xfrm>
              <a:off x="457200" y="1739880"/>
              <a:ext cx="3454560" cy="622440"/>
              <a:chOff x="457200" y="1739880"/>
              <a:chExt cx="3454560" cy="622440"/>
            </a:xfrm>
          </p:grpSpPr>
          <p:sp>
            <p:nvSpPr>
              <p:cNvPr id="331" name="Text Box 3"/>
              <p:cNvSpPr/>
              <p:nvPr/>
            </p:nvSpPr>
            <p:spPr>
              <a:xfrm>
                <a:off x="457200" y="17524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4"/>
              <p:cNvGraphicFramePr/>
              <p:nvPr/>
            </p:nvGraphicFramePr>
            <p:xfrm>
              <a:off x="2590920" y="1739880"/>
              <a:ext cx="132084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90920" y="1739880"/>
                        <a:ext cx="132084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4" name="Text Box 5"/>
            <p:cNvSpPr/>
            <p:nvPr/>
          </p:nvSpPr>
          <p:spPr>
            <a:xfrm>
              <a:off x="7315200" y="1676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a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5" name="Group 19"/>
          <p:cNvGrpSpPr/>
          <p:nvPr/>
        </p:nvGrpSpPr>
        <p:grpSpPr>
          <a:xfrm>
            <a:off x="457200" y="2590920"/>
            <a:ext cx="8077320" cy="622080"/>
            <a:chOff x="457200" y="2590920"/>
            <a:chExt cx="8077320" cy="622080"/>
          </a:xfrm>
        </p:grpSpPr>
        <p:sp>
          <p:nvSpPr>
            <p:cNvPr id="336" name="Text Box 6"/>
            <p:cNvSpPr/>
            <p:nvPr/>
          </p:nvSpPr>
          <p:spPr>
            <a:xfrm>
              <a:off x="457200" y="26668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bject to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37" name="Object 7"/>
            <p:cNvGraphicFramePr/>
            <p:nvPr/>
          </p:nvGraphicFramePr>
          <p:xfrm>
            <a:off x="2641680" y="2590920"/>
            <a:ext cx="1625400" cy="62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1680" y="2590920"/>
                      <a:ext cx="1625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8"/>
            <p:cNvSpPr/>
            <p:nvPr/>
          </p:nvSpPr>
          <p:spPr>
            <a:xfrm>
              <a:off x="731520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b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40" name="Object 9"/>
            <p:cNvGraphicFramePr/>
            <p:nvPr/>
          </p:nvGraphicFramePr>
          <p:xfrm>
            <a:off x="4610160" y="2692440"/>
            <a:ext cx="209556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10160" y="269244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2" name="Group 20"/>
          <p:cNvGrpSpPr/>
          <p:nvPr/>
        </p:nvGrpSpPr>
        <p:grpSpPr>
          <a:xfrm>
            <a:off x="3098880" y="3505320"/>
            <a:ext cx="5435640" cy="469800"/>
            <a:chOff x="3098880" y="3505320"/>
            <a:chExt cx="5435640" cy="469800"/>
          </a:xfrm>
        </p:grpSpPr>
        <p:graphicFrame>
          <p:nvGraphicFramePr>
            <p:cNvPr id="343" name="Object 10"/>
            <p:cNvGraphicFramePr/>
            <p:nvPr/>
          </p:nvGraphicFramePr>
          <p:xfrm>
            <a:off x="3098880" y="3581280"/>
            <a:ext cx="12445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98880" y="3581280"/>
                      <a:ext cx="12445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11"/>
            <p:cNvGraphicFramePr/>
            <p:nvPr/>
          </p:nvGraphicFramePr>
          <p:xfrm>
            <a:off x="4622760" y="3619440"/>
            <a:ext cx="231156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22760" y="361944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Text Box 12"/>
            <p:cNvSpPr/>
            <p:nvPr/>
          </p:nvSpPr>
          <p:spPr>
            <a:xfrm>
              <a:off x="73152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c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8" name="Group 21"/>
          <p:cNvGrpSpPr/>
          <p:nvPr/>
        </p:nvGrpSpPr>
        <p:grpSpPr>
          <a:xfrm>
            <a:off x="2895480" y="4343400"/>
            <a:ext cx="5639040" cy="736560"/>
            <a:chOff x="2895480" y="4343400"/>
            <a:chExt cx="5639040" cy="736560"/>
          </a:xfrm>
        </p:grpSpPr>
        <p:graphicFrame>
          <p:nvGraphicFramePr>
            <p:cNvPr id="349" name="Object 13"/>
            <p:cNvGraphicFramePr/>
            <p:nvPr/>
          </p:nvGraphicFramePr>
          <p:xfrm>
            <a:off x="2895480" y="4495680"/>
            <a:ext cx="15242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4495680"/>
                      <a:ext cx="1524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4724280" y="4343400"/>
            <a:ext cx="209556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434340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15"/>
            <p:cNvGraphicFramePr/>
            <p:nvPr/>
          </p:nvGraphicFramePr>
          <p:xfrm>
            <a:off x="4724280" y="4724280"/>
            <a:ext cx="2311560" cy="355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4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72428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16"/>
            <p:cNvSpPr/>
            <p:nvPr/>
          </p:nvSpPr>
          <p:spPr>
            <a:xfrm>
              <a:off x="731520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d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9E55-2FC7-4090-AA84-8223B60083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 Partia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066680" y="1295280"/>
            <a:ext cx="7010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multicommodity flow x = (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is an optimal multicommodity flow for (17) if there exists non-negative prices w = (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on the arcs so that the following is tr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219320" y="3200400"/>
            <a:ext cx="4305240" cy="469800"/>
            <a:chOff x="1219320" y="3200400"/>
            <a:chExt cx="4305240" cy="469800"/>
          </a:xfrm>
        </p:grpSpPr>
        <p:sp>
          <p:nvSpPr>
            <p:cNvPr id="360" name="Text Box 5"/>
            <p:cNvSpPr/>
            <p:nvPr/>
          </p:nvSpPr>
          <p:spPr>
            <a:xfrm>
              <a:off x="121932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.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1" name="Object 6"/>
            <p:cNvGraphicFramePr/>
            <p:nvPr/>
          </p:nvGraphicFramePr>
          <p:xfrm>
            <a:off x="1905120" y="3200400"/>
            <a:ext cx="3619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200400"/>
                      <a:ext cx="3619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3" name="Group 11"/>
          <p:cNvGrpSpPr/>
          <p:nvPr/>
        </p:nvGrpSpPr>
        <p:grpSpPr>
          <a:xfrm>
            <a:off x="1219320" y="3886200"/>
            <a:ext cx="7391160" cy="1454040"/>
            <a:chOff x="1219320" y="3886200"/>
            <a:chExt cx="7391160" cy="1454040"/>
          </a:xfrm>
        </p:grpSpPr>
        <p:sp>
          <p:nvSpPr>
            <p:cNvPr id="364" name="Text Box 7"/>
            <p:cNvSpPr/>
            <p:nvPr/>
          </p:nvSpPr>
          <p:spPr>
            <a:xfrm>
              <a:off x="1219320" y="388620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.    The flow x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optimal for the k-th commodit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     if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replaced by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w,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, where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5" name="Object 8"/>
            <p:cNvGraphicFramePr/>
            <p:nvPr/>
          </p:nvGraphicFramePr>
          <p:xfrm>
            <a:off x="2768760" y="4883040"/>
            <a:ext cx="18921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8760" y="4883040"/>
                      <a:ext cx="1892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7" name="Text Box 9"/>
          <p:cNvSpPr/>
          <p:nvPr/>
        </p:nvSpPr>
        <p:spPr>
          <a:xfrm>
            <a:off x="457200" y="5730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optimal for the k-th commodity if there is no negative cost cycle in the kth residual network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79CB-505D-4332-BF3F-F5DEA1D32ED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457200" y="1295280"/>
            <a:ext cx="8178840" cy="3995640"/>
            <a:chOff x="457200" y="1295280"/>
            <a:chExt cx="8178840" cy="3995640"/>
          </a:xfrm>
        </p:grpSpPr>
        <p:sp>
          <p:nvSpPr>
            <p:cNvPr id="371" name="Oval 3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9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385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388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391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394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6" name="Text Box 28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Text Box 33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Text Box 34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>
              <a:off x="3200400" y="350532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36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37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38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7" name="Object 39"/>
            <p:cNvGraphicFramePr/>
            <p:nvPr/>
          </p:nvGraphicFramePr>
          <p:xfrm>
            <a:off x="6324480" y="2438280"/>
            <a:ext cx="2311560" cy="41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8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438280"/>
                      <a:ext cx="23115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Line 40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2743200" y="31240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13" name="Object 44"/>
            <p:cNvGraphicFramePr/>
            <p:nvPr/>
          </p:nvGraphicFramePr>
          <p:xfrm>
            <a:off x="6330960" y="3124080"/>
            <a:ext cx="229860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Object 4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3124080"/>
                      <a:ext cx="22986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45"/>
            <p:cNvGraphicFramePr/>
            <p:nvPr/>
          </p:nvGraphicFramePr>
          <p:xfrm>
            <a:off x="6324480" y="3657600"/>
            <a:ext cx="8892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6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3657600"/>
                      <a:ext cx="889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7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2895480" y="5638680"/>
            <a:ext cx="31244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A24-0C56-4A14-B848-3E8DC5627F9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2743200" y="18288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18288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52578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236232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42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3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4"/>
          <p:cNvSpPr/>
          <p:nvPr/>
        </p:nvSpPr>
        <p:spPr>
          <a:xfrm flipV="1">
            <a:off x="525780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35053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V="1">
            <a:off x="2590920" y="190476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>
            <a:off x="50292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26668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419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B8C-D0E9-4D51-AFA3-9AC51BE2F20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6" name="Oval 3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Oval 4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7524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54100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525780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Text Box 29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36"/>
          <p:cNvSpPr/>
          <p:nvPr/>
        </p:nvSpPr>
        <p:spPr>
          <a:xfrm flipV="1">
            <a:off x="4952880" y="3505320"/>
            <a:ext cx="0" cy="121896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37"/>
          <p:cNvSpPr/>
          <p:nvPr/>
        </p:nvSpPr>
        <p:spPr>
          <a:xfrm>
            <a:off x="2590920" y="365760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26668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39"/>
          <p:cNvSpPr/>
          <p:nvPr/>
        </p:nvSpPr>
        <p:spPr>
          <a:xfrm>
            <a:off x="43434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93F8-CC52-4A21-8263-A80B2B6A198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ful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88" name="Group 9"/>
          <p:cNvGrpSpPr/>
          <p:nvPr/>
        </p:nvGrpSpPr>
        <p:grpSpPr>
          <a:xfrm>
            <a:off x="533520" y="1143000"/>
            <a:ext cx="8305560" cy="1905120"/>
            <a:chOff x="533520" y="1143000"/>
            <a:chExt cx="8305560" cy="1905120"/>
          </a:xfrm>
        </p:grpSpPr>
        <p:graphicFrame>
          <p:nvGraphicFramePr>
            <p:cNvPr id="489" name="Object 4"/>
            <p:cNvGraphicFramePr/>
            <p:nvPr/>
          </p:nvGraphicFramePr>
          <p:xfrm>
            <a:off x="1447920" y="2082960"/>
            <a:ext cx="36828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082960"/>
                      <a:ext cx="3682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6"/>
            <p:cNvGraphicFramePr/>
            <p:nvPr/>
          </p:nvGraphicFramePr>
          <p:xfrm>
            <a:off x="3962520" y="2692440"/>
            <a:ext cx="445752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692440"/>
                      <a:ext cx="445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Text Box 7"/>
            <p:cNvSpPr/>
            <p:nvPr/>
          </p:nvSpPr>
          <p:spPr>
            <a:xfrm>
              <a:off x="533520" y="1143000"/>
              <a:ext cx="830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ne can also define node potentials π so that the reduced cost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4" name="Text Box 8"/>
          <p:cNvSpPr/>
          <p:nvPr/>
        </p:nvSpPr>
        <p:spPr>
          <a:xfrm>
            <a:off x="45720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bines optimality conditions for min cost flows with the partial dualization optimality conditions for multicommodity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cture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illustrative ex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multicommodity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grangian relaxati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97D7-B15B-4603-A74F-54BF0CB021D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ccording to NPD Fashion World, what percentage of lingerie is returned to the stor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average life span for a taste bu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 day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harles Osborne set the record for the longest case of the hiccups.  How long did they la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8 years.  An outside source estimated that Osborne hiccupped 430 million times over the 68-year period.  He also fathered 8 children during this time period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52280" y="1219320"/>
            <a:ext cx="861084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54D2-1C92-4F47-927A-87961983411E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utside a barber’s shop, there is often a pole with red and white stripes.  What is the significance of the red strip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represents the bloody bandages used in blood-letting wrapped around a pol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many digestive glands are in the human stomach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35 million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surface area of a pair of human lung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70 meters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   Approximately the same size as a tennis cour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8F5E-CD86-45CA-8DAE-070702A8888F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905-219E-4F19-8B37-DDAA7C6532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05" name="Object 3"/>
          <p:cNvGraphicFramePr/>
          <p:nvPr/>
        </p:nvGraphicFramePr>
        <p:xfrm>
          <a:off x="996840" y="1528920"/>
          <a:ext cx="17272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528920"/>
                    <a:ext cx="1727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7"/>
          <p:cNvSpPr/>
          <p:nvPr/>
        </p:nvSpPr>
        <p:spPr>
          <a:xfrm>
            <a:off x="1522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9945-A85D-4292-B77B-19440921B5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1967040" y="1528920"/>
          <a:ext cx="172692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528920"/>
                    <a:ext cx="172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5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7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8"/>
          <p:cNvSpPr/>
          <p:nvPr/>
        </p:nvSpPr>
        <p:spPr>
          <a:xfrm>
            <a:off x="99072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3941640" y="1523880"/>
          <a:ext cx="299268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1640" y="1523880"/>
                    <a:ext cx="2992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13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6094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nalize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6094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4BD8-BD53-48E0-958D-FD686A24878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1981080" y="1523880"/>
            <a:ext cx="4967280" cy="671760"/>
            <a:chOff x="1981080" y="1523880"/>
            <a:chExt cx="4967280" cy="671760"/>
          </a:xfrm>
        </p:grpSpPr>
        <p:graphicFrame>
          <p:nvGraphicFramePr>
            <p:cNvPr id="536" name="Object 16"/>
            <p:cNvGraphicFramePr/>
            <p:nvPr/>
          </p:nvGraphicFramePr>
          <p:xfrm>
            <a:off x="1981080" y="1528920"/>
            <a:ext cx="17272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7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Object 17"/>
            <p:cNvGraphicFramePr/>
            <p:nvPr/>
          </p:nvGraphicFramePr>
          <p:xfrm>
            <a:off x="3956040" y="1523880"/>
            <a:ext cx="2992320" cy="62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6040" y="1523880"/>
                      <a:ext cx="29923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1522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w) = 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1" name="Group 21"/>
          <p:cNvGrpSpPr/>
          <p:nvPr/>
        </p:nvGrpSpPr>
        <p:grpSpPr>
          <a:xfrm>
            <a:off x="1905120" y="1371600"/>
            <a:ext cx="4876560" cy="914400"/>
            <a:chOff x="1905120" y="1371600"/>
            <a:chExt cx="4876560" cy="914400"/>
          </a:xfrm>
        </p:grpSpPr>
        <p:sp>
          <p:nvSpPr>
            <p:cNvPr id="552" name="Rectangle 22"/>
            <p:cNvSpPr/>
            <p:nvPr/>
          </p:nvSpPr>
          <p:spPr>
            <a:xfrm>
              <a:off x="1905120" y="1371600"/>
              <a:ext cx="4724280" cy="91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3" name="Group 23"/>
            <p:cNvGrpSpPr/>
            <p:nvPr/>
          </p:nvGrpSpPr>
          <p:grpSpPr>
            <a:xfrm>
              <a:off x="1981080" y="1538280"/>
              <a:ext cx="4800600" cy="671040"/>
              <a:chOff x="1981080" y="1538280"/>
              <a:chExt cx="4800600" cy="671040"/>
            </a:xfrm>
          </p:grpSpPr>
          <p:graphicFrame>
            <p:nvGraphicFramePr>
              <p:cNvPr id="554" name="Object 24"/>
              <p:cNvGraphicFramePr/>
              <p:nvPr/>
            </p:nvGraphicFramePr>
            <p:xfrm>
              <a:off x="1981080" y="1542960"/>
              <a:ext cx="2654280" cy="666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5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81080" y="1542960"/>
                        <a:ext cx="265428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6" name="Object 25"/>
              <p:cNvGraphicFramePr/>
              <p:nvPr/>
            </p:nvGraphicFramePr>
            <p:xfrm>
              <a:off x="4876560" y="1538280"/>
              <a:ext cx="1905120" cy="660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57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876560" y="1538280"/>
                        <a:ext cx="1905120" cy="66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58" name="Text Box 26"/>
          <p:cNvSpPr/>
          <p:nvPr/>
        </p:nvSpPr>
        <p:spPr>
          <a:xfrm>
            <a:off x="106668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y the objective func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921B-E3A7-4268-931B-DDA1F20A945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12193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oose an initial valu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the 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lls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w, and find the optimal solution for L(w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457200" y="1295280"/>
            <a:ext cx="6705720" cy="3995640"/>
            <a:chOff x="457200" y="1295280"/>
            <a:chExt cx="6705720" cy="3995640"/>
          </a:xfrm>
        </p:grpSpPr>
        <p:sp>
          <p:nvSpPr>
            <p:cNvPr id="563" name="Oval 5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Line 11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3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4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6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7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6" name="Group 18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577" name="Line 19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20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1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580" name="Line 22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Text Box 23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583" name="Line 25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Text Box 26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27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586" name="Line 28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Text Box 29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8" name="Text Box 30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Text Box 31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Text Box 32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Text Box 33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Text Box 34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Text Box 35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Text Box 36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Text Box 37"/>
            <p:cNvSpPr/>
            <p:nvPr/>
          </p:nvSpPr>
          <p:spPr>
            <a:xfrm>
              <a:off x="3200400" y="33526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Text Box 38"/>
            <p:cNvSpPr/>
            <p:nvPr/>
          </p:nvSpPr>
          <p:spPr>
            <a:xfrm>
              <a:off x="2514600" y="411480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7" name="Text Box 39"/>
          <p:cNvSpPr/>
          <p:nvPr/>
        </p:nvSpPr>
        <p:spPr>
          <a:xfrm>
            <a:off x="6477120" y="2819520"/>
            <a:ext cx="24382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.g., set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A143-E367-4BE1-BFAC-19E23D73172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1219320" y="563868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2,5) = 8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5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4" name="Group 17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15" name="Line 18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7" name="Group 20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18" name="Line 21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0" name="Group 23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21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3" name="Group 26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24" name="Line 27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6" name="Text Box 29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6400800" y="2387520"/>
            <a:ext cx="243828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: determine the flows, and then determin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rom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3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Line 4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Line 4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Line 46"/>
          <p:cNvSpPr/>
          <p:nvPr/>
        </p:nvSpPr>
        <p:spPr>
          <a:xfrm>
            <a:off x="2743200" y="350532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1219320" y="617220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3,2) = 3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BC45-1720-4466-B7AF-4C720A87AF3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oosing a search direc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43" name="Object 5"/>
          <p:cNvGraphicFramePr/>
          <p:nvPr/>
        </p:nvGraphicFramePr>
        <p:xfrm>
          <a:off x="774720" y="2590920"/>
          <a:ext cx="3454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590920"/>
                    <a:ext cx="345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24"/>
          <p:cNvGrpSpPr/>
          <p:nvPr/>
        </p:nvGrpSpPr>
        <p:grpSpPr>
          <a:xfrm>
            <a:off x="863640" y="1066680"/>
            <a:ext cx="5715000" cy="1295640"/>
            <a:chOff x="863640" y="1066680"/>
            <a:chExt cx="5715000" cy="1295640"/>
          </a:xfrm>
        </p:grpSpPr>
        <p:sp>
          <p:nvSpPr>
            <p:cNvPr id="646" name="Text Box 7"/>
            <p:cNvSpPr/>
            <p:nvPr/>
          </p:nvSpPr>
          <p:spPr>
            <a:xfrm>
              <a:off x="2692440" y="1739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in arc (i,j)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7" name="Group 23"/>
            <p:cNvGrpSpPr/>
            <p:nvPr/>
          </p:nvGrpSpPr>
          <p:grpSpPr>
            <a:xfrm>
              <a:off x="863640" y="1066680"/>
              <a:ext cx="2076480" cy="1295640"/>
              <a:chOff x="863640" y="1066680"/>
              <a:chExt cx="2076480" cy="1295640"/>
            </a:xfrm>
          </p:grpSpPr>
          <p:graphicFrame>
            <p:nvGraphicFramePr>
              <p:cNvPr id="648" name="Object 6"/>
              <p:cNvGraphicFramePr/>
              <p:nvPr/>
            </p:nvGraphicFramePr>
            <p:xfrm>
              <a:off x="863640" y="1739880"/>
              <a:ext cx="1460520" cy="62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49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63640" y="1739880"/>
                        <a:ext cx="146052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0" name="Object 8"/>
              <p:cNvGraphicFramePr/>
              <p:nvPr/>
            </p:nvGraphicFramePr>
            <p:xfrm>
              <a:off x="920880" y="1066680"/>
              <a:ext cx="201924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5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0880" y="1066680"/>
                        <a:ext cx="201924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52" name="Object 11"/>
          <p:cNvGraphicFramePr/>
          <p:nvPr/>
        </p:nvGraphicFramePr>
        <p:xfrm>
          <a:off x="666720" y="3429000"/>
          <a:ext cx="38098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720" y="3429000"/>
                    <a:ext cx="3809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781200" y="4095720"/>
          <a:ext cx="363204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" y="4095720"/>
                    <a:ext cx="3632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13"/>
          <p:cNvSpPr/>
          <p:nvPr/>
        </p:nvSpPr>
        <p:spPr>
          <a:xfrm>
            <a:off x="4724280" y="2362320"/>
            <a:ext cx="40388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y-u)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arch dir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724280" y="3429000"/>
            <a:ext cx="40388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s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533520" y="4800600"/>
            <a:ext cx="7010280" cy="510120"/>
            <a:chOff x="533520" y="4800600"/>
            <a:chExt cx="7010280" cy="510120"/>
          </a:xfrm>
        </p:grpSpPr>
        <p:sp>
          <p:nvSpPr>
            <p:cNvPr id="659" name="Text Box 15"/>
            <p:cNvSpPr/>
            <p:nvPr/>
          </p:nvSpPr>
          <p:spPr>
            <a:xfrm>
              <a:off x="533520" y="4800600"/>
              <a:ext cx="449568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, if we choose θ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1, then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60" name="Object 16"/>
            <p:cNvGraphicFramePr/>
            <p:nvPr/>
          </p:nvGraphicFramePr>
          <p:xfrm>
            <a:off x="4876920" y="4800600"/>
            <a:ext cx="26668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1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76920" y="4800600"/>
                      <a:ext cx="2666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2" name="Text Box 21"/>
          <p:cNvSpPr/>
          <p:nvPr/>
        </p:nvSpPr>
        <p:spPr>
          <a:xfrm>
            <a:off x="533520" y="556272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olve L(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3C86-A73C-46FB-824F-DF3C4160590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ing L(w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Oval 9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Oval 10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Line 17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8" name="Group 18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79" name="Line 19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Text Box 20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1" name="Group 21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82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4" name="Group 24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85" name="Line 25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Text Box 26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7" name="Group 27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88" name="Line 28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0" name="Text Box 30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Line 4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Line 45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9" name="Object 46"/>
          <p:cNvGraphicFramePr/>
          <p:nvPr/>
        </p:nvGraphicFramePr>
        <p:xfrm>
          <a:off x="1689120" y="5619600"/>
          <a:ext cx="45464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5619600"/>
                    <a:ext cx="4546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47"/>
          <p:cNvGraphicFramePr/>
          <p:nvPr/>
        </p:nvGraphicFramePr>
        <p:xfrm>
          <a:off x="1657440" y="6286680"/>
          <a:ext cx="44830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6286680"/>
                    <a:ext cx="4483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8"/>
          <p:cNvSpPr/>
          <p:nvPr/>
        </p:nvSpPr>
        <p:spPr>
          <a:xfrm>
            <a:off x="6705720" y="2743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l-GR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, then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6FEF-0301-47D1-BB93-70B44A0BCA5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the step siz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arch direction is a good search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 step size must be chosen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rge a step size and the solution will oscillate and not conve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small a step size and the solution will not converge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124F-2DCE-4D44-A7F2-AE761E492CD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the Multicommodity Flow Problem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-D vers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origin-destination pairs of nod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…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G = (N,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amount of flow that must be sent from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pacity on (i,j) shared by all commo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609480" y="3809880"/>
            <a:ext cx="7467840" cy="533520"/>
            <a:chOff x="609480" y="3809880"/>
            <a:chExt cx="7467840" cy="533520"/>
          </a:xfrm>
        </p:grpSpPr>
        <p:graphicFrame>
          <p:nvGraphicFramePr>
            <p:cNvPr id="99" name="Object 4"/>
            <p:cNvGraphicFramePr/>
            <p:nvPr/>
          </p:nvGraphicFramePr>
          <p:xfrm>
            <a:off x="609480" y="3886200"/>
            <a:ext cx="3304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86200"/>
                      <a:ext cx="330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5"/>
            <p:cNvSpPr/>
            <p:nvPr/>
          </p:nvSpPr>
          <p:spPr>
            <a:xfrm>
              <a:off x="914400" y="380988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cost of sending 1 unit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584280" y="4419720"/>
            <a:ext cx="5207040" cy="532800"/>
            <a:chOff x="584280" y="4419720"/>
            <a:chExt cx="5207040" cy="532800"/>
          </a:xfrm>
        </p:grpSpPr>
        <p:graphicFrame>
          <p:nvGraphicFramePr>
            <p:cNvPr id="103" name="Object 7"/>
            <p:cNvGraphicFramePr/>
            <p:nvPr/>
          </p:nvGraphicFramePr>
          <p:xfrm>
            <a:off x="584280" y="4495680"/>
            <a:ext cx="380880" cy="45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280" y="4495680"/>
                      <a:ext cx="3808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8"/>
            <p:cNvSpPr/>
            <p:nvPr/>
          </p:nvSpPr>
          <p:spPr>
            <a:xfrm>
              <a:off x="914400" y="44197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5629-569E-44A4-9913-52BE2EA4A5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choosing the step size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609480" y="4114800"/>
            <a:ext cx="765180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the step size is chosen as on the previous slides, and if (θ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(1), then the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verges to the optimum for the Lagrangian d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Group 12"/>
          <p:cNvGrpSpPr/>
          <p:nvPr/>
        </p:nvGrpSpPr>
        <p:grpSpPr>
          <a:xfrm>
            <a:off x="533520" y="990720"/>
            <a:ext cx="7804080" cy="2286000"/>
            <a:chOff x="533520" y="990720"/>
            <a:chExt cx="7804080" cy="2286000"/>
          </a:xfrm>
        </p:grpSpPr>
        <p:grpSp>
          <p:nvGrpSpPr>
            <p:cNvPr id="711" name="Group 7"/>
            <p:cNvGrpSpPr/>
            <p:nvPr/>
          </p:nvGrpSpPr>
          <p:grpSpPr>
            <a:xfrm>
              <a:off x="1752480" y="1676520"/>
              <a:ext cx="3848400" cy="838080"/>
              <a:chOff x="1752480" y="1676520"/>
              <a:chExt cx="3848400" cy="838080"/>
            </a:xfrm>
          </p:grpSpPr>
          <p:graphicFrame>
            <p:nvGraphicFramePr>
              <p:cNvPr id="712" name="Object 4"/>
              <p:cNvGraphicFramePr/>
              <p:nvPr/>
            </p:nvGraphicFramePr>
            <p:xfrm>
              <a:off x="1752480" y="1905120"/>
              <a:ext cx="143532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2480" y="1905120"/>
                        <a:ext cx="1435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4" name="Text Box 5"/>
              <p:cNvSpPr/>
              <p:nvPr/>
            </p:nvSpPr>
            <p:spPr>
              <a:xfrm>
                <a:off x="3429000" y="1828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and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715" name="Object 6"/>
              <p:cNvGraphicFramePr/>
              <p:nvPr/>
            </p:nvGraphicFramePr>
            <p:xfrm>
              <a:off x="4343400" y="1676520"/>
              <a:ext cx="1257480" cy="838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16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43400" y="1676520"/>
                        <a:ext cx="1257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7" name="Rectangle 8"/>
            <p:cNvSpPr/>
            <p:nvPr/>
          </p:nvSpPr>
          <p:spPr>
            <a:xfrm>
              <a:off x="609480" y="2743200"/>
              <a:ext cx="7728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g., tak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1/q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533520" y="990720"/>
              <a:ext cx="7727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ep siz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hould be chosen so that 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73152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3B1D-6227-418E-B533-FB581B55DB9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optimal multipliers and flows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2" name="Group 5"/>
          <p:cNvGrpSpPr/>
          <p:nvPr/>
        </p:nvGrpSpPr>
        <p:grpSpPr>
          <a:xfrm>
            <a:off x="609480" y="1447920"/>
            <a:ext cx="6705720" cy="3995280"/>
            <a:chOff x="609480" y="1447920"/>
            <a:chExt cx="6705720" cy="3995280"/>
          </a:xfrm>
        </p:grpSpPr>
        <p:sp>
          <p:nvSpPr>
            <p:cNvPr id="723" name="Oval 6"/>
            <p:cNvSpPr/>
            <p:nvPr/>
          </p:nvSpPr>
          <p:spPr>
            <a:xfrm>
              <a:off x="243828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7"/>
            <p:cNvSpPr/>
            <p:nvPr/>
          </p:nvSpPr>
          <p:spPr>
            <a:xfrm>
              <a:off x="243828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243828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502920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502920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502920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66688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 flipV="1">
              <a:off x="266688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2895480" y="35049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2895480" y="19047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V="1">
              <a:off x="525780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525780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2895480" y="5181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36" name="Group 19"/>
            <p:cNvGrpSpPr/>
            <p:nvPr/>
          </p:nvGrpSpPr>
          <p:grpSpPr>
            <a:xfrm>
              <a:off x="685800" y="1523880"/>
              <a:ext cx="1752480" cy="642600"/>
              <a:chOff x="685800" y="1523880"/>
              <a:chExt cx="1752480" cy="642600"/>
            </a:xfrm>
          </p:grpSpPr>
          <p:sp>
            <p:nvSpPr>
              <p:cNvPr id="737" name="Line 20"/>
              <p:cNvSpPr/>
              <p:nvPr/>
            </p:nvSpPr>
            <p:spPr>
              <a:xfrm>
                <a:off x="1828800" y="190440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Text Box 21"/>
              <p:cNvSpPr/>
              <p:nvPr/>
            </p:nvSpPr>
            <p:spPr>
              <a:xfrm>
                <a:off x="685800" y="152388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2"/>
            <p:cNvGrpSpPr/>
            <p:nvPr/>
          </p:nvGrpSpPr>
          <p:grpSpPr>
            <a:xfrm>
              <a:off x="5486400" y="1568160"/>
              <a:ext cx="1828800" cy="642600"/>
              <a:chOff x="5486400" y="1568160"/>
              <a:chExt cx="1828800" cy="642600"/>
            </a:xfrm>
          </p:grpSpPr>
          <p:sp>
            <p:nvSpPr>
              <p:cNvPr id="740" name="Line 23"/>
              <p:cNvSpPr/>
              <p:nvPr/>
            </p:nvSpPr>
            <p:spPr>
              <a:xfrm>
                <a:off x="5486400" y="190440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1" name="Text Box 24"/>
              <p:cNvSpPr/>
              <p:nvPr/>
            </p:nvSpPr>
            <p:spPr>
              <a:xfrm>
                <a:off x="6096240" y="156816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5"/>
            <p:cNvGrpSpPr/>
            <p:nvPr/>
          </p:nvGrpSpPr>
          <p:grpSpPr>
            <a:xfrm>
              <a:off x="609480" y="4800600"/>
              <a:ext cx="1828800" cy="642600"/>
              <a:chOff x="609480" y="4800600"/>
              <a:chExt cx="1828800" cy="642600"/>
            </a:xfrm>
          </p:grpSpPr>
          <p:sp>
            <p:nvSpPr>
              <p:cNvPr id="743" name="Line 26"/>
              <p:cNvSpPr/>
              <p:nvPr/>
            </p:nvSpPr>
            <p:spPr>
              <a:xfrm>
                <a:off x="18288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Text Box 27"/>
              <p:cNvSpPr/>
              <p:nvPr/>
            </p:nvSpPr>
            <p:spPr>
              <a:xfrm>
                <a:off x="6094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"/>
            <p:cNvGrpSpPr/>
            <p:nvPr/>
          </p:nvGrpSpPr>
          <p:grpSpPr>
            <a:xfrm>
              <a:off x="5486400" y="4800600"/>
              <a:ext cx="1828800" cy="642600"/>
              <a:chOff x="5486400" y="4800600"/>
              <a:chExt cx="1828800" cy="642600"/>
            </a:xfrm>
          </p:grpSpPr>
          <p:sp>
            <p:nvSpPr>
              <p:cNvPr id="746" name="Line 29"/>
              <p:cNvSpPr/>
              <p:nvPr/>
            </p:nvSpPr>
            <p:spPr>
              <a:xfrm>
                <a:off x="54864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7" name="Text Box 30"/>
              <p:cNvSpPr/>
              <p:nvPr/>
            </p:nvSpPr>
            <p:spPr>
              <a:xfrm>
                <a:off x="60958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8" name="Text Box 31"/>
            <p:cNvSpPr/>
            <p:nvPr/>
          </p:nvSpPr>
          <p:spPr>
            <a:xfrm>
              <a:off x="358128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Text Box 32"/>
            <p:cNvSpPr/>
            <p:nvPr/>
          </p:nvSpPr>
          <p:spPr>
            <a:xfrm>
              <a:off x="3504960" y="2895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3581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2133360" y="4190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213336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52578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5333760" y="3962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3352680" y="3504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Text Box 39"/>
            <p:cNvSpPr/>
            <p:nvPr/>
          </p:nvSpPr>
          <p:spPr>
            <a:xfrm>
              <a:off x="2666880" y="42670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57" name="Object 41"/>
          <p:cNvGraphicFramePr/>
          <p:nvPr/>
        </p:nvGraphicFramePr>
        <p:xfrm>
          <a:off x="1428840" y="5854680"/>
          <a:ext cx="1752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5854680"/>
                    <a:ext cx="175248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9" name="Object 42"/>
          <p:cNvGraphicFramePr/>
          <p:nvPr/>
        </p:nvGraphicFramePr>
        <p:xfrm>
          <a:off x="4191120" y="5791320"/>
          <a:ext cx="1803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91320"/>
                    <a:ext cx="180324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61" name="Group 54"/>
          <p:cNvGrpSpPr/>
          <p:nvPr/>
        </p:nvGrpSpPr>
        <p:grpSpPr>
          <a:xfrm>
            <a:off x="6172200" y="2514600"/>
            <a:ext cx="2514600" cy="2133720"/>
            <a:chOff x="6172200" y="2514600"/>
            <a:chExt cx="2514600" cy="2133720"/>
          </a:xfrm>
        </p:grpSpPr>
        <p:sp>
          <p:nvSpPr>
            <p:cNvPr id="762" name="Rectangle 49"/>
            <p:cNvSpPr/>
            <p:nvPr/>
          </p:nvSpPr>
          <p:spPr>
            <a:xfrm>
              <a:off x="6172200" y="2514600"/>
              <a:ext cx="2514600" cy="2133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63" name="Object 44"/>
            <p:cNvGraphicFramePr/>
            <p:nvPr/>
          </p:nvGraphicFramePr>
          <p:xfrm>
            <a:off x="6330960" y="2590920"/>
            <a:ext cx="22986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4" name="Object 4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0960" y="2590920"/>
                      <a:ext cx="2298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5" name="Object 45"/>
            <p:cNvGraphicFramePr/>
            <p:nvPr/>
          </p:nvGraphicFramePr>
          <p:xfrm>
            <a:off x="6324480" y="3124080"/>
            <a:ext cx="88920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6" name="Object 4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3124080"/>
                      <a:ext cx="8892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7" name="Object 52"/>
            <p:cNvGraphicFramePr/>
            <p:nvPr/>
          </p:nvGraphicFramePr>
          <p:xfrm>
            <a:off x="6324480" y="3619440"/>
            <a:ext cx="23115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8" name="Object 5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619440"/>
                      <a:ext cx="23115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9" name="Object 53"/>
            <p:cNvGraphicFramePr/>
            <p:nvPr/>
          </p:nvGraphicFramePr>
          <p:xfrm>
            <a:off x="6324480" y="4152960"/>
            <a:ext cx="86364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70" name="Object 5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4152960"/>
                      <a:ext cx="863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0CDA-FEBB-4875-97FC-C71A939CFE6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ppose that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3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1.001 and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2.00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243828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Oval 5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Oval 6"/>
          <p:cNvSpPr/>
          <p:nvPr/>
        </p:nvSpPr>
        <p:spPr>
          <a:xfrm>
            <a:off x="243828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Oval 7"/>
          <p:cNvSpPr/>
          <p:nvPr/>
        </p:nvSpPr>
        <p:spPr>
          <a:xfrm>
            <a:off x="502920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Oval 8"/>
          <p:cNvSpPr/>
          <p:nvPr/>
        </p:nvSpPr>
        <p:spPr>
          <a:xfrm>
            <a:off x="502920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02920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2666880" y="2133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 flipV="1">
            <a:off x="266688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2895480" y="35053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 flipV="1">
            <a:off x="5257800" y="21333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25780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6" name="Group 17"/>
          <p:cNvGrpSpPr/>
          <p:nvPr/>
        </p:nvGrpSpPr>
        <p:grpSpPr>
          <a:xfrm>
            <a:off x="685800" y="1523880"/>
            <a:ext cx="1752480" cy="642600"/>
            <a:chOff x="685800" y="1523880"/>
            <a:chExt cx="1752480" cy="642600"/>
          </a:xfrm>
        </p:grpSpPr>
        <p:sp>
          <p:nvSpPr>
            <p:cNvPr id="787" name="Line 18"/>
            <p:cNvSpPr/>
            <p:nvPr/>
          </p:nvSpPr>
          <p:spPr>
            <a:xfrm>
              <a:off x="1828800" y="190476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685800" y="152388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9" name="Group 20"/>
          <p:cNvGrpSpPr/>
          <p:nvPr/>
        </p:nvGrpSpPr>
        <p:grpSpPr>
          <a:xfrm>
            <a:off x="5486400" y="1568520"/>
            <a:ext cx="1828800" cy="642600"/>
            <a:chOff x="5486400" y="1568520"/>
            <a:chExt cx="1828800" cy="642600"/>
          </a:xfrm>
        </p:grpSpPr>
        <p:sp>
          <p:nvSpPr>
            <p:cNvPr id="790" name="Line 21"/>
            <p:cNvSpPr/>
            <p:nvPr/>
          </p:nvSpPr>
          <p:spPr>
            <a:xfrm>
              <a:off x="5486400" y="190476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096240" y="156852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609480" y="4800600"/>
            <a:ext cx="1828800" cy="642600"/>
            <a:chOff x="609480" y="4800600"/>
            <a:chExt cx="1828800" cy="642600"/>
          </a:xfrm>
        </p:grpSpPr>
        <p:sp>
          <p:nvSpPr>
            <p:cNvPr id="793" name="Line 24"/>
            <p:cNvSpPr/>
            <p:nvPr/>
          </p:nvSpPr>
          <p:spPr>
            <a:xfrm>
              <a:off x="18288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6094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5" name="Group 26"/>
          <p:cNvGrpSpPr/>
          <p:nvPr/>
        </p:nvGrpSpPr>
        <p:grpSpPr>
          <a:xfrm>
            <a:off x="5486400" y="4800600"/>
            <a:ext cx="1828800" cy="642600"/>
            <a:chOff x="5486400" y="4800600"/>
            <a:chExt cx="1828800" cy="642600"/>
          </a:xfrm>
        </p:grpSpPr>
        <p:sp>
          <p:nvSpPr>
            <p:cNvPr id="796" name="Line 27"/>
            <p:cNvSpPr/>
            <p:nvPr/>
          </p:nvSpPr>
          <p:spPr>
            <a:xfrm>
              <a:off x="54864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60958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8" name="Text Box 29"/>
          <p:cNvSpPr/>
          <p:nvPr/>
        </p:nvSpPr>
        <p:spPr>
          <a:xfrm>
            <a:off x="35812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Text Box 30"/>
          <p:cNvSpPr/>
          <p:nvPr/>
        </p:nvSpPr>
        <p:spPr>
          <a:xfrm>
            <a:off x="35053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3581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Text Box 32"/>
          <p:cNvSpPr/>
          <p:nvPr/>
        </p:nvSpPr>
        <p:spPr>
          <a:xfrm>
            <a:off x="15238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1337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Text Box 34"/>
          <p:cNvSpPr/>
          <p:nvPr/>
        </p:nvSpPr>
        <p:spPr>
          <a:xfrm>
            <a:off x="52578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Text Box 35"/>
          <p:cNvSpPr/>
          <p:nvPr/>
        </p:nvSpPr>
        <p:spPr>
          <a:xfrm>
            <a:off x="53341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Text Box 47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ear Optimal Multipliers do not always lead to near optimal (or even feasible)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6" name="Group 55"/>
          <p:cNvGrpSpPr/>
          <p:nvPr/>
        </p:nvGrpSpPr>
        <p:grpSpPr>
          <a:xfrm>
            <a:off x="6095880" y="2743200"/>
            <a:ext cx="1524240" cy="1447920"/>
            <a:chOff x="6095880" y="2743200"/>
            <a:chExt cx="1524240" cy="1447920"/>
          </a:xfrm>
        </p:grpSpPr>
        <p:sp>
          <p:nvSpPr>
            <p:cNvPr id="807" name="Rectangle 49"/>
            <p:cNvSpPr/>
            <p:nvPr/>
          </p:nvSpPr>
          <p:spPr>
            <a:xfrm>
              <a:off x="6095880" y="2743200"/>
              <a:ext cx="1524240" cy="14479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808" name="Object 51"/>
            <p:cNvGraphicFramePr/>
            <p:nvPr/>
          </p:nvGraphicFramePr>
          <p:xfrm>
            <a:off x="6324480" y="2971800"/>
            <a:ext cx="8766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971800"/>
                      <a:ext cx="876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Object 53"/>
            <p:cNvGraphicFramePr/>
            <p:nvPr/>
          </p:nvGraphicFramePr>
          <p:xfrm>
            <a:off x="6324480" y="3581280"/>
            <a:ext cx="863640" cy="4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1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581280"/>
                      <a:ext cx="8636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2" name="Line 56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Line 57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E51E-6C9C-4BF6-8B60-0F4C5C1E15D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MCF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Column Generation 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CB8F-2DB9-40AB-B718-5F0E1F527AA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533520" y="1371600"/>
            <a:ext cx="6629400" cy="686880"/>
            <a:chOff x="533520" y="1371600"/>
            <a:chExt cx="6629400" cy="686880"/>
          </a:xfrm>
        </p:grpSpPr>
        <p:grpSp>
          <p:nvGrpSpPr>
            <p:cNvPr id="109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110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113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9"/>
          <p:cNvGrpSpPr/>
          <p:nvPr/>
        </p:nvGrpSpPr>
        <p:grpSpPr>
          <a:xfrm>
            <a:off x="457200" y="4648320"/>
            <a:ext cx="6705720" cy="642600"/>
            <a:chOff x="457200" y="4648320"/>
            <a:chExt cx="6705720" cy="642600"/>
          </a:xfrm>
        </p:grpSpPr>
        <p:grpSp>
          <p:nvGrpSpPr>
            <p:cNvPr id="116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117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120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40"/>
          <p:cNvGrpSpPr/>
          <p:nvPr/>
        </p:nvGrpSpPr>
        <p:grpSpPr>
          <a:xfrm>
            <a:off x="1981080" y="1295280"/>
            <a:ext cx="3733920" cy="3962520"/>
            <a:chOff x="1981080" y="1295280"/>
            <a:chExt cx="3733920" cy="3962520"/>
          </a:xfrm>
        </p:grpSpPr>
        <p:sp>
          <p:nvSpPr>
            <p:cNvPr id="123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5" name="Group 37"/>
            <p:cNvGrpSpPr/>
            <p:nvPr/>
          </p:nvGrpSpPr>
          <p:grpSpPr>
            <a:xfrm>
              <a:off x="2286000" y="1295280"/>
              <a:ext cx="3429000" cy="3962520"/>
              <a:chOff x="2286000" y="1295280"/>
              <a:chExt cx="3429000" cy="3962520"/>
            </a:xfrm>
          </p:grpSpPr>
          <p:sp>
            <p:nvSpPr>
              <p:cNvPr id="126" name="Oval 3"/>
              <p:cNvSpPr/>
              <p:nvPr/>
            </p:nvSpPr>
            <p:spPr>
              <a:xfrm>
                <a:off x="228600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4"/>
              <p:cNvSpPr/>
              <p:nvPr/>
            </p:nvSpPr>
            <p:spPr>
              <a:xfrm>
                <a:off x="228600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5"/>
              <p:cNvSpPr/>
              <p:nvPr/>
            </p:nvSpPr>
            <p:spPr>
              <a:xfrm>
                <a:off x="228600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6"/>
              <p:cNvSpPr/>
              <p:nvPr/>
            </p:nvSpPr>
            <p:spPr>
              <a:xfrm>
                <a:off x="487692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7"/>
              <p:cNvSpPr/>
              <p:nvPr/>
            </p:nvSpPr>
            <p:spPr>
              <a:xfrm>
                <a:off x="487692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8"/>
              <p:cNvSpPr/>
              <p:nvPr/>
            </p:nvSpPr>
            <p:spPr>
              <a:xfrm>
                <a:off x="487692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2514600" y="198108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2514600" y="358092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2743200" y="33526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2743200" y="17524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Line 13"/>
              <p:cNvSpPr/>
              <p:nvPr/>
            </p:nvSpPr>
            <p:spPr>
              <a:xfrm flipV="1">
                <a:off x="5105520" y="198072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Line 14"/>
              <p:cNvSpPr/>
              <p:nvPr/>
            </p:nvSpPr>
            <p:spPr>
              <a:xfrm>
                <a:off x="5105520" y="358128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Line 15"/>
              <p:cNvSpPr/>
              <p:nvPr/>
            </p:nvSpPr>
            <p:spPr>
              <a:xfrm>
                <a:off x="2743200" y="502920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3429000" y="1295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Text Box 29"/>
              <p:cNvSpPr/>
              <p:nvPr/>
            </p:nvSpPr>
            <p:spPr>
              <a:xfrm>
                <a:off x="3352680" y="27432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342900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Text Box 33"/>
              <p:cNvSpPr/>
              <p:nvPr/>
            </p:nvSpPr>
            <p:spPr>
              <a:xfrm>
                <a:off x="510552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Text Box 34"/>
              <p:cNvSpPr/>
              <p:nvPr/>
            </p:nvSpPr>
            <p:spPr>
              <a:xfrm>
                <a:off x="5181480" y="3809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Text Box 35"/>
              <p:cNvSpPr/>
              <p:nvPr/>
            </p:nvSpPr>
            <p:spPr>
              <a:xfrm>
                <a:off x="3200400" y="3505320"/>
                <a:ext cx="175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25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6"/>
          <p:cNvSpPr/>
          <p:nvPr/>
        </p:nvSpPr>
        <p:spPr>
          <a:xfrm>
            <a:off x="1676520" y="5791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ick exercise:  determine the optimal multicommodity flow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8C0C-3A64-4216-AD8B-C03EFBE031B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162" name="Line 20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165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" name="Group 39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168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171" name="Line 26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" name="Text Box 28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00400" y="35053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Line 4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Object 45"/>
          <p:cNvGraphicFramePr/>
          <p:nvPr/>
        </p:nvGraphicFramePr>
        <p:xfrm>
          <a:off x="6324480" y="2438280"/>
          <a:ext cx="2311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438280"/>
                    <a:ext cx="2311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46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48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9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Object 50"/>
          <p:cNvGraphicFramePr/>
          <p:nvPr/>
        </p:nvGraphicFramePr>
        <p:xfrm>
          <a:off x="6330960" y="3124080"/>
          <a:ext cx="2298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3124080"/>
                    <a:ext cx="2298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6324480" y="3657600"/>
          <a:ext cx="88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657600"/>
                    <a:ext cx="88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EDAB-1EF9-4447-AC8F-A3EA96D6F1C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ulticommodity Flow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104840" y="4567320"/>
          <a:ext cx="356256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45673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11"/>
          <p:cNvGrpSpPr/>
          <p:nvPr/>
        </p:nvGrpSpPr>
        <p:grpSpPr>
          <a:xfrm>
            <a:off x="152280" y="1523880"/>
            <a:ext cx="2571840" cy="671760"/>
            <a:chOff x="152280" y="1523880"/>
            <a:chExt cx="2571840" cy="671760"/>
          </a:xfrm>
        </p:grpSpPr>
        <p:graphicFrame>
          <p:nvGraphicFramePr>
            <p:cNvPr id="199" name="Object 3"/>
            <p:cNvGraphicFramePr/>
            <p:nvPr/>
          </p:nvGraphicFramePr>
          <p:xfrm>
            <a:off x="996840" y="1528920"/>
            <a:ext cx="172728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684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Text Box 8"/>
            <p:cNvSpPr/>
            <p:nvPr/>
          </p:nvSpPr>
          <p:spPr>
            <a:xfrm>
              <a:off x="1522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1104840" y="3505320"/>
            <a:ext cx="7201080" cy="825480"/>
            <a:chOff x="1104840" y="3505320"/>
            <a:chExt cx="7201080" cy="825480"/>
          </a:xfrm>
        </p:grpSpPr>
        <p:graphicFrame>
          <p:nvGraphicFramePr>
            <p:cNvPr id="203" name="Object 5"/>
            <p:cNvGraphicFramePr/>
            <p:nvPr/>
          </p:nvGraphicFramePr>
          <p:xfrm>
            <a:off x="1104840" y="3645000"/>
            <a:ext cx="3818160" cy="62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04840" y="3645000"/>
                      <a:ext cx="38181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10"/>
            <p:cNvSpPr/>
            <p:nvPr/>
          </p:nvSpPr>
          <p:spPr>
            <a:xfrm>
              <a:off x="6324480" y="35053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undle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1098720" y="2057400"/>
            <a:ext cx="7130880" cy="2235240"/>
            <a:chOff x="1098720" y="2057400"/>
            <a:chExt cx="7130880" cy="2235240"/>
          </a:xfrm>
        </p:grpSpPr>
        <p:sp>
          <p:nvSpPr>
            <p:cNvPr id="207" name="Text Box 9"/>
            <p:cNvSpPr/>
            <p:nvPr/>
          </p:nvSpPr>
          <p:spPr>
            <a:xfrm>
              <a:off x="6248520" y="205740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pply/ demand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08" name="Object 13"/>
            <p:cNvGraphicFramePr/>
            <p:nvPr/>
          </p:nvGraphicFramePr>
          <p:xfrm>
            <a:off x="1098720" y="2138400"/>
            <a:ext cx="4470120" cy="2154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8720" y="2138400"/>
                      <a:ext cx="4470120" cy="21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7710-A509-4A7F-B480-0EB918EB65F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ssumptions (for now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goo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unit flow of commodity k on (i, j) uses up one unit of capacity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conges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st is linear in the flow on (i, j) until capacity is totally used 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ctional flo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Flows are permitted to be frac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Usually a commodity has a single origin and single destin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89A5-DBB6-41D8-AF23-1DC429E6B18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area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228600" y="1295280"/>
            <a:ext cx="8686800" cy="990720"/>
            <a:chOff x="228600" y="1295280"/>
            <a:chExt cx="8686800" cy="990720"/>
          </a:xfrm>
        </p:grpSpPr>
        <p:sp>
          <p:nvSpPr>
            <p:cNvPr id="216" name="Rectangle 8"/>
            <p:cNvSpPr/>
            <p:nvPr/>
          </p:nvSpPr>
          <p:spPr>
            <a:xfrm>
              <a:off x="22860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yp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f Network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2362320" y="1295280"/>
              <a:ext cx="228600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od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4648320" y="1295280"/>
              <a:ext cx="213336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rc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78168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0" name="Group 26"/>
          <p:cNvGrpSpPr/>
          <p:nvPr/>
        </p:nvGrpSpPr>
        <p:grpSpPr>
          <a:xfrm>
            <a:off x="228600" y="2286000"/>
            <a:ext cx="8686800" cy="990720"/>
            <a:chOff x="228600" y="2286000"/>
            <a:chExt cx="8686800" cy="990720"/>
          </a:xfrm>
        </p:grpSpPr>
        <p:sp>
          <p:nvSpPr>
            <p:cNvPr id="221" name="Rectangle 3"/>
            <p:cNvSpPr/>
            <p:nvPr/>
          </p:nvSpPr>
          <p:spPr>
            <a:xfrm>
              <a:off x="22860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munic.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362320" y="22860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-D pair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or message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648320" y="22860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78168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outing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228600" y="3276720"/>
            <a:ext cx="8686800" cy="990360"/>
            <a:chOff x="228600" y="3276720"/>
            <a:chExt cx="8686800" cy="990360"/>
          </a:xfrm>
        </p:grpSpPr>
        <p:sp>
          <p:nvSpPr>
            <p:cNvPr id="226" name="Rectangle 4"/>
            <p:cNvSpPr/>
            <p:nvPr/>
          </p:nvSpPr>
          <p:spPr>
            <a:xfrm>
              <a:off x="22860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puter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2362320" y="3276720"/>
              <a:ext cx="228600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orage dev.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r computer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4648320" y="3276720"/>
              <a:ext cx="213336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678168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,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228600" y="4267080"/>
            <a:ext cx="8686800" cy="990720"/>
            <a:chOff x="228600" y="4267080"/>
            <a:chExt cx="8686800" cy="990720"/>
          </a:xfrm>
        </p:grpSpPr>
        <p:sp>
          <p:nvSpPr>
            <p:cNvPr id="231" name="Rectangle 5"/>
            <p:cNvSpPr/>
            <p:nvPr/>
          </p:nvSpPr>
          <p:spPr>
            <a:xfrm>
              <a:off x="22860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362320" y="426708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ard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unction pts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648320" y="426708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c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678168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228600" y="5257800"/>
            <a:ext cx="8686800" cy="990720"/>
            <a:chOff x="228600" y="5257800"/>
            <a:chExt cx="8686800" cy="990720"/>
          </a:xfrm>
        </p:grpSpPr>
        <p:sp>
          <p:nvSpPr>
            <p:cNvPr id="236" name="Rectangle 6"/>
            <p:cNvSpPr/>
            <p:nvPr/>
          </p:nvSpPr>
          <p:spPr>
            <a:xfrm>
              <a:off x="22860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istribu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2362320" y="52578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lant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warehouses,..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4648320" y="52578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way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track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tc.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678168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ucks,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, etc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net Traffic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BF4D-B381-400A-AFDA-162A9C87617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530280" y="1060560"/>
            <a:ext cx="7016760" cy="5572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638680" y="3886200"/>
            <a:ext cx="274320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:  The internet protocal in most use today was developed in 198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2010-11-28T17:23:22Z</cp:lastPrinted>
  <dcterms:modified xsi:type="dcterms:W3CDTF">2011-01-19T06:14:49Z</dcterms:modified>
  <cp:revision>55</cp:revision>
  <dc:subject/>
  <dc:title>15.082        Spring 1998</dc:title>
</cp:coreProperties>
</file>