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C135895-EC1D-455D-8718-A07955988516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685138F-7F1A-4CF9-869D-26549C214590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741BEB8-4307-4517-88AF-ECF455DE6C08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good time to discuss homework rules and what will be involved.  It is also a good time to mention th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739859A-C75C-4EF3-A9A7-6142E7EF3783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f I can tie this back to the student’s comments about thesi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9A02E6B-6B84-4041-834B-7506F6A6CB66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A53-3380-4468-924B-5A0FA30E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065-FE53-4EE8-917E-D204F94C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D40-96AE-4B6E-9698-528D06DD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93A-B8CF-40B2-8276-FC758344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259-F371-472C-98FF-63224F84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DC0-0F6E-49B8-938A-670EDE76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B55-25F3-4D14-9D6E-F86AB824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AB4-692E-4641-ACA3-42616E5C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3EE-7EF2-4711-8CC4-37BD2457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94D-03FC-4F9A-94F2-AB16F653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151-A687-497C-8655-275F46A0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FE4-6062-4E65-B7A1-69633258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14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5277-D92D-49D1-984E-79089712063E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and 6.855J        Fall 2010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etwork Optimization     J.B. Orl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0F14-52CD-4905-96F5-1BA159CBF79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990720" y="5486400"/>
            <a:ext cx="76197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“walk” starting at A and ending at A and passing through each arc exactly once?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5" name="Group 12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206" name="Text Box 13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8" name="Group 15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209" name="Text Box 16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1" name="Group 18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212" name="Text Box 19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Oval 20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4" name="Group 21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215" name="Text Box 22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217" name="AutoShape 24"/>
          <p:cNvCxnSpPr>
            <a:stCxn id="216" idx="1"/>
            <a:endCxn id="207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18" name="AutoShape 25"/>
          <p:cNvCxnSpPr>
            <a:stCxn id="216" idx="6"/>
            <a:endCxn id="207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19" name="AutoShape 26"/>
          <p:cNvCxnSpPr>
            <a:stCxn id="216" idx="6"/>
            <a:endCxn id="213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0" name="AutoShape 27"/>
          <p:cNvCxnSpPr>
            <a:stCxn id="216" idx="6"/>
            <a:endCxn id="210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1" name="AutoShape 28"/>
          <p:cNvCxnSpPr>
            <a:stCxn id="216" idx="4"/>
            <a:endCxn id="213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2" name="AutoShape 29"/>
          <p:cNvCxnSpPr>
            <a:stCxn id="213" idx="6"/>
            <a:endCxn id="210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3" name="AutoShape 30"/>
          <p:cNvCxnSpPr>
            <a:stCxn id="210" idx="7"/>
            <a:endCxn id="207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FEC1-8A55-434D-99C1-E700F79AA54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otation and Terminolog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1219320"/>
            <a:ext cx="845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 terminology as used in AM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1808640" y="4800600"/>
            <a:ext cx="35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de s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= {1, 2, 3, 4}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841760" y="4343400"/>
            <a:ext cx="277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G = (N, A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9" name="Group 88"/>
          <p:cNvGrpSpPr/>
          <p:nvPr/>
        </p:nvGrpSpPr>
        <p:grpSpPr>
          <a:xfrm>
            <a:off x="1848240" y="5241960"/>
            <a:ext cx="6114600" cy="381600"/>
            <a:chOff x="1848240" y="5241960"/>
            <a:chExt cx="6114600" cy="381600"/>
          </a:xfrm>
        </p:grpSpPr>
        <p:sp>
          <p:nvSpPr>
            <p:cNvPr id="230" name="Rectangle 32"/>
            <p:cNvSpPr/>
            <p:nvPr/>
          </p:nvSpPr>
          <p:spPr>
            <a:xfrm>
              <a:off x="1848240" y="5257440"/>
              <a:ext cx="106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rc Se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3124080" y="5241960"/>
              <a:ext cx="483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 =  {(1,2), (1,3), (3,2), (3,4), (2,4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2" name="Group 86"/>
          <p:cNvGrpSpPr/>
          <p:nvPr/>
        </p:nvGrpSpPr>
        <p:grpSpPr>
          <a:xfrm>
            <a:off x="1293840" y="1828800"/>
            <a:ext cx="2657160" cy="2149200"/>
            <a:chOff x="1293840" y="1828800"/>
            <a:chExt cx="2657160" cy="2149200"/>
          </a:xfrm>
        </p:grpSpPr>
        <p:sp>
          <p:nvSpPr>
            <p:cNvPr id="233" name="Line 42"/>
            <p:cNvSpPr/>
            <p:nvPr/>
          </p:nvSpPr>
          <p:spPr>
            <a:xfrm flipV="1">
              <a:off x="1739880" y="2103120"/>
              <a:ext cx="1079640" cy="176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43"/>
            <p:cNvSpPr/>
            <p:nvPr/>
          </p:nvSpPr>
          <p:spPr>
            <a:xfrm>
              <a:off x="1714680" y="3111480"/>
              <a:ext cx="1066680" cy="12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Line 44"/>
            <p:cNvSpPr/>
            <p:nvPr/>
          </p:nvSpPr>
          <p:spPr>
            <a:xfrm flipH="1">
              <a:off x="1561680" y="2298600"/>
              <a:ext cx="12600" cy="673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45"/>
            <p:cNvSpPr/>
            <p:nvPr/>
          </p:nvSpPr>
          <p:spPr>
            <a:xfrm flipV="1">
              <a:off x="1689120" y="2209680"/>
              <a:ext cx="1092240" cy="7876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Line 46"/>
            <p:cNvSpPr/>
            <p:nvPr/>
          </p:nvSpPr>
          <p:spPr>
            <a:xfrm>
              <a:off x="2971800" y="2255760"/>
              <a:ext cx="0" cy="68580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Oval 47"/>
            <p:cNvSpPr/>
            <p:nvPr/>
          </p:nvSpPr>
          <p:spPr>
            <a:xfrm>
              <a:off x="2774880" y="1949400"/>
              <a:ext cx="343080" cy="343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2882880" y="20192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2787480" y="2927520"/>
              <a:ext cx="343080" cy="3427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Rectangle 50"/>
            <p:cNvSpPr/>
            <p:nvPr/>
          </p:nvSpPr>
          <p:spPr>
            <a:xfrm>
              <a:off x="2895480" y="299736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1390680" y="2927520"/>
              <a:ext cx="342720" cy="3427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52"/>
            <p:cNvSpPr/>
            <p:nvPr/>
          </p:nvSpPr>
          <p:spPr>
            <a:xfrm>
              <a:off x="1498680" y="299736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>
              <a:off x="1390680" y="1949400"/>
              <a:ext cx="342720" cy="343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Rectangle 54"/>
            <p:cNvSpPr/>
            <p:nvPr/>
          </p:nvSpPr>
          <p:spPr>
            <a:xfrm>
              <a:off x="1498680" y="20192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Rectangle 55"/>
            <p:cNvSpPr/>
            <p:nvPr/>
          </p:nvSpPr>
          <p:spPr>
            <a:xfrm>
              <a:off x="1371600" y="240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56"/>
            <p:cNvSpPr/>
            <p:nvPr/>
          </p:nvSpPr>
          <p:spPr>
            <a:xfrm>
              <a:off x="2044440" y="1828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Rectangle 57"/>
            <p:cNvSpPr/>
            <p:nvPr/>
          </p:nvSpPr>
          <p:spPr>
            <a:xfrm>
              <a:off x="2044800" y="23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Rectangle 58"/>
            <p:cNvSpPr/>
            <p:nvPr/>
          </p:nvSpPr>
          <p:spPr>
            <a:xfrm>
              <a:off x="2018880" y="308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Rectangle 59"/>
            <p:cNvSpPr/>
            <p:nvPr/>
          </p:nvSpPr>
          <p:spPr>
            <a:xfrm>
              <a:off x="3086280" y="2502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Rectangle 60"/>
            <p:cNvSpPr/>
            <p:nvPr/>
          </p:nvSpPr>
          <p:spPr>
            <a:xfrm>
              <a:off x="1293840" y="3429000"/>
              <a:ext cx="2657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n Undirected Graph or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directed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2" name="Group 87"/>
          <p:cNvGrpSpPr/>
          <p:nvPr/>
        </p:nvGrpSpPr>
        <p:grpSpPr>
          <a:xfrm>
            <a:off x="5029200" y="1828800"/>
            <a:ext cx="2350080" cy="2149200"/>
            <a:chOff x="5029200" y="1828800"/>
            <a:chExt cx="2350080" cy="2149200"/>
          </a:xfrm>
        </p:grpSpPr>
        <p:sp>
          <p:nvSpPr>
            <p:cNvPr id="253" name="Oval 62"/>
            <p:cNvSpPr/>
            <p:nvPr/>
          </p:nvSpPr>
          <p:spPr>
            <a:xfrm>
              <a:off x="6432480" y="19494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Rectangle 63"/>
            <p:cNvSpPr/>
            <p:nvPr/>
          </p:nvSpPr>
          <p:spPr>
            <a:xfrm>
              <a:off x="6540480" y="201924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Oval 64"/>
            <p:cNvSpPr/>
            <p:nvPr/>
          </p:nvSpPr>
          <p:spPr>
            <a:xfrm>
              <a:off x="6445080" y="29275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Rectangle 65"/>
            <p:cNvSpPr/>
            <p:nvPr/>
          </p:nvSpPr>
          <p:spPr>
            <a:xfrm>
              <a:off x="6553080" y="299736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Oval 66"/>
            <p:cNvSpPr/>
            <p:nvPr/>
          </p:nvSpPr>
          <p:spPr>
            <a:xfrm>
              <a:off x="5048280" y="29275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Rectangle 67"/>
            <p:cNvSpPr/>
            <p:nvPr/>
          </p:nvSpPr>
          <p:spPr>
            <a:xfrm>
              <a:off x="5156280" y="299736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Oval 68"/>
            <p:cNvSpPr/>
            <p:nvPr/>
          </p:nvSpPr>
          <p:spPr>
            <a:xfrm>
              <a:off x="5048280" y="19494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Rectangle 69"/>
            <p:cNvSpPr/>
            <p:nvPr/>
          </p:nvSpPr>
          <p:spPr>
            <a:xfrm>
              <a:off x="5156280" y="201924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Arc 70"/>
            <p:cNvSpPr/>
            <p:nvPr/>
          </p:nvSpPr>
          <p:spPr>
            <a:xfrm>
              <a:off x="6248520" y="204480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Line 71"/>
            <p:cNvSpPr/>
            <p:nvPr/>
          </p:nvSpPr>
          <p:spPr>
            <a:xfrm>
              <a:off x="5397480" y="2121120"/>
              <a:ext cx="86364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Arc 72"/>
            <p:cNvSpPr/>
            <p:nvPr/>
          </p:nvSpPr>
          <p:spPr>
            <a:xfrm>
              <a:off x="6273720" y="303552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Line 73"/>
            <p:cNvSpPr/>
            <p:nvPr/>
          </p:nvSpPr>
          <p:spPr>
            <a:xfrm>
              <a:off x="5372280" y="3111480"/>
              <a:ext cx="91440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Arc 74"/>
            <p:cNvSpPr/>
            <p:nvPr/>
          </p:nvSpPr>
          <p:spPr>
            <a:xfrm>
              <a:off x="6578640" y="27180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Line 75"/>
            <p:cNvSpPr/>
            <p:nvPr/>
          </p:nvSpPr>
          <p:spPr>
            <a:xfrm>
              <a:off x="6642000" y="2273400"/>
              <a:ext cx="180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Arc 76"/>
            <p:cNvSpPr/>
            <p:nvPr/>
          </p:nvSpPr>
          <p:spPr>
            <a:xfrm>
              <a:off x="5168880" y="27306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77"/>
            <p:cNvSpPr/>
            <p:nvPr/>
          </p:nvSpPr>
          <p:spPr>
            <a:xfrm>
              <a:off x="5232240" y="2298600"/>
              <a:ext cx="18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Arc 78"/>
            <p:cNvSpPr/>
            <p:nvPr/>
          </p:nvSpPr>
          <p:spPr>
            <a:xfrm>
              <a:off x="6276960" y="2209680"/>
              <a:ext cx="18720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Line 79"/>
            <p:cNvSpPr/>
            <p:nvPr/>
          </p:nvSpPr>
          <p:spPr>
            <a:xfrm flipV="1">
              <a:off x="5346720" y="22982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Rectangle 80"/>
            <p:cNvSpPr/>
            <p:nvPr/>
          </p:nvSpPr>
          <p:spPr>
            <a:xfrm>
              <a:off x="5029200" y="240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Rectangle 81"/>
            <p:cNvSpPr/>
            <p:nvPr/>
          </p:nvSpPr>
          <p:spPr>
            <a:xfrm>
              <a:off x="5702040" y="1828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Rectangle 82"/>
            <p:cNvSpPr/>
            <p:nvPr/>
          </p:nvSpPr>
          <p:spPr>
            <a:xfrm>
              <a:off x="5702400" y="23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Rectangle 83"/>
            <p:cNvSpPr/>
            <p:nvPr/>
          </p:nvSpPr>
          <p:spPr>
            <a:xfrm>
              <a:off x="5676480" y="308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Rectangle 84"/>
            <p:cNvSpPr/>
            <p:nvPr/>
          </p:nvSpPr>
          <p:spPr>
            <a:xfrm>
              <a:off x="6743880" y="2502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Rectangle 85"/>
            <p:cNvSpPr/>
            <p:nvPr/>
          </p:nvSpPr>
          <p:spPr>
            <a:xfrm>
              <a:off x="5142960" y="3429000"/>
              <a:ext cx="2236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 Directed Graph or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irected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7" name="Text Box 89"/>
          <p:cNvSpPr/>
          <p:nvPr/>
        </p:nvSpPr>
        <p:spPr>
          <a:xfrm>
            <a:off x="1828800" y="59436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an undirected graph, (i,j) = (j,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76320" y="1787400"/>
            <a:ext cx="5410080" cy="134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Path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Example:  1, 2, 5, 3, 4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(or 1, a, 2, c, 5, d, 3, e, 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mportan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76320" y="3179880"/>
            <a:ext cx="5410080" cy="1646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cle (or circuit or loop)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1, 2, 3, 1.  (or 1, a, 2, b, 3, e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 path with 2 or more nodes, except that the first node is the last nod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gno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76320" y="152280"/>
            <a:ext cx="54100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th: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Example:  5, 2, 3, 4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or 5, c, 2, b, 3, e, 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gno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76320" y="4876920"/>
            <a:ext cx="5410080" cy="134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Cycl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1, 2, 3, 4, 1) 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1, a, 2, b, 3, c, 4, d,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mportan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2" name="Group 6"/>
          <p:cNvGrpSpPr/>
          <p:nvPr/>
        </p:nvGrpSpPr>
        <p:grpSpPr>
          <a:xfrm>
            <a:off x="5943600" y="1905120"/>
            <a:ext cx="2502000" cy="960480"/>
            <a:chOff x="5943600" y="1905120"/>
            <a:chExt cx="2502000" cy="960480"/>
          </a:xfrm>
        </p:grpSpPr>
        <p:sp>
          <p:nvSpPr>
            <p:cNvPr id="283" name="Oval 7"/>
            <p:cNvSpPr/>
            <p:nvPr/>
          </p:nvSpPr>
          <p:spPr>
            <a:xfrm>
              <a:off x="5943600" y="2538360"/>
              <a:ext cx="37620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Oval 8"/>
            <p:cNvSpPr/>
            <p:nvPr/>
          </p:nvSpPr>
          <p:spPr>
            <a:xfrm>
              <a:off x="6669000" y="2538360"/>
              <a:ext cx="32724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Rectangle 9"/>
            <p:cNvSpPr/>
            <p:nvPr/>
          </p:nvSpPr>
          <p:spPr>
            <a:xfrm>
              <a:off x="6802200" y="2544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10"/>
            <p:cNvSpPr/>
            <p:nvPr/>
          </p:nvSpPr>
          <p:spPr>
            <a:xfrm>
              <a:off x="7392960" y="2538360"/>
              <a:ext cx="32688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Rectangle 11"/>
            <p:cNvSpPr/>
            <p:nvPr/>
          </p:nvSpPr>
          <p:spPr>
            <a:xfrm>
              <a:off x="7526160" y="2521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12"/>
            <p:cNvSpPr/>
            <p:nvPr/>
          </p:nvSpPr>
          <p:spPr>
            <a:xfrm>
              <a:off x="8070840" y="2538360"/>
              <a:ext cx="37476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Rectangle 13"/>
            <p:cNvSpPr/>
            <p:nvPr/>
          </p:nvSpPr>
          <p:spPr>
            <a:xfrm>
              <a:off x="8202600" y="2544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6451560" y="24242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Line 15"/>
            <p:cNvSpPr/>
            <p:nvPr/>
          </p:nvSpPr>
          <p:spPr>
            <a:xfrm>
              <a:off x="7024680" y="2725560"/>
              <a:ext cx="363600" cy="1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16"/>
            <p:cNvSpPr/>
            <p:nvPr/>
          </p:nvSpPr>
          <p:spPr>
            <a:xfrm>
              <a:off x="7151760" y="2424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17"/>
            <p:cNvSpPr/>
            <p:nvPr/>
          </p:nvSpPr>
          <p:spPr>
            <a:xfrm>
              <a:off x="6845400" y="2133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18"/>
            <p:cNvSpPr/>
            <p:nvPr/>
          </p:nvSpPr>
          <p:spPr>
            <a:xfrm>
              <a:off x="6087960" y="2544840"/>
              <a:ext cx="120960" cy="2595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Oval 19"/>
            <p:cNvSpPr/>
            <p:nvPr/>
          </p:nvSpPr>
          <p:spPr>
            <a:xfrm>
              <a:off x="7086600" y="1905120"/>
              <a:ext cx="3268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6" name="Group 20"/>
            <p:cNvGrpSpPr/>
            <p:nvPr/>
          </p:nvGrpSpPr>
          <p:grpSpPr>
            <a:xfrm>
              <a:off x="6324480" y="2209320"/>
              <a:ext cx="1764000" cy="518040"/>
              <a:chOff x="6324480" y="2209320"/>
              <a:chExt cx="1764000" cy="518040"/>
            </a:xfrm>
          </p:grpSpPr>
          <p:sp>
            <p:nvSpPr>
              <p:cNvPr id="297" name="Line 21"/>
              <p:cNvSpPr/>
              <p:nvPr/>
            </p:nvSpPr>
            <p:spPr>
              <a:xfrm>
                <a:off x="6324480" y="2725560"/>
                <a:ext cx="33840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Line 22"/>
              <p:cNvSpPr/>
              <p:nvPr/>
            </p:nvSpPr>
            <p:spPr>
              <a:xfrm>
                <a:off x="7750080" y="2725560"/>
                <a:ext cx="33840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Line 23"/>
              <p:cNvSpPr/>
              <p:nvPr/>
            </p:nvSpPr>
            <p:spPr>
              <a:xfrm flipV="1">
                <a:off x="6858000" y="2209320"/>
                <a:ext cx="30492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Line 24"/>
              <p:cNvSpPr/>
              <p:nvPr/>
            </p:nvSpPr>
            <p:spPr>
              <a:xfrm>
                <a:off x="7315200" y="2209680"/>
                <a:ext cx="22860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1" name="Rectangle 25"/>
            <p:cNvSpPr/>
            <p:nvPr/>
          </p:nvSpPr>
          <p:spPr>
            <a:xfrm>
              <a:off x="7461360" y="21337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7835760" y="2438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3" name="Group 27"/>
          <p:cNvGrpSpPr/>
          <p:nvPr/>
        </p:nvGrpSpPr>
        <p:grpSpPr>
          <a:xfrm>
            <a:off x="5867280" y="3200400"/>
            <a:ext cx="1800000" cy="1616040"/>
            <a:chOff x="5867280" y="3200400"/>
            <a:chExt cx="1800000" cy="1616040"/>
          </a:xfrm>
        </p:grpSpPr>
        <p:sp>
          <p:nvSpPr>
            <p:cNvPr id="304" name="Oval 28"/>
            <p:cNvSpPr/>
            <p:nvPr/>
          </p:nvSpPr>
          <p:spPr>
            <a:xfrm>
              <a:off x="5867280" y="3768840"/>
              <a:ext cx="3142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Oval 29"/>
            <p:cNvSpPr/>
            <p:nvPr/>
          </p:nvSpPr>
          <p:spPr>
            <a:xfrm>
              <a:off x="6651360" y="3217680"/>
              <a:ext cx="279360" cy="27972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Rectangle 30"/>
            <p:cNvSpPr/>
            <p:nvPr/>
          </p:nvSpPr>
          <p:spPr>
            <a:xfrm>
              <a:off x="6748200" y="3200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Oval 31"/>
            <p:cNvSpPr/>
            <p:nvPr/>
          </p:nvSpPr>
          <p:spPr>
            <a:xfrm>
              <a:off x="7389720" y="3794040"/>
              <a:ext cx="2775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Rectangle 32"/>
            <p:cNvSpPr/>
            <p:nvPr/>
          </p:nvSpPr>
          <p:spPr>
            <a:xfrm>
              <a:off x="7495920" y="38656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Oval 33"/>
            <p:cNvSpPr/>
            <p:nvPr/>
          </p:nvSpPr>
          <p:spPr>
            <a:xfrm>
              <a:off x="6651360" y="4537080"/>
              <a:ext cx="2793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Rectangle 34"/>
            <p:cNvSpPr/>
            <p:nvPr/>
          </p:nvSpPr>
          <p:spPr>
            <a:xfrm>
              <a:off x="6760800" y="4543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 flipV="1">
              <a:off x="6175080" y="3454200"/>
              <a:ext cx="495360" cy="376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Rectangle 36"/>
            <p:cNvSpPr/>
            <p:nvPr/>
          </p:nvSpPr>
          <p:spPr>
            <a:xfrm>
              <a:off x="6347160" y="3381480"/>
              <a:ext cx="18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37"/>
            <p:cNvSpPr/>
            <p:nvPr/>
          </p:nvSpPr>
          <p:spPr>
            <a:xfrm>
              <a:off x="6911640" y="3478320"/>
              <a:ext cx="495360" cy="412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Rectangle 38"/>
            <p:cNvSpPr/>
            <p:nvPr/>
          </p:nvSpPr>
          <p:spPr>
            <a:xfrm>
              <a:off x="7057440" y="341784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 flipH="1">
              <a:off x="6911640" y="4084560"/>
              <a:ext cx="519120" cy="507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Rectangle 40"/>
            <p:cNvSpPr/>
            <p:nvPr/>
          </p:nvSpPr>
          <p:spPr>
            <a:xfrm>
              <a:off x="7116480" y="40593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 flipH="1" flipV="1">
              <a:off x="6150960" y="4034880"/>
              <a:ext cx="531720" cy="544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Rectangle 42"/>
            <p:cNvSpPr/>
            <p:nvPr/>
          </p:nvSpPr>
          <p:spPr>
            <a:xfrm>
              <a:off x="6320880" y="404820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Rectangle 43"/>
            <p:cNvSpPr/>
            <p:nvPr/>
          </p:nvSpPr>
          <p:spPr>
            <a:xfrm>
              <a:off x="5974920" y="37814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20" name="AutoShape 44"/>
            <p:cNvCxnSpPr>
              <a:stCxn id="304" idx="6"/>
              <a:endCxn id="307" idx="2"/>
            </p:cNvCxnSpPr>
            <p:nvPr/>
          </p:nvCxnSpPr>
          <p:spPr>
            <a:xfrm>
              <a:off x="6181560" y="3932280"/>
              <a:ext cx="1208880" cy="21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321" name="Rectangle 45"/>
            <p:cNvSpPr/>
            <p:nvPr/>
          </p:nvSpPr>
          <p:spPr>
            <a:xfrm>
              <a:off x="6749640" y="3638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2" name="Line 46"/>
          <p:cNvSpPr/>
          <p:nvPr/>
        </p:nvSpPr>
        <p:spPr>
          <a:xfrm>
            <a:off x="6324480" y="2741760"/>
            <a:ext cx="338400" cy="14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47"/>
          <p:cNvSpPr/>
          <p:nvPr/>
        </p:nvSpPr>
        <p:spPr>
          <a:xfrm>
            <a:off x="7750080" y="2741760"/>
            <a:ext cx="338400" cy="14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48"/>
          <p:cNvSpPr/>
          <p:nvPr/>
        </p:nvSpPr>
        <p:spPr>
          <a:xfrm flipV="1">
            <a:off x="6858000" y="2225160"/>
            <a:ext cx="304920" cy="304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49"/>
          <p:cNvSpPr/>
          <p:nvPr/>
        </p:nvSpPr>
        <p:spPr>
          <a:xfrm>
            <a:off x="7315200" y="2225520"/>
            <a:ext cx="228600" cy="304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50"/>
          <p:cNvSpPr/>
          <p:nvPr/>
        </p:nvSpPr>
        <p:spPr>
          <a:xfrm flipV="1">
            <a:off x="6172200" y="3428640"/>
            <a:ext cx="495360" cy="3762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51"/>
          <p:cNvSpPr/>
          <p:nvPr/>
        </p:nvSpPr>
        <p:spPr>
          <a:xfrm>
            <a:off x="6908760" y="3452760"/>
            <a:ext cx="495360" cy="412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28" name="AutoShape 52"/>
          <p:cNvCxnSpPr/>
          <p:nvPr/>
        </p:nvCxnSpPr>
        <p:spPr>
          <a:xfrm>
            <a:off x="6178320" y="3906360"/>
            <a:ext cx="1208520" cy="2520"/>
          </a:xfrm>
          <a:prstGeom prst="straightConnector1">
            <a:avLst/>
          </a:prstGeom>
          <a:ln cap="sq" w="57240">
            <a:solidFill>
              <a:srgbClr val="0033cc"/>
            </a:solidFill>
            <a:miter/>
            <a:tailEnd len="med" type="triangle" w="lg"/>
          </a:ln>
        </p:spPr>
      </p:cxnSp>
      <p:grpSp>
        <p:nvGrpSpPr>
          <p:cNvPr id="329" name="Group 53"/>
          <p:cNvGrpSpPr/>
          <p:nvPr/>
        </p:nvGrpSpPr>
        <p:grpSpPr>
          <a:xfrm>
            <a:off x="5867280" y="334800"/>
            <a:ext cx="2502000" cy="960480"/>
            <a:chOff x="5867280" y="334800"/>
            <a:chExt cx="2502000" cy="960480"/>
          </a:xfrm>
        </p:grpSpPr>
        <p:sp>
          <p:nvSpPr>
            <p:cNvPr id="330" name="Oval 54"/>
            <p:cNvSpPr/>
            <p:nvPr/>
          </p:nvSpPr>
          <p:spPr>
            <a:xfrm>
              <a:off x="5867280" y="968400"/>
              <a:ext cx="37620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Oval 55"/>
            <p:cNvSpPr/>
            <p:nvPr/>
          </p:nvSpPr>
          <p:spPr>
            <a:xfrm>
              <a:off x="6593040" y="968400"/>
              <a:ext cx="3268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Rectangle 56"/>
            <p:cNvSpPr/>
            <p:nvPr/>
          </p:nvSpPr>
          <p:spPr>
            <a:xfrm>
              <a:off x="6726240" y="974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Oval 57"/>
            <p:cNvSpPr/>
            <p:nvPr/>
          </p:nvSpPr>
          <p:spPr>
            <a:xfrm>
              <a:off x="7316640" y="968400"/>
              <a:ext cx="32724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Rectangle 58"/>
            <p:cNvSpPr/>
            <p:nvPr/>
          </p:nvSpPr>
          <p:spPr>
            <a:xfrm>
              <a:off x="7449840" y="950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Oval 59"/>
            <p:cNvSpPr/>
            <p:nvPr/>
          </p:nvSpPr>
          <p:spPr>
            <a:xfrm>
              <a:off x="7994520" y="968400"/>
              <a:ext cx="37476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Rectangle 60"/>
            <p:cNvSpPr/>
            <p:nvPr/>
          </p:nvSpPr>
          <p:spPr>
            <a:xfrm>
              <a:off x="8126280" y="974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Rectangle 61"/>
            <p:cNvSpPr/>
            <p:nvPr/>
          </p:nvSpPr>
          <p:spPr>
            <a:xfrm>
              <a:off x="6375240" y="8539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Line 62"/>
            <p:cNvSpPr/>
            <p:nvPr/>
          </p:nvSpPr>
          <p:spPr>
            <a:xfrm>
              <a:off x="6948360" y="1155600"/>
              <a:ext cx="363600" cy="1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Rectangle 63"/>
            <p:cNvSpPr/>
            <p:nvPr/>
          </p:nvSpPr>
          <p:spPr>
            <a:xfrm>
              <a:off x="7075800" y="853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Rectangle 64"/>
            <p:cNvSpPr/>
            <p:nvPr/>
          </p:nvSpPr>
          <p:spPr>
            <a:xfrm>
              <a:off x="6769080" y="563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Rectangle 65"/>
            <p:cNvSpPr/>
            <p:nvPr/>
          </p:nvSpPr>
          <p:spPr>
            <a:xfrm>
              <a:off x="6011640" y="974520"/>
              <a:ext cx="120960" cy="2595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Oval 66"/>
            <p:cNvSpPr/>
            <p:nvPr/>
          </p:nvSpPr>
          <p:spPr>
            <a:xfrm>
              <a:off x="7010280" y="334800"/>
              <a:ext cx="32724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3" name="Group 67"/>
            <p:cNvGrpSpPr/>
            <p:nvPr/>
          </p:nvGrpSpPr>
          <p:grpSpPr>
            <a:xfrm>
              <a:off x="6248520" y="639360"/>
              <a:ext cx="1763280" cy="518040"/>
              <a:chOff x="6248520" y="639360"/>
              <a:chExt cx="1763280" cy="518040"/>
            </a:xfrm>
          </p:grpSpPr>
          <p:sp>
            <p:nvSpPr>
              <p:cNvPr id="344" name="Line 68"/>
              <p:cNvSpPr/>
              <p:nvPr/>
            </p:nvSpPr>
            <p:spPr>
              <a:xfrm>
                <a:off x="6248520" y="1155600"/>
                <a:ext cx="33804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Line 69"/>
              <p:cNvSpPr/>
              <p:nvPr/>
            </p:nvSpPr>
            <p:spPr>
              <a:xfrm>
                <a:off x="7673760" y="1155600"/>
                <a:ext cx="33804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Line 70"/>
              <p:cNvSpPr/>
              <p:nvPr/>
            </p:nvSpPr>
            <p:spPr>
              <a:xfrm flipV="1">
                <a:off x="6781680" y="639360"/>
                <a:ext cx="30456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Line 71"/>
              <p:cNvSpPr/>
              <p:nvPr/>
            </p:nvSpPr>
            <p:spPr>
              <a:xfrm>
                <a:off x="7238880" y="639720"/>
                <a:ext cx="22824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8" name="Rectangle 72"/>
            <p:cNvSpPr/>
            <p:nvPr/>
          </p:nvSpPr>
          <p:spPr>
            <a:xfrm>
              <a:off x="7385400" y="5634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Rectangle 73"/>
            <p:cNvSpPr/>
            <p:nvPr/>
          </p:nvSpPr>
          <p:spPr>
            <a:xfrm>
              <a:off x="7759800" y="868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0" name="Line 74"/>
          <p:cNvSpPr/>
          <p:nvPr/>
        </p:nvSpPr>
        <p:spPr>
          <a:xfrm flipV="1">
            <a:off x="6832440" y="639720"/>
            <a:ext cx="254160" cy="2620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75"/>
          <p:cNvSpPr/>
          <p:nvPr/>
        </p:nvSpPr>
        <p:spPr>
          <a:xfrm>
            <a:off x="6934320" y="1173240"/>
            <a:ext cx="38088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76"/>
          <p:cNvSpPr/>
          <p:nvPr/>
        </p:nvSpPr>
        <p:spPr>
          <a:xfrm>
            <a:off x="7620120" y="1173240"/>
            <a:ext cx="38088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3" name="Group 77"/>
          <p:cNvGrpSpPr/>
          <p:nvPr/>
        </p:nvGrpSpPr>
        <p:grpSpPr>
          <a:xfrm>
            <a:off x="6810480" y="4800600"/>
            <a:ext cx="1800000" cy="1616040"/>
            <a:chOff x="6810480" y="4800600"/>
            <a:chExt cx="1800000" cy="1616040"/>
          </a:xfrm>
        </p:grpSpPr>
        <p:sp>
          <p:nvSpPr>
            <p:cNvPr id="354" name="Oval 78"/>
            <p:cNvSpPr/>
            <p:nvPr/>
          </p:nvSpPr>
          <p:spPr>
            <a:xfrm>
              <a:off x="6810480" y="5369040"/>
              <a:ext cx="3142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Oval 79"/>
            <p:cNvSpPr/>
            <p:nvPr/>
          </p:nvSpPr>
          <p:spPr>
            <a:xfrm>
              <a:off x="7594560" y="4817880"/>
              <a:ext cx="279360" cy="27972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Rectangle 80"/>
            <p:cNvSpPr/>
            <p:nvPr/>
          </p:nvSpPr>
          <p:spPr>
            <a:xfrm>
              <a:off x="7691400" y="48006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Oval 81"/>
            <p:cNvSpPr/>
            <p:nvPr/>
          </p:nvSpPr>
          <p:spPr>
            <a:xfrm>
              <a:off x="8332920" y="5394240"/>
              <a:ext cx="2775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Rectangle 82"/>
            <p:cNvSpPr/>
            <p:nvPr/>
          </p:nvSpPr>
          <p:spPr>
            <a:xfrm>
              <a:off x="8439120" y="54658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Oval 83"/>
            <p:cNvSpPr/>
            <p:nvPr/>
          </p:nvSpPr>
          <p:spPr>
            <a:xfrm>
              <a:off x="7594560" y="6137280"/>
              <a:ext cx="2793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Rectangle 84"/>
            <p:cNvSpPr/>
            <p:nvPr/>
          </p:nvSpPr>
          <p:spPr>
            <a:xfrm>
              <a:off x="7704000" y="6143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Line 85"/>
            <p:cNvSpPr/>
            <p:nvPr/>
          </p:nvSpPr>
          <p:spPr>
            <a:xfrm flipV="1">
              <a:off x="7118280" y="5054400"/>
              <a:ext cx="495360" cy="376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Rectangle 86"/>
            <p:cNvSpPr/>
            <p:nvPr/>
          </p:nvSpPr>
          <p:spPr>
            <a:xfrm>
              <a:off x="7290360" y="4981680"/>
              <a:ext cx="18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Line 87"/>
            <p:cNvSpPr/>
            <p:nvPr/>
          </p:nvSpPr>
          <p:spPr>
            <a:xfrm>
              <a:off x="7854840" y="5078520"/>
              <a:ext cx="495360" cy="412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Rectangle 88"/>
            <p:cNvSpPr/>
            <p:nvPr/>
          </p:nvSpPr>
          <p:spPr>
            <a:xfrm>
              <a:off x="8000640" y="501804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Line 89"/>
            <p:cNvSpPr/>
            <p:nvPr/>
          </p:nvSpPr>
          <p:spPr>
            <a:xfrm flipH="1">
              <a:off x="7854840" y="5684760"/>
              <a:ext cx="519120" cy="507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Rectangle 90"/>
            <p:cNvSpPr/>
            <p:nvPr/>
          </p:nvSpPr>
          <p:spPr>
            <a:xfrm>
              <a:off x="8059680" y="5659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Line 91"/>
            <p:cNvSpPr/>
            <p:nvPr/>
          </p:nvSpPr>
          <p:spPr>
            <a:xfrm flipH="1" flipV="1">
              <a:off x="7094160" y="5635080"/>
              <a:ext cx="531720" cy="544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Rectangle 92"/>
            <p:cNvSpPr/>
            <p:nvPr/>
          </p:nvSpPr>
          <p:spPr>
            <a:xfrm>
              <a:off x="7264080" y="564840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Rectangle 93"/>
            <p:cNvSpPr/>
            <p:nvPr/>
          </p:nvSpPr>
          <p:spPr>
            <a:xfrm>
              <a:off x="6918120" y="53816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70" name="AutoShape 94"/>
            <p:cNvCxnSpPr>
              <a:stCxn id="354" idx="6"/>
              <a:endCxn id="357" idx="2"/>
            </p:cNvCxnSpPr>
            <p:nvPr/>
          </p:nvCxnSpPr>
          <p:spPr>
            <a:xfrm>
              <a:off x="7124760" y="5532480"/>
              <a:ext cx="1208880" cy="21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371" name="Rectangle 95"/>
            <p:cNvSpPr/>
            <p:nvPr/>
          </p:nvSpPr>
          <p:spPr>
            <a:xfrm>
              <a:off x="7692840" y="5238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2" name="Line 96"/>
          <p:cNvSpPr/>
          <p:nvPr/>
        </p:nvSpPr>
        <p:spPr>
          <a:xfrm flipV="1">
            <a:off x="7110360" y="5028840"/>
            <a:ext cx="495360" cy="3762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97"/>
          <p:cNvSpPr/>
          <p:nvPr/>
        </p:nvSpPr>
        <p:spPr>
          <a:xfrm>
            <a:off x="7846920" y="5052960"/>
            <a:ext cx="495360" cy="412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98"/>
          <p:cNvSpPr/>
          <p:nvPr/>
        </p:nvSpPr>
        <p:spPr>
          <a:xfrm flipH="1">
            <a:off x="7846920" y="5659560"/>
            <a:ext cx="519120" cy="5079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99"/>
          <p:cNvSpPr/>
          <p:nvPr/>
        </p:nvSpPr>
        <p:spPr>
          <a:xfrm flipH="1" flipV="1">
            <a:off x="7086240" y="5610240"/>
            <a:ext cx="531720" cy="5443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BDCA-1E8C-4446-B66C-E8F9B549148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alk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054440" y="1143000"/>
            <a:ext cx="1846080" cy="2387160"/>
            <a:chOff x="1054440" y="1143000"/>
            <a:chExt cx="1846080" cy="2387160"/>
          </a:xfrm>
        </p:grpSpPr>
        <p:sp>
          <p:nvSpPr>
            <p:cNvPr id="379" name="Oval 4"/>
            <p:cNvSpPr/>
            <p:nvPr/>
          </p:nvSpPr>
          <p:spPr>
            <a:xfrm>
              <a:off x="2470320" y="12636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256932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>
              <a:off x="2482920" y="22417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258228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085760" y="22417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Rectangle 9"/>
            <p:cNvSpPr/>
            <p:nvPr/>
          </p:nvSpPr>
          <p:spPr>
            <a:xfrm>
              <a:off x="118512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085760" y="12636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Rectangle 11"/>
            <p:cNvSpPr/>
            <p:nvPr/>
          </p:nvSpPr>
          <p:spPr>
            <a:xfrm>
              <a:off x="118512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Arc 12"/>
            <p:cNvSpPr/>
            <p:nvPr/>
          </p:nvSpPr>
          <p:spPr>
            <a:xfrm>
              <a:off x="2286000" y="135900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13"/>
            <p:cNvSpPr/>
            <p:nvPr/>
          </p:nvSpPr>
          <p:spPr>
            <a:xfrm>
              <a:off x="1434960" y="1434960"/>
              <a:ext cx="8636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Arc 14"/>
            <p:cNvSpPr/>
            <p:nvPr/>
          </p:nvSpPr>
          <p:spPr>
            <a:xfrm>
              <a:off x="2311560" y="234936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1409760" y="2425680"/>
              <a:ext cx="91440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Arc 16"/>
            <p:cNvSpPr/>
            <p:nvPr/>
          </p:nvSpPr>
          <p:spPr>
            <a:xfrm>
              <a:off x="2616120" y="2031840"/>
              <a:ext cx="154080" cy="190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>
              <a:off x="2679840" y="1587600"/>
              <a:ext cx="144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Arc 18"/>
            <p:cNvSpPr/>
            <p:nvPr/>
          </p:nvSpPr>
          <p:spPr>
            <a:xfrm>
              <a:off x="1206360" y="20448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19"/>
            <p:cNvSpPr/>
            <p:nvPr/>
          </p:nvSpPr>
          <p:spPr>
            <a:xfrm>
              <a:off x="1270080" y="1612800"/>
              <a:ext cx="144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Arc 20"/>
            <p:cNvSpPr/>
            <p:nvPr/>
          </p:nvSpPr>
          <p:spPr>
            <a:xfrm>
              <a:off x="2314440" y="1523880"/>
              <a:ext cx="18756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21"/>
            <p:cNvSpPr/>
            <p:nvPr/>
          </p:nvSpPr>
          <p:spPr>
            <a:xfrm flipV="1">
              <a:off x="1384200" y="16124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22"/>
            <p:cNvSpPr/>
            <p:nvPr/>
          </p:nvSpPr>
          <p:spPr>
            <a:xfrm>
              <a:off x="1054440" y="171468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23"/>
            <p:cNvSpPr/>
            <p:nvPr/>
          </p:nvSpPr>
          <p:spPr>
            <a:xfrm>
              <a:off x="1730880" y="11430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24"/>
            <p:cNvSpPr/>
            <p:nvPr/>
          </p:nvSpPr>
          <p:spPr>
            <a:xfrm>
              <a:off x="1731600" y="1689120"/>
              <a:ext cx="1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25"/>
            <p:cNvSpPr/>
            <p:nvPr/>
          </p:nvSpPr>
          <p:spPr>
            <a:xfrm>
              <a:off x="1705320" y="240048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26"/>
            <p:cNvSpPr/>
            <p:nvPr/>
          </p:nvSpPr>
          <p:spPr>
            <a:xfrm>
              <a:off x="2764080" y="181620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2" name="Group 27"/>
            <p:cNvGrpSpPr/>
            <p:nvPr/>
          </p:nvGrpSpPr>
          <p:grpSpPr>
            <a:xfrm>
              <a:off x="1828800" y="3124080"/>
              <a:ext cx="565200" cy="406080"/>
              <a:chOff x="1828800" y="3124080"/>
              <a:chExt cx="565200" cy="406080"/>
            </a:xfrm>
          </p:grpSpPr>
          <p:sp>
            <p:nvSpPr>
              <p:cNvPr id="403" name="Oval 28"/>
              <p:cNvSpPr/>
              <p:nvPr/>
            </p:nvSpPr>
            <p:spPr>
              <a:xfrm>
                <a:off x="1828800" y="3124080"/>
                <a:ext cx="343080" cy="342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Text Box 29"/>
              <p:cNvSpPr/>
              <p:nvPr/>
            </p:nvSpPr>
            <p:spPr>
              <a:xfrm>
                <a:off x="1860480" y="31618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5" name="Line 30"/>
            <p:cNvSpPr/>
            <p:nvPr/>
          </p:nvSpPr>
          <p:spPr>
            <a:xfrm flipH="1">
              <a:off x="2133720" y="2590920"/>
              <a:ext cx="457200" cy="53316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31"/>
            <p:cNvSpPr/>
            <p:nvPr/>
          </p:nvSpPr>
          <p:spPr>
            <a:xfrm flipH="1" flipV="1">
              <a:off x="1371600" y="2590560"/>
              <a:ext cx="457200" cy="68580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4648320" y="1143000"/>
            <a:ext cx="1846080" cy="2387160"/>
            <a:chOff x="4648320" y="1143000"/>
            <a:chExt cx="1846080" cy="2387160"/>
          </a:xfrm>
        </p:grpSpPr>
        <p:sp>
          <p:nvSpPr>
            <p:cNvPr id="408" name="Oval 33"/>
            <p:cNvSpPr/>
            <p:nvPr/>
          </p:nvSpPr>
          <p:spPr>
            <a:xfrm>
              <a:off x="6064200" y="12636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16356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Oval 35"/>
            <p:cNvSpPr/>
            <p:nvPr/>
          </p:nvSpPr>
          <p:spPr>
            <a:xfrm>
              <a:off x="6076800" y="22417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36"/>
            <p:cNvSpPr/>
            <p:nvPr/>
          </p:nvSpPr>
          <p:spPr>
            <a:xfrm>
              <a:off x="617616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Oval 37"/>
            <p:cNvSpPr/>
            <p:nvPr/>
          </p:nvSpPr>
          <p:spPr>
            <a:xfrm>
              <a:off x="4680000" y="22417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38"/>
            <p:cNvSpPr/>
            <p:nvPr/>
          </p:nvSpPr>
          <p:spPr>
            <a:xfrm>
              <a:off x="477936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Oval 39"/>
            <p:cNvSpPr/>
            <p:nvPr/>
          </p:nvSpPr>
          <p:spPr>
            <a:xfrm>
              <a:off x="4680000" y="12636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Rectangle 40"/>
            <p:cNvSpPr/>
            <p:nvPr/>
          </p:nvSpPr>
          <p:spPr>
            <a:xfrm>
              <a:off x="477936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Arc 41"/>
            <p:cNvSpPr/>
            <p:nvPr/>
          </p:nvSpPr>
          <p:spPr>
            <a:xfrm>
              <a:off x="5880240" y="135900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42"/>
            <p:cNvSpPr/>
            <p:nvPr/>
          </p:nvSpPr>
          <p:spPr>
            <a:xfrm>
              <a:off x="5029200" y="1434960"/>
              <a:ext cx="8636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Arc 43"/>
            <p:cNvSpPr/>
            <p:nvPr/>
          </p:nvSpPr>
          <p:spPr>
            <a:xfrm>
              <a:off x="5905440" y="234936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Line 44"/>
            <p:cNvSpPr/>
            <p:nvPr/>
          </p:nvSpPr>
          <p:spPr>
            <a:xfrm>
              <a:off x="5003640" y="2425680"/>
              <a:ext cx="91440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Arc 45"/>
            <p:cNvSpPr/>
            <p:nvPr/>
          </p:nvSpPr>
          <p:spPr>
            <a:xfrm>
              <a:off x="6210360" y="2031840"/>
              <a:ext cx="154080" cy="190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46"/>
            <p:cNvSpPr/>
            <p:nvPr/>
          </p:nvSpPr>
          <p:spPr>
            <a:xfrm>
              <a:off x="6273720" y="1587600"/>
              <a:ext cx="180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Arc 47"/>
            <p:cNvSpPr/>
            <p:nvPr/>
          </p:nvSpPr>
          <p:spPr>
            <a:xfrm>
              <a:off x="4800600" y="20448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Line 48"/>
            <p:cNvSpPr/>
            <p:nvPr/>
          </p:nvSpPr>
          <p:spPr>
            <a:xfrm>
              <a:off x="4863960" y="1612800"/>
              <a:ext cx="18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Arc 49"/>
            <p:cNvSpPr/>
            <p:nvPr/>
          </p:nvSpPr>
          <p:spPr>
            <a:xfrm>
              <a:off x="5908680" y="1523880"/>
              <a:ext cx="18720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16124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Rectangle 51"/>
            <p:cNvSpPr/>
            <p:nvPr/>
          </p:nvSpPr>
          <p:spPr>
            <a:xfrm>
              <a:off x="4648320" y="171468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Rectangle 52"/>
            <p:cNvSpPr/>
            <p:nvPr/>
          </p:nvSpPr>
          <p:spPr>
            <a:xfrm>
              <a:off x="5324760" y="11430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Rectangle 53"/>
            <p:cNvSpPr/>
            <p:nvPr/>
          </p:nvSpPr>
          <p:spPr>
            <a:xfrm>
              <a:off x="5325840" y="1689120"/>
              <a:ext cx="1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Rectangle 54"/>
            <p:cNvSpPr/>
            <p:nvPr/>
          </p:nvSpPr>
          <p:spPr>
            <a:xfrm>
              <a:off x="5299560" y="240048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Rectangle 55"/>
            <p:cNvSpPr/>
            <p:nvPr/>
          </p:nvSpPr>
          <p:spPr>
            <a:xfrm>
              <a:off x="6357960" y="181620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1" name="Group 56"/>
            <p:cNvGrpSpPr/>
            <p:nvPr/>
          </p:nvGrpSpPr>
          <p:grpSpPr>
            <a:xfrm>
              <a:off x="5423040" y="3124080"/>
              <a:ext cx="564480" cy="406080"/>
              <a:chOff x="5423040" y="3124080"/>
              <a:chExt cx="564480" cy="406080"/>
            </a:xfrm>
          </p:grpSpPr>
          <p:sp>
            <p:nvSpPr>
              <p:cNvPr id="432" name="Oval 57"/>
              <p:cNvSpPr/>
              <p:nvPr/>
            </p:nvSpPr>
            <p:spPr>
              <a:xfrm>
                <a:off x="5423040" y="3124080"/>
                <a:ext cx="342720" cy="342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Text Box 58"/>
              <p:cNvSpPr/>
              <p:nvPr/>
            </p:nvSpPr>
            <p:spPr>
              <a:xfrm>
                <a:off x="5454360" y="3161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59"/>
            <p:cNvSpPr/>
            <p:nvPr/>
          </p:nvSpPr>
          <p:spPr>
            <a:xfrm flipH="1">
              <a:off x="5727600" y="2590920"/>
              <a:ext cx="457200" cy="53316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60"/>
            <p:cNvSpPr/>
            <p:nvPr/>
          </p:nvSpPr>
          <p:spPr>
            <a:xfrm flipH="1" flipV="1">
              <a:off x="4965840" y="2590560"/>
              <a:ext cx="457200" cy="68580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6" name="Text Box 61"/>
          <p:cNvSpPr/>
          <p:nvPr/>
        </p:nvSpPr>
        <p:spPr>
          <a:xfrm>
            <a:off x="762120" y="38257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alk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re paths that can repeat nodes and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Text Box 62"/>
          <p:cNvSpPr/>
          <p:nvPr/>
        </p:nvSpPr>
        <p:spPr>
          <a:xfrm>
            <a:off x="762120" y="42829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of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wal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 1-2-3-5-4-2-3-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63"/>
          <p:cNvSpPr/>
          <p:nvPr/>
        </p:nvSpPr>
        <p:spPr>
          <a:xfrm>
            <a:off x="6248520" y="1600200"/>
            <a:ext cx="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64"/>
          <p:cNvSpPr/>
          <p:nvPr/>
        </p:nvSpPr>
        <p:spPr>
          <a:xfrm flipH="1">
            <a:off x="5715000" y="2590920"/>
            <a:ext cx="45720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65"/>
          <p:cNvSpPr/>
          <p:nvPr/>
        </p:nvSpPr>
        <p:spPr>
          <a:xfrm>
            <a:off x="5029200" y="144792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66"/>
          <p:cNvSpPr/>
          <p:nvPr/>
        </p:nvSpPr>
        <p:spPr>
          <a:xfrm flipH="1" flipV="1">
            <a:off x="4952880" y="2590560"/>
            <a:ext cx="457200" cy="6858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67"/>
          <p:cNvSpPr/>
          <p:nvPr/>
        </p:nvSpPr>
        <p:spPr>
          <a:xfrm flipV="1">
            <a:off x="5029200" y="1523520"/>
            <a:ext cx="1066680" cy="76212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68"/>
          <p:cNvSpPr/>
          <p:nvPr/>
        </p:nvSpPr>
        <p:spPr>
          <a:xfrm>
            <a:off x="6248520" y="1600200"/>
            <a:ext cx="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69"/>
          <p:cNvSpPr/>
          <p:nvPr/>
        </p:nvSpPr>
        <p:spPr>
          <a:xfrm flipH="1">
            <a:off x="5715000" y="2590920"/>
            <a:ext cx="45720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70"/>
          <p:cNvSpPr/>
          <p:nvPr/>
        </p:nvSpPr>
        <p:spPr>
          <a:xfrm>
            <a:off x="762120" y="4740120"/>
            <a:ext cx="7543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walk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los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its first and last nodes are the sa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71"/>
          <p:cNvSpPr/>
          <p:nvPr/>
        </p:nvSpPr>
        <p:spPr>
          <a:xfrm>
            <a:off x="762120" y="5121360"/>
            <a:ext cx="7543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closed walk is a cycle except that it can repeat nodes and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7" name="Group 72"/>
          <p:cNvGrpSpPr/>
          <p:nvPr/>
        </p:nvGrpSpPr>
        <p:grpSpPr>
          <a:xfrm>
            <a:off x="4952880" y="1447920"/>
            <a:ext cx="1295640" cy="1828440"/>
            <a:chOff x="4952880" y="1447920"/>
            <a:chExt cx="1295640" cy="1828440"/>
          </a:xfrm>
        </p:grpSpPr>
        <p:sp>
          <p:nvSpPr>
            <p:cNvPr id="448" name="Line 73"/>
            <p:cNvSpPr/>
            <p:nvPr/>
          </p:nvSpPr>
          <p:spPr>
            <a:xfrm>
              <a:off x="5029200" y="1447920"/>
              <a:ext cx="1066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Line 74"/>
            <p:cNvSpPr/>
            <p:nvPr/>
          </p:nvSpPr>
          <p:spPr>
            <a:xfrm flipH="1" flipV="1">
              <a:off x="4952880" y="2590560"/>
              <a:ext cx="457200" cy="68580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Line 75"/>
            <p:cNvSpPr/>
            <p:nvPr/>
          </p:nvSpPr>
          <p:spPr>
            <a:xfrm flipV="1">
              <a:off x="5029200" y="1523520"/>
              <a:ext cx="1066680" cy="76212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Line 76"/>
            <p:cNvSpPr/>
            <p:nvPr/>
          </p:nvSpPr>
          <p:spPr>
            <a:xfrm>
              <a:off x="6248520" y="1600200"/>
              <a:ext cx="0" cy="6094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Line 77"/>
            <p:cNvSpPr/>
            <p:nvPr/>
          </p:nvSpPr>
          <p:spPr>
            <a:xfrm flipH="1">
              <a:off x="5715000" y="2590920"/>
              <a:ext cx="457200" cy="5331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55CE-E94E-40F4-8D64-8CB44662C10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990720" y="5486400"/>
            <a:ext cx="76197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“walk” starting at A and ending at A and passing through each arc exactly once? 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ch a walk is called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lerian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4" name="Group 12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465" name="Text Box 13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Oval 14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7" name="Group 15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468" name="Text Box 16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7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0" name="Group 18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471" name="Text Box 19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20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3" name="Group 21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474" name="Text Box 22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Oval 23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476" name="AutoShape 24"/>
          <p:cNvCxnSpPr>
            <a:stCxn id="475" idx="1"/>
            <a:endCxn id="466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7" name="AutoShape 25"/>
          <p:cNvCxnSpPr>
            <a:stCxn id="475" idx="6"/>
            <a:endCxn id="466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8" name="AutoShape 26"/>
          <p:cNvCxnSpPr>
            <a:stCxn id="475" idx="6"/>
            <a:endCxn id="472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9" name="AutoShape 27"/>
          <p:cNvCxnSpPr>
            <a:stCxn id="475" idx="6"/>
            <a:endCxn id="469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0" name="AutoShape 28"/>
          <p:cNvCxnSpPr>
            <a:stCxn id="475" idx="4"/>
            <a:endCxn id="472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1" name="AutoShape 29"/>
          <p:cNvCxnSpPr>
            <a:stCxn id="472" idx="6"/>
            <a:endCxn id="469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2" name="AutoShape 30"/>
          <p:cNvCxnSpPr>
            <a:stCxn id="469" idx="7"/>
            <a:endCxn id="466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F8F4-1F45-48E1-BD61-2BF74FF3549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ding two bridges creates such a wal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152280" y="5105520"/>
            <a:ext cx="8534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, 1, B, 5, D, 6, B, 4, C, 8, A, 3, C, 7, D, 9, B, 2,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1143000" y="990720"/>
            <a:ext cx="5029200" cy="329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2622600" y="171144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3471840" y="17114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3944880" y="23036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952880" y="1295280"/>
            <a:ext cx="4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4957920" y="360828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3200400" y="274176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2819520" y="276552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4" name="Group 12"/>
          <p:cNvGrpSpPr/>
          <p:nvPr/>
        </p:nvGrpSpPr>
        <p:grpSpPr>
          <a:xfrm>
            <a:off x="3687840" y="990720"/>
            <a:ext cx="767880" cy="531720"/>
            <a:chOff x="3687840" y="990720"/>
            <a:chExt cx="767880" cy="531720"/>
          </a:xfrm>
        </p:grpSpPr>
        <p:sp>
          <p:nvSpPr>
            <p:cNvPr id="495" name="Text Box 13"/>
            <p:cNvSpPr/>
            <p:nvPr/>
          </p:nvSpPr>
          <p:spPr>
            <a:xfrm>
              <a:off x="3850200" y="1049760"/>
              <a:ext cx="6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Oval 14"/>
            <p:cNvSpPr/>
            <p:nvPr/>
          </p:nvSpPr>
          <p:spPr>
            <a:xfrm>
              <a:off x="3687840" y="990720"/>
              <a:ext cx="650160" cy="53172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7" name="Group 15"/>
          <p:cNvGrpSpPr/>
          <p:nvPr/>
        </p:nvGrpSpPr>
        <p:grpSpPr>
          <a:xfrm>
            <a:off x="4633920" y="2411280"/>
            <a:ext cx="756720" cy="599760"/>
            <a:chOff x="4633920" y="2411280"/>
            <a:chExt cx="756720" cy="599760"/>
          </a:xfrm>
        </p:grpSpPr>
        <p:sp>
          <p:nvSpPr>
            <p:cNvPr id="498" name="Text Box 16"/>
            <p:cNvSpPr/>
            <p:nvPr/>
          </p:nvSpPr>
          <p:spPr>
            <a:xfrm>
              <a:off x="4784040" y="2551320"/>
              <a:ext cx="6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Oval 17"/>
            <p:cNvSpPr/>
            <p:nvPr/>
          </p:nvSpPr>
          <p:spPr>
            <a:xfrm>
              <a:off x="4633920" y="2411280"/>
              <a:ext cx="650880" cy="53136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0" name="Group 18"/>
          <p:cNvGrpSpPr/>
          <p:nvPr/>
        </p:nvGrpSpPr>
        <p:grpSpPr>
          <a:xfrm>
            <a:off x="3451320" y="3654360"/>
            <a:ext cx="783720" cy="577800"/>
            <a:chOff x="3451320" y="3654360"/>
            <a:chExt cx="783720" cy="577800"/>
          </a:xfrm>
        </p:grpSpPr>
        <p:sp>
          <p:nvSpPr>
            <p:cNvPr id="501" name="Text Box 19"/>
            <p:cNvSpPr/>
            <p:nvPr/>
          </p:nvSpPr>
          <p:spPr>
            <a:xfrm>
              <a:off x="3629520" y="3772440"/>
              <a:ext cx="6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Oval 20"/>
            <p:cNvSpPr/>
            <p:nvPr/>
          </p:nvSpPr>
          <p:spPr>
            <a:xfrm>
              <a:off x="3451320" y="3654360"/>
              <a:ext cx="649800" cy="53172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3" name="Group 21"/>
          <p:cNvGrpSpPr/>
          <p:nvPr/>
        </p:nvGrpSpPr>
        <p:grpSpPr>
          <a:xfrm>
            <a:off x="2800440" y="2114640"/>
            <a:ext cx="771480" cy="549720"/>
            <a:chOff x="2800440" y="2114640"/>
            <a:chExt cx="771480" cy="549720"/>
          </a:xfrm>
        </p:grpSpPr>
        <p:sp>
          <p:nvSpPr>
            <p:cNvPr id="504" name="Text Box 22"/>
            <p:cNvSpPr/>
            <p:nvPr/>
          </p:nvSpPr>
          <p:spPr>
            <a:xfrm>
              <a:off x="2964240" y="2204640"/>
              <a:ext cx="60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Oval 23"/>
            <p:cNvSpPr/>
            <p:nvPr/>
          </p:nvSpPr>
          <p:spPr>
            <a:xfrm>
              <a:off x="2800440" y="2114640"/>
              <a:ext cx="650520" cy="532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506" name="AutoShape 24"/>
          <p:cNvCxnSpPr>
            <a:stCxn id="505" idx="1"/>
            <a:endCxn id="496" idx="2"/>
          </p:cNvCxnSpPr>
          <p:nvPr/>
        </p:nvCxnSpPr>
        <p:spPr>
          <a:xfrm flipH="1" flipV="1" rot="5400000">
            <a:off x="2823840" y="1328040"/>
            <a:ext cx="906840" cy="7642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7" name="AutoShape 25"/>
          <p:cNvCxnSpPr>
            <a:stCxn id="505" idx="6"/>
            <a:endCxn id="496" idx="3"/>
          </p:cNvCxnSpPr>
          <p:nvPr/>
        </p:nvCxnSpPr>
        <p:spPr>
          <a:xfrm flipV="1">
            <a:off x="3479760" y="1472400"/>
            <a:ext cx="303840" cy="9090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8" name="AutoShape 26"/>
          <p:cNvCxnSpPr>
            <a:stCxn id="505" idx="6"/>
            <a:endCxn id="502" idx="1"/>
          </p:cNvCxnSpPr>
          <p:nvPr/>
        </p:nvCxnSpPr>
        <p:spPr>
          <a:xfrm>
            <a:off x="3479400" y="2381040"/>
            <a:ext cx="67320" cy="13230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9" name="AutoShape 27"/>
          <p:cNvCxnSpPr>
            <a:stCxn id="505" idx="6"/>
            <a:endCxn id="499" idx="1"/>
          </p:cNvCxnSpPr>
          <p:nvPr/>
        </p:nvCxnSpPr>
        <p:spPr>
          <a:xfrm>
            <a:off x="3479400" y="2381400"/>
            <a:ext cx="1250280" cy="7992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0" name="AutoShape 28"/>
          <p:cNvCxnSpPr>
            <a:stCxn id="505" idx="4"/>
            <a:endCxn id="502" idx="2"/>
          </p:cNvCxnSpPr>
          <p:nvPr/>
        </p:nvCxnSpPr>
        <p:spPr>
          <a:xfrm flipH="1" rot="16200000">
            <a:off x="2651760" y="3150000"/>
            <a:ext cx="1245240" cy="297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1" name="AutoShape 29"/>
          <p:cNvCxnSpPr>
            <a:stCxn id="502" idx="6"/>
            <a:endCxn id="499" idx="5"/>
          </p:cNvCxnSpPr>
          <p:nvPr/>
        </p:nvCxnSpPr>
        <p:spPr>
          <a:xfrm flipV="1">
            <a:off x="4128840" y="2893320"/>
            <a:ext cx="1060920" cy="10278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2" name="AutoShape 30"/>
          <p:cNvCxnSpPr>
            <a:stCxn id="499" idx="7"/>
            <a:endCxn id="496" idx="6"/>
          </p:cNvCxnSpPr>
          <p:nvPr/>
        </p:nvCxnSpPr>
        <p:spPr>
          <a:xfrm flipV="1" rot="16200000">
            <a:off x="4176360" y="1447200"/>
            <a:ext cx="1203840" cy="8229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3" name="AutoShape 31"/>
          <p:cNvCxnSpPr/>
          <p:nvPr/>
        </p:nvCxnSpPr>
        <p:spPr>
          <a:xfrm flipH="1" rot="16200000">
            <a:off x="3987000" y="1724400"/>
            <a:ext cx="999000" cy="48672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cap="sq" w="57240">
            <a:solidFill>
              <a:srgbClr val="0000ff"/>
            </a:solidFill>
            <a:miter/>
          </a:ln>
        </p:spPr>
      </p:cxnSp>
      <p:cxnSp>
        <p:nvCxnSpPr>
          <p:cNvPr id="514" name="AutoShape 32"/>
          <p:cNvCxnSpPr>
            <a:stCxn id="504" idx="3"/>
          </p:cNvCxnSpPr>
          <p:nvPr/>
        </p:nvCxnSpPr>
        <p:spPr>
          <a:xfrm>
            <a:off x="3571920" y="2433600"/>
            <a:ext cx="435600" cy="1276920"/>
          </a:xfrm>
          <a:prstGeom prst="curvedConnector2">
            <a:avLst/>
          </a:prstGeom>
          <a:ln cap="sq" w="57240">
            <a:solidFill>
              <a:srgbClr val="0000ff"/>
            </a:solidFill>
            <a:miter/>
          </a:ln>
        </p:spPr>
      </p:cxnSp>
      <p:sp>
        <p:nvSpPr>
          <p:cNvPr id="515" name="Text Box 33"/>
          <p:cNvSpPr/>
          <p:nvPr/>
        </p:nvSpPr>
        <p:spPr>
          <a:xfrm>
            <a:off x="4343400" y="152388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34"/>
          <p:cNvSpPr/>
          <p:nvPr/>
        </p:nvSpPr>
        <p:spPr>
          <a:xfrm>
            <a:off x="3962520" y="297180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7" name="AutoShape 35"/>
          <p:cNvCxnSpPr/>
          <p:nvPr/>
        </p:nvCxnSpPr>
        <p:spPr>
          <a:xfrm flipH="1" flipV="1" rot="5400000">
            <a:off x="2823480" y="1366200"/>
            <a:ext cx="907200" cy="7642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18" name="AutoShape 36"/>
          <p:cNvCxnSpPr/>
          <p:nvPr/>
        </p:nvCxnSpPr>
        <p:spPr>
          <a:xfrm flipV="1">
            <a:off x="3479760" y="1510920"/>
            <a:ext cx="303840" cy="90864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19" name="AutoShape 37"/>
          <p:cNvCxnSpPr/>
          <p:nvPr/>
        </p:nvCxnSpPr>
        <p:spPr>
          <a:xfrm>
            <a:off x="3472920" y="2418840"/>
            <a:ext cx="72360" cy="13294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0" name="AutoShape 38"/>
          <p:cNvCxnSpPr/>
          <p:nvPr/>
        </p:nvCxnSpPr>
        <p:spPr>
          <a:xfrm>
            <a:off x="3472920" y="2418840"/>
            <a:ext cx="1256760" cy="8676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1" name="AutoShape 39"/>
          <p:cNvCxnSpPr/>
          <p:nvPr/>
        </p:nvCxnSpPr>
        <p:spPr>
          <a:xfrm flipH="1" rot="16200000">
            <a:off x="2652840" y="3180960"/>
            <a:ext cx="1249920" cy="30384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2" name="AutoShape 40"/>
          <p:cNvCxnSpPr/>
          <p:nvPr/>
        </p:nvCxnSpPr>
        <p:spPr>
          <a:xfrm flipV="1">
            <a:off x="4123800" y="2925360"/>
            <a:ext cx="1065960" cy="10324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3" name="AutoShape 41"/>
          <p:cNvCxnSpPr/>
          <p:nvPr/>
        </p:nvCxnSpPr>
        <p:spPr>
          <a:xfrm flipV="1" rot="16200000">
            <a:off x="4176000" y="1485000"/>
            <a:ext cx="1204200" cy="82296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4" name="AutoShape 42"/>
          <p:cNvCxnSpPr/>
          <p:nvPr/>
        </p:nvCxnSpPr>
        <p:spPr>
          <a:xfrm flipH="1" rot="16200000">
            <a:off x="3987000" y="1762560"/>
            <a:ext cx="999000" cy="48672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5" name="AutoShape 43"/>
          <p:cNvCxnSpPr/>
          <p:nvPr/>
        </p:nvCxnSpPr>
        <p:spPr>
          <a:xfrm>
            <a:off x="3571920" y="2471400"/>
            <a:ext cx="435600" cy="127656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sp>
        <p:nvSpPr>
          <p:cNvPr id="526" name="Text Box 44"/>
          <p:cNvSpPr/>
          <p:nvPr/>
        </p:nvSpPr>
        <p:spPr>
          <a:xfrm>
            <a:off x="1974960" y="4648320"/>
            <a:ext cx="3282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e is the wal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45"/>
          <p:cNvSpPr/>
          <p:nvPr/>
        </p:nvSpPr>
        <p:spPr>
          <a:xfrm>
            <a:off x="685800" y="57913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number of arcs incident to B is twice the number of times that B appears on the wal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Eulerian Cycl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529" name="Group 45"/>
          <p:cNvGrpSpPr/>
          <p:nvPr/>
        </p:nvGrpSpPr>
        <p:grpSpPr>
          <a:xfrm>
            <a:off x="1143000" y="609480"/>
            <a:ext cx="5029200" cy="3962160"/>
            <a:chOff x="1143000" y="609480"/>
            <a:chExt cx="5029200" cy="3962160"/>
          </a:xfrm>
        </p:grpSpPr>
        <p:sp>
          <p:nvSpPr>
            <p:cNvPr id="530" name="Rectangle 5"/>
            <p:cNvSpPr/>
            <p:nvPr/>
          </p:nvSpPr>
          <p:spPr>
            <a:xfrm>
              <a:off x="1143000" y="609480"/>
              <a:ext cx="5029200" cy="3962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2622600" y="17110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7"/>
            <p:cNvSpPr/>
            <p:nvPr/>
          </p:nvSpPr>
          <p:spPr>
            <a:xfrm>
              <a:off x="3471840" y="17110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Text Box 8"/>
            <p:cNvSpPr/>
            <p:nvPr/>
          </p:nvSpPr>
          <p:spPr>
            <a:xfrm>
              <a:off x="3944880" y="23032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9"/>
            <p:cNvSpPr/>
            <p:nvPr/>
          </p:nvSpPr>
          <p:spPr>
            <a:xfrm>
              <a:off x="4952880" y="1295280"/>
              <a:ext cx="45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10"/>
            <p:cNvSpPr/>
            <p:nvPr/>
          </p:nvSpPr>
          <p:spPr>
            <a:xfrm>
              <a:off x="4957920" y="360828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Text Box 11"/>
            <p:cNvSpPr/>
            <p:nvPr/>
          </p:nvSpPr>
          <p:spPr>
            <a:xfrm>
              <a:off x="3200400" y="274140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Text Box 12"/>
            <p:cNvSpPr/>
            <p:nvPr/>
          </p:nvSpPr>
          <p:spPr>
            <a:xfrm>
              <a:off x="2819520" y="276516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38" name="Group 13"/>
            <p:cNvGrpSpPr/>
            <p:nvPr/>
          </p:nvGrpSpPr>
          <p:grpSpPr>
            <a:xfrm>
              <a:off x="3687840" y="990360"/>
              <a:ext cx="767880" cy="531720"/>
              <a:chOff x="3687840" y="990360"/>
              <a:chExt cx="767880" cy="531720"/>
            </a:xfrm>
          </p:grpSpPr>
          <p:sp>
            <p:nvSpPr>
              <p:cNvPr id="539" name="Text Box 14"/>
              <p:cNvSpPr/>
              <p:nvPr/>
            </p:nvSpPr>
            <p:spPr>
              <a:xfrm>
                <a:off x="3850200" y="1049400"/>
                <a:ext cx="6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Oval 15"/>
              <p:cNvSpPr/>
              <p:nvPr/>
            </p:nvSpPr>
            <p:spPr>
              <a:xfrm>
                <a:off x="3687840" y="990360"/>
                <a:ext cx="650160" cy="53172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Group 16"/>
            <p:cNvGrpSpPr/>
            <p:nvPr/>
          </p:nvGrpSpPr>
          <p:grpSpPr>
            <a:xfrm>
              <a:off x="4633920" y="2411280"/>
              <a:ext cx="756720" cy="599760"/>
              <a:chOff x="4633920" y="2411280"/>
              <a:chExt cx="756720" cy="599760"/>
            </a:xfrm>
          </p:grpSpPr>
          <p:sp>
            <p:nvSpPr>
              <p:cNvPr id="542" name="Text Box 17"/>
              <p:cNvSpPr/>
              <p:nvPr/>
            </p:nvSpPr>
            <p:spPr>
              <a:xfrm>
                <a:off x="4784040" y="2551320"/>
                <a:ext cx="60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33920" y="2411280"/>
                <a:ext cx="650880" cy="53136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19"/>
            <p:cNvGrpSpPr/>
            <p:nvPr/>
          </p:nvGrpSpPr>
          <p:grpSpPr>
            <a:xfrm>
              <a:off x="3451320" y="3654360"/>
              <a:ext cx="783720" cy="577440"/>
              <a:chOff x="3451320" y="3654360"/>
              <a:chExt cx="783720" cy="577440"/>
            </a:xfrm>
          </p:grpSpPr>
          <p:sp>
            <p:nvSpPr>
              <p:cNvPr id="545" name="Text Box 20"/>
              <p:cNvSpPr/>
              <p:nvPr/>
            </p:nvSpPr>
            <p:spPr>
              <a:xfrm>
                <a:off x="3629520" y="3772080"/>
                <a:ext cx="6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Oval 21"/>
              <p:cNvSpPr/>
              <p:nvPr/>
            </p:nvSpPr>
            <p:spPr>
              <a:xfrm>
                <a:off x="3451320" y="3654360"/>
                <a:ext cx="649800" cy="53136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22"/>
            <p:cNvGrpSpPr/>
            <p:nvPr/>
          </p:nvGrpSpPr>
          <p:grpSpPr>
            <a:xfrm>
              <a:off x="2800440" y="2114280"/>
              <a:ext cx="771480" cy="549720"/>
              <a:chOff x="2800440" y="2114280"/>
              <a:chExt cx="771480" cy="549720"/>
            </a:xfrm>
          </p:grpSpPr>
          <p:sp>
            <p:nvSpPr>
              <p:cNvPr id="548" name="Text Box 23"/>
              <p:cNvSpPr/>
              <p:nvPr/>
            </p:nvSpPr>
            <p:spPr>
              <a:xfrm>
                <a:off x="2964240" y="2204280"/>
                <a:ext cx="60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2800440" y="2114280"/>
                <a:ext cx="650520" cy="53280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550" name="AutoShape 25"/>
            <p:cNvCxnSpPr>
              <a:stCxn id="549" idx="1"/>
              <a:endCxn id="540" idx="2"/>
            </p:cNvCxnSpPr>
            <p:nvPr/>
          </p:nvCxnSpPr>
          <p:spPr>
            <a:xfrm flipH="1" flipV="1" rot="5400000">
              <a:off x="2823480" y="1328040"/>
              <a:ext cx="907200" cy="7642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1" name="AutoShape 26"/>
            <p:cNvCxnSpPr>
              <a:stCxn id="549" idx="6"/>
              <a:endCxn id="540" idx="3"/>
            </p:cNvCxnSpPr>
            <p:nvPr/>
          </p:nvCxnSpPr>
          <p:spPr>
            <a:xfrm flipV="1">
              <a:off x="3479760" y="1472760"/>
              <a:ext cx="303840" cy="90864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2" name="AutoShape 27"/>
            <p:cNvCxnSpPr>
              <a:stCxn id="549" idx="6"/>
              <a:endCxn id="546" idx="1"/>
            </p:cNvCxnSpPr>
            <p:nvPr/>
          </p:nvCxnSpPr>
          <p:spPr>
            <a:xfrm>
              <a:off x="3472920" y="2380680"/>
              <a:ext cx="72360" cy="13294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3" name="AutoShape 28"/>
            <p:cNvCxnSpPr>
              <a:stCxn id="549" idx="6"/>
              <a:endCxn id="543" idx="1"/>
            </p:cNvCxnSpPr>
            <p:nvPr/>
          </p:nvCxnSpPr>
          <p:spPr>
            <a:xfrm>
              <a:off x="3472920" y="2381040"/>
              <a:ext cx="1256760" cy="86400"/>
            </a:xfrm>
            <a:prstGeom prst="straightConnector1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4" name="AutoShape 29"/>
            <p:cNvCxnSpPr>
              <a:stCxn id="549" idx="4"/>
              <a:endCxn id="546" idx="2"/>
            </p:cNvCxnSpPr>
            <p:nvPr/>
          </p:nvCxnSpPr>
          <p:spPr>
            <a:xfrm flipH="1" rot="16200000">
              <a:off x="2652480" y="3142440"/>
              <a:ext cx="1250280" cy="30384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5" name="AutoShape 30"/>
            <p:cNvCxnSpPr>
              <a:stCxn id="546" idx="6"/>
              <a:endCxn id="543" idx="5"/>
            </p:cNvCxnSpPr>
            <p:nvPr/>
          </p:nvCxnSpPr>
          <p:spPr>
            <a:xfrm flipV="1">
              <a:off x="4123800" y="2887200"/>
              <a:ext cx="1065960" cy="10324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6" name="AutoShape 31"/>
            <p:cNvCxnSpPr>
              <a:stCxn id="543" idx="7"/>
              <a:endCxn id="540" idx="6"/>
            </p:cNvCxnSpPr>
            <p:nvPr/>
          </p:nvCxnSpPr>
          <p:spPr>
            <a:xfrm flipV="1" rot="16200000">
              <a:off x="4176360" y="1446840"/>
              <a:ext cx="1203840" cy="82296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7" name="AutoShape 32"/>
            <p:cNvCxnSpPr/>
            <p:nvPr/>
          </p:nvCxnSpPr>
          <p:spPr>
            <a:xfrm flipH="1" rot="16200000">
              <a:off x="3987000" y="1724040"/>
              <a:ext cx="999000" cy="486720"/>
            </a:xfrm>
            <a:prstGeom prst="curvedConnector5">
              <a:avLst>
                <a:gd name="adj1" fmla="val 50000"/>
                <a:gd name="adj2" fmla="val 49962"/>
                <a:gd name="adj3" fmla="val 50000"/>
              </a:avLst>
            </a:prstGeom>
            <a:ln cap="sq" w="57240">
              <a:solidFill>
                <a:srgbClr val="0000ff"/>
              </a:solidFill>
              <a:miter/>
            </a:ln>
          </p:spPr>
        </p:cxnSp>
        <p:cxnSp>
          <p:nvCxnSpPr>
            <p:cNvPr id="558" name="AutoShape 33"/>
            <p:cNvCxnSpPr>
              <a:stCxn id="548" idx="3"/>
            </p:cNvCxnSpPr>
            <p:nvPr/>
          </p:nvCxnSpPr>
          <p:spPr>
            <a:xfrm>
              <a:off x="3571920" y="2433240"/>
              <a:ext cx="435600" cy="1276920"/>
            </a:xfrm>
            <a:prstGeom prst="curvedConnector2">
              <a:avLst/>
            </a:prstGeom>
            <a:ln cap="sq" w="57240">
              <a:solidFill>
                <a:srgbClr val="0000ff"/>
              </a:solidFill>
              <a:miter/>
            </a:ln>
          </p:spPr>
        </p:cxnSp>
        <p:sp>
          <p:nvSpPr>
            <p:cNvPr id="559" name="Text Box 34"/>
            <p:cNvSpPr/>
            <p:nvPr/>
          </p:nvSpPr>
          <p:spPr>
            <a:xfrm>
              <a:off x="4343400" y="15238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Text Box 35"/>
            <p:cNvSpPr/>
            <p:nvPr/>
          </p:nvSpPr>
          <p:spPr>
            <a:xfrm>
              <a:off x="3962520" y="297144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61" name="AutoShape 36"/>
            <p:cNvCxnSpPr/>
            <p:nvPr/>
          </p:nvCxnSpPr>
          <p:spPr>
            <a:xfrm flipH="1" flipV="1" rot="5400000">
              <a:off x="2823480" y="1366200"/>
              <a:ext cx="907200" cy="76428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2" name="AutoShape 37"/>
            <p:cNvCxnSpPr/>
            <p:nvPr/>
          </p:nvCxnSpPr>
          <p:spPr>
            <a:xfrm flipV="1">
              <a:off x="3479760" y="1510200"/>
              <a:ext cx="303840" cy="90900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3" name="AutoShape 38"/>
            <p:cNvCxnSpPr/>
            <p:nvPr/>
          </p:nvCxnSpPr>
          <p:spPr>
            <a:xfrm>
              <a:off x="3472920" y="2418840"/>
              <a:ext cx="72360" cy="132948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4" name="AutoShape 39"/>
            <p:cNvCxnSpPr/>
            <p:nvPr/>
          </p:nvCxnSpPr>
          <p:spPr>
            <a:xfrm>
              <a:off x="3472920" y="2419200"/>
              <a:ext cx="1256760" cy="86400"/>
            </a:xfrm>
            <a:prstGeom prst="straightConnector1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5" name="AutoShape 40"/>
            <p:cNvCxnSpPr/>
            <p:nvPr/>
          </p:nvCxnSpPr>
          <p:spPr>
            <a:xfrm flipH="1" rot="16200000">
              <a:off x="2652480" y="3180600"/>
              <a:ext cx="1250280" cy="30384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6" name="AutoShape 41"/>
            <p:cNvCxnSpPr/>
            <p:nvPr/>
          </p:nvCxnSpPr>
          <p:spPr>
            <a:xfrm flipV="1">
              <a:off x="4123800" y="2924640"/>
              <a:ext cx="1065960" cy="103284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7" name="AutoShape 42"/>
            <p:cNvCxnSpPr/>
            <p:nvPr/>
          </p:nvCxnSpPr>
          <p:spPr>
            <a:xfrm flipV="1" rot="16200000">
              <a:off x="4176360" y="1485000"/>
              <a:ext cx="1203840" cy="82296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8" name="AutoShape 43"/>
            <p:cNvCxnSpPr/>
            <p:nvPr/>
          </p:nvCxnSpPr>
          <p:spPr>
            <a:xfrm flipH="1" rot="16200000">
              <a:off x="3987000" y="1762200"/>
              <a:ext cx="999000" cy="486720"/>
            </a:xfrm>
            <a:prstGeom prst="curvedConnector5">
              <a:avLst>
                <a:gd name="adj1" fmla="val 50000"/>
                <a:gd name="adj2" fmla="val 49962"/>
                <a:gd name="adj3" fmla="val 50000"/>
              </a:avLst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9" name="AutoShape 44"/>
            <p:cNvCxnSpPr/>
            <p:nvPr/>
          </p:nvCxnSpPr>
          <p:spPr>
            <a:xfrm>
              <a:off x="3571920" y="2471400"/>
              <a:ext cx="435600" cy="127692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</p:grpSp>
      <p:sp>
        <p:nvSpPr>
          <p:cNvPr id="570" name="Text Box 46"/>
          <p:cNvSpPr/>
          <p:nvPr/>
        </p:nvSpPr>
        <p:spPr>
          <a:xfrm>
            <a:off x="6553080" y="1371600"/>
            <a:ext cx="2286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degree of a node in an undirected graph is the number of incident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47"/>
          <p:cNvSpPr/>
          <p:nvPr/>
        </p:nvSpPr>
        <p:spPr>
          <a:xfrm>
            <a:off x="24382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48"/>
          <p:cNvSpPr/>
          <p:nvPr/>
        </p:nvSpPr>
        <p:spPr>
          <a:xfrm>
            <a:off x="3886200" y="533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49"/>
          <p:cNvSpPr/>
          <p:nvPr/>
        </p:nvSpPr>
        <p:spPr>
          <a:xfrm>
            <a:off x="53341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50"/>
          <p:cNvSpPr/>
          <p:nvPr/>
        </p:nvSpPr>
        <p:spPr>
          <a:xfrm>
            <a:off x="36576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51"/>
          <p:cNvSpPr/>
          <p:nvPr/>
        </p:nvSpPr>
        <p:spPr>
          <a:xfrm>
            <a:off x="914400" y="46483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An undirected graph has an eulerian cycle if and only i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(1) every node degree is even an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(2) the graph is connected (that is, there is a path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from each node to each other node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128A-21D6-4023-A3F1-E028C561ED3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ty of two cond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eulerian cycle “visits” each node an even number of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eulerian cycle shows the network is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veat: nodes of degree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cy of th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e result is true for all graphs with fewer than |A|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some node, and take a walk until a cycle C is fou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"/>
          <p:cNvSpPr/>
          <p:nvPr/>
        </p:nvSpPr>
        <p:spPr>
          <a:xfrm>
            <a:off x="12193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Oval 7"/>
          <p:cNvSpPr/>
          <p:nvPr/>
        </p:nvSpPr>
        <p:spPr>
          <a:xfrm>
            <a:off x="39625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67057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53341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Line 32"/>
          <p:cNvSpPr/>
          <p:nvPr/>
        </p:nvSpPr>
        <p:spPr>
          <a:xfrm flipH="1">
            <a:off x="16002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Line 33"/>
          <p:cNvSpPr/>
          <p:nvPr/>
        </p:nvSpPr>
        <p:spPr>
          <a:xfrm flipH="1">
            <a:off x="29718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Line 34"/>
          <p:cNvSpPr/>
          <p:nvPr/>
        </p:nvSpPr>
        <p:spPr>
          <a:xfrm flipH="1">
            <a:off x="43434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Line 35"/>
          <p:cNvSpPr/>
          <p:nvPr/>
        </p:nvSpPr>
        <p:spPr>
          <a:xfrm flipH="1">
            <a:off x="57150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Freeform 36"/>
          <p:cNvSpPr/>
          <p:nvPr/>
        </p:nvSpPr>
        <p:spPr>
          <a:xfrm>
            <a:off x="2819520" y="5524560"/>
            <a:ext cx="4038480" cy="41904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9" name="Group 46"/>
          <p:cNvGrpSpPr/>
          <p:nvPr/>
        </p:nvGrpSpPr>
        <p:grpSpPr>
          <a:xfrm>
            <a:off x="2590920" y="5524560"/>
            <a:ext cx="4495680" cy="799920"/>
            <a:chOff x="2590920" y="5524560"/>
            <a:chExt cx="4495680" cy="799920"/>
          </a:xfrm>
        </p:grpSpPr>
        <p:sp>
          <p:nvSpPr>
            <p:cNvPr id="590" name="Oval 37"/>
            <p:cNvSpPr/>
            <p:nvPr/>
          </p:nvSpPr>
          <p:spPr>
            <a:xfrm>
              <a:off x="39625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Oval 38"/>
            <p:cNvSpPr/>
            <p:nvPr/>
          </p:nvSpPr>
          <p:spPr>
            <a:xfrm>
              <a:off x="2590920" y="59436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Oval 39"/>
            <p:cNvSpPr/>
            <p:nvPr/>
          </p:nvSpPr>
          <p:spPr>
            <a:xfrm>
              <a:off x="67057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Oval 40"/>
            <p:cNvSpPr/>
            <p:nvPr/>
          </p:nvSpPr>
          <p:spPr>
            <a:xfrm>
              <a:off x="53341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Line 41"/>
            <p:cNvSpPr/>
            <p:nvPr/>
          </p:nvSpPr>
          <p:spPr>
            <a:xfrm flipH="1">
              <a:off x="29718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Line 42"/>
            <p:cNvSpPr/>
            <p:nvPr/>
          </p:nvSpPr>
          <p:spPr>
            <a:xfrm flipH="1">
              <a:off x="43434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43"/>
            <p:cNvSpPr/>
            <p:nvPr/>
          </p:nvSpPr>
          <p:spPr>
            <a:xfrm flipH="1">
              <a:off x="57150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Freeform 44"/>
            <p:cNvSpPr/>
            <p:nvPr/>
          </p:nvSpPr>
          <p:spPr>
            <a:xfrm>
              <a:off x="2819520" y="5524560"/>
              <a:ext cx="4038480" cy="419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370A-15A4-46EE-A957-93164A89F2E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Oval 13"/>
          <p:cNvSpPr/>
          <p:nvPr/>
        </p:nvSpPr>
        <p:spPr>
          <a:xfrm>
            <a:off x="990720" y="4572000"/>
            <a:ext cx="1752480" cy="1905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Oval 14"/>
          <p:cNvSpPr/>
          <p:nvPr/>
        </p:nvSpPr>
        <p:spPr>
          <a:xfrm>
            <a:off x="3809880" y="4648320"/>
            <a:ext cx="1752840" cy="190476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Oval 15"/>
          <p:cNvSpPr/>
          <p:nvPr/>
        </p:nvSpPr>
        <p:spPr>
          <a:xfrm>
            <a:off x="6705720" y="4495680"/>
            <a:ext cx="1752480" cy="1905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cy of th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some node, and take a walk until a cycle C is fou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G’ = (N, A\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gree of each node is e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omponent is conn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G’ is the union of Eulerian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G’ into a single eulerian cycle by adding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2438280" y="4572000"/>
            <a:ext cx="4495680" cy="799920"/>
            <a:chOff x="2438280" y="4572000"/>
            <a:chExt cx="4495680" cy="799920"/>
          </a:xfrm>
        </p:grpSpPr>
        <p:sp>
          <p:nvSpPr>
            <p:cNvPr id="605" name="Oval 5"/>
            <p:cNvSpPr/>
            <p:nvPr/>
          </p:nvSpPr>
          <p:spPr>
            <a:xfrm>
              <a:off x="38098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Oval 6"/>
            <p:cNvSpPr/>
            <p:nvPr/>
          </p:nvSpPr>
          <p:spPr>
            <a:xfrm>
              <a:off x="2438280" y="4991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Oval 7"/>
            <p:cNvSpPr/>
            <p:nvPr/>
          </p:nvSpPr>
          <p:spPr>
            <a:xfrm>
              <a:off x="65530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Oval 8"/>
            <p:cNvSpPr/>
            <p:nvPr/>
          </p:nvSpPr>
          <p:spPr>
            <a:xfrm>
              <a:off x="51814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Line 9"/>
            <p:cNvSpPr/>
            <p:nvPr/>
          </p:nvSpPr>
          <p:spPr>
            <a:xfrm flipH="1">
              <a:off x="28191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Line 10"/>
            <p:cNvSpPr/>
            <p:nvPr/>
          </p:nvSpPr>
          <p:spPr>
            <a:xfrm flipH="1">
              <a:off x="41907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Line 11"/>
            <p:cNvSpPr/>
            <p:nvPr/>
          </p:nvSpPr>
          <p:spPr>
            <a:xfrm flipH="1">
              <a:off x="55623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2666880" y="4572000"/>
              <a:ext cx="4038480" cy="419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Oval 16"/>
          <p:cNvSpPr/>
          <p:nvPr/>
        </p:nvSpPr>
        <p:spPr>
          <a:xfrm>
            <a:off x="2514600" y="50292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9.25926E-006 C -0.00382 -0.01528 -0.004 -0.03056 -0.00973 -0.04445 C -0.01146 -0.04838 -0.01355 -0.05186 -0.01528 -0.05556 C -0.01632 -0.05741 -0.0165 -0.06042 -0.01806 -0.06112 C -0.02743 -0.06528 -0.0349 -0.06876 -0.04445 -0.07038 C -0.04723 -0.07176 -0.05035 -0.072 -0.05278 -0.07408 C -0.05695 -0.07778 -0.06059 -0.08311 -0.06528 -0.08519 C -0.07118 -0.08797 -0.06823 -0.08612 -0.07362 -0.09075 C -0.08855 -0.08959 -0.09254 -0.08913 -0.10417 -0.08519 C -0.11355 -0.07709 -0.12327 -0.06505 -0.13334 -0.05926 C -0.14098 -0.0551 -0.14879 -0.0544 -0.15556 -0.04815 C -0.15799 -0.03889 -0.16164 -0.0301 -0.16389 -0.02038 C -0.16493 -0.01667 -0.1658 -0.01297 -0.16667 -0.00925 C -0.16719 -0.00741 -0.16806 -0.00371 -0.16806 -0.00371 C -0.17014 0.01712 -0.17118 0.03796 -0.17223 0.05925 C -0.17118 0.08148 -0.1691 0.09444 -0.16389 0.11481 C -0.16077 0.12731 -0.15886 0.13842 -0.15 0.14629 C -0.14618 0.15393 -0.14132 0.1581 -0.13473 0.16111 C -0.104 0.16018 -0.0757 0.1662 -0.04723 0.1537 C -0.0408 0.1449 -0.03178 0.14004 -0.02639 0.12962 C -0.02171 0.12013 -0.01684 0.10995 -0.00973 0.1037 C -0.00625 0.09652 -0.00504 0.08842 -0.00139 0.08148 C -0.00191 0.07453 -0.00174 0.06759 -0.00278 0.06111 C -0.0033 0.05879 -0.00504 0.0574 -0.00556 0.05555 C -0.00747 0.04999 -0.00903 0.04444 -0.00973 0.03888 C -0.01285 0.01458 -0.01077 0.02361 -0.01389 0.01111 C -0.01285 -0.01459 -0.01806 -0.01806 -0.00417 -0.02408 C 0.01805 -0.02084 0.03802 -0.02755 0.05972 -0.03149 C 0.07465 -0.0301 0.08802 -0.02524 0.10277 -0.02223 C 0.11388 -0.02292 0.12569 -0.02963 0.13611 -0.02408 C 0.14079 -0.02176 0.1375 -0.01065 0.1375 -0.00371 C 0.1375 0.02314 0.13281 0.0199 0.12777 0.04074 C 0.12847 0.05162 0.13072 0.07638 0.13611 0.08703 C 0.13767 0.09027 0.14548 0.10787 0.14583 0.10925 C 0.14895 0.12175 0.15364 0.1324 0.15972 0.14259 C 0.16423 0.15046 0.16406 0.1537 0.16944 0.15925 C 0.18333 0.17361 0.20191 0.18032 0.21944 0.18333 C 0.22708 0.1824 0.2434 0.18263 0.25138 0.17592 C 0.25486 0.17268 0.25989 0.16851 0.26388 0.16666 C 0.27013 0.16319 0.27795 0.16203 0.28472 0.15925 C 0.28958 0.15254 0.296 0.14837 0.29861 0.13888 C 0.30069 0.13009 0.30173 0.12222 0.30555 0.11481 C 0.30989 0.08518 0.30972 0.09351 0.30694 0.04259 C 0.30607 0.02962 0.30121 0.01597 0.29861 0.0037 C 0.29322 -0.02084 0.28871 -0.04838 0.275 -0.06667 C 0.27083 -0.072 0.271 -0.06922 0.26666 -0.07223 C 0.25191 -0.08218 0.25399 -0.07987 0.23472 -0.08149 C 0.21163 -0.07825 0.19132 -0.06899 0.17222 -0.05186 C 0.16909 -0.04584 0.16284 -0.03751 0.15833 -0.03334 C 0.15677 -0.02732 0.15416 -0.02292 0.15277 -0.01667 C 0.15312 -0.01297 0.15138 -0.00672 0.15416 -0.00556 C 0.15729 -0.0044 0.15937 -0.01112 0.1625 -0.01297 C 0.16423 -0.01436 0.16597 -0.01575 0.16805 -0.01667 C 0.18611 -0.02639 0.20694 -0.03403 0.22638 -0.03704 C 0.24305 -0.03612 0.25434 -0.03612 0.26927 -0.03149 C 0.28611 -0.02663 0.26909 -0.03357 0.28611 -0.02593 C 0.2875 -0.02547 0.29027 -0.02408 0.29027 -0.02408 C 0.29409 -0.01876 0.29566 -0.01366 0.30138 -0.01112 C 0.30503 -0.01181 0.30885 -0.01135 0.3125 -0.01297 C 0.31562 -0.01459 0.31753 -0.01968 0.32066 -0.02038 C 0.33211 -0.02292 0.34305 -0.02732 0.35416 -0.03149 C 0.36007 -0.0338 0.36614 -0.0345 0.37204 -0.03704 C 0.3901 -0.03612 0.39878 -0.03727 0.41388 -0.03149 C 0.41927 -0.0294 0.42257 -0.02709 0.42777 -0.02408 C 0.43038 -0.02269 0.43611 -0.02038 0.43611 -0.02038 C 0.44392 -0.00996 0.4401 -0.01667 0.43611 -0.01667 C 0.43454 -0.01667 0.43333 -0.01551 0.43194 -0.01482 C 0.43715 -0.022 0.44427 -0.02686 0.44861 -0.03519 C 0.44947 -0.03704 0.45052 -0.03889 0.45138 -0.04075 C 0.45191 -0.0426 0.45191 -0.04468 0.45277 -0.0463 C 0.4552 -0.05232 0.45885 -0.05718 0.46111 -0.06297 C 0.46197 -0.06551 0.46267 -0.06806 0.46388 -0.07038 C 0.46458 -0.07223 0.47621 -0.09815 0.47638 -0.09815 C 0.48003 -0.10163 0.48802 -0.11088 0.49305 -0.11297 C 0.49583 -0.11436 0.50138 -0.11667 0.50138 -0.11667 C 0.52725 -0.11528 0.55034 -0.11088 0.57638 -0.10926 C 0.58871 -0.10116 0.60729 -0.09468 0.6125 -0.07408 C 0.61388 -0.06852 0.61527 -0.06297 0.61666 -0.05741 C 0.61701 -0.05556 0.61736 -0.05371 0.61805 -0.05186 C 0.61892 -0.04954 0.61996 -0.04723 0.62083 -0.04445 C 0.62239 -0.03866 0.62222 -0.03149 0.625 -0.02593 C 0.62673 -0.02223 0.63055 -0.01482 0.63055 -0.01482 C 0.63229 -0.00556 0.63368 0.0037 0.63611 0.01296 C 0.63437 0.04999 0.62934 0.09097 0.61527 0.12407 C 0.61111 0.13333 0.60416 0.1405 0.59861 0.14814 C 0.5901 0.15925 0.5809 0.17245 0.56944 0.17777 C 0.55451 0.17708 0.53975 0.17731 0.525 0.17592 C 0.5118 0.17453 0.50121 0.15995 0.49166 0.14999 C 0.48489 0.14305 0.47604 0.13865 0.47083 0.12962 C 0.45902 0.10925 0.45347 0.08379 0.44305 0.06296 C 0.44114 0.04884 0.4401 0.04629 0.44166 0.03148 C 0.44079 0.0081 0.43906 -0.01112 0.4375 -0.03334 C 0.43663 -0.04376 0.43888 -0.05371 0.43333 -0.06112 C 0.42656 -0.07014 0.41406 -0.07038 0.40555 -0.07223 C 0.39496 -0.07454 0.38524 -0.07778 0.375 -0.07963 C 0.34583 -0.0926 0.37552 -0.0801 0.29305 -0.08334 C 0.27586 -0.08403 0.25781 -0.09098 0.24166 -0.09815 C 0.21041 -0.09653 0.18003 -0.09908 0.15 -0.08889 C 0.13507 -0.08403 0.11041 -0.06945 0.09583 -0.06852 C 0.07309 -0.06737 0.05034 -0.06737 0.02777 -0.06667 C 0.02048 -0.06366 0.0184 -0.05718 0.0125 -0.05186 C 0.00902 -0.03866 0.01371 -0.05463 0.00694 -0.04075 C 0.00677 -0.04051 0.00277 -0.02987 0.00277 -0.02963 C 0.00121 -0.0051 0.0026 -0.01482 1.11111E-006 -9.25926E-006 Z">
                                      <p:cBhvr>
                                        <p:cTn id="493" dur="5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9C47-8BA2-4E89-99A4-25F9A9EAE3E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ments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flects how proofs are done in class, often in outline form, with key ideas illustr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is proof does not directly lead to an efficient algorithm.   (More on this in two lectur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we focus on efficient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58CE-EDD8-4C35-A717-5DF9E5EC7C5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ELCOME!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15.082/6.855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Network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:   James B. O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:  David Goldbe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book: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twork Flows:  Theory, Algorithms, and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Ahuja, Magnanti, and Orl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red to as A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9CF8-5581-4222-855C-0BBE939446D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5.082/6.855J Subject Goals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: 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esent students with a knowledge of the state-of-the art in the theory and practice of solving network flow proble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t has happened since 17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o provide students with a rigorous analysis of network flow algorith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al complexity &amp; worst cas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To help each student develop his or her own intuition about algorithm development and algorithm analysi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D4AC-5B8F-4D43-8164-B791C67D6D7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omework Sets and Grading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ass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points per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ts of practice problems with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term 1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term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A6C6-3D8E-4D20-8F71-D29218F541E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discuss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seen network models elsewhe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ave any specific goals in taking this subjec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7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3394-A013-4F37-A61A-6E9BDAD124B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304920" y="914400"/>
            <a:ext cx="792468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ich nation gave women the right to vote firs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New Zeala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ich Ocean goes to the deepest depth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Pacific Oce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is northernmost land on earth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Cape Morris Jessep in Greenl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ere is the Worlds Largest Aquarium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Epcot Center in Orlando, F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19FB-D749-416A-9A92-530D09DA747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304920" y="762120"/>
            <a:ext cx="7924680" cy="57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country has not fought in a war since 1815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Switzerl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does the term Prima Donna mean in Oper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he leading female singer</a:t>
            </a: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fruit were Hawaiian women once forbidden by law to ea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he cocon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’s the most common non-contagious disease in the worl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ooth deca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ree Fundamental Flow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ximum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nimum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977D-37F8-4816-A9B1-9820F183F52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6B71-3D52-48FA-8F2D-DD2CE493C18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1828800" y="2243160"/>
            <a:ext cx="3348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1954080" y="2287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Oval 6"/>
          <p:cNvSpPr/>
          <p:nvPr/>
        </p:nvSpPr>
        <p:spPr>
          <a:xfrm>
            <a:off x="3416400" y="1349280"/>
            <a:ext cx="34740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3554280" y="1390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Oval 8"/>
          <p:cNvSpPr/>
          <p:nvPr/>
        </p:nvSpPr>
        <p:spPr>
          <a:xfrm>
            <a:off x="3416400" y="3139920"/>
            <a:ext cx="3474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3554280" y="3182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Oval 10"/>
          <p:cNvSpPr/>
          <p:nvPr/>
        </p:nvSpPr>
        <p:spPr>
          <a:xfrm>
            <a:off x="5030640" y="1349280"/>
            <a:ext cx="34632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5167440" y="1390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Oval 12"/>
          <p:cNvSpPr/>
          <p:nvPr/>
        </p:nvSpPr>
        <p:spPr>
          <a:xfrm>
            <a:off x="5030640" y="3139920"/>
            <a:ext cx="34632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5167440" y="3182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14"/>
          <p:cNvSpPr/>
          <p:nvPr/>
        </p:nvSpPr>
        <p:spPr>
          <a:xfrm>
            <a:off x="6629400" y="2244600"/>
            <a:ext cx="3477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Rectangle 15"/>
          <p:cNvSpPr/>
          <p:nvPr/>
        </p:nvSpPr>
        <p:spPr>
          <a:xfrm>
            <a:off x="6767640" y="2287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Freeform 16"/>
          <p:cNvSpPr/>
          <p:nvPr/>
        </p:nvSpPr>
        <p:spPr>
          <a:xfrm>
            <a:off x="2144880" y="161928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Rectangle 17"/>
          <p:cNvSpPr/>
          <p:nvPr/>
        </p:nvSpPr>
        <p:spPr>
          <a:xfrm>
            <a:off x="2754360" y="1736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Freeform 18"/>
          <p:cNvSpPr/>
          <p:nvPr/>
        </p:nvSpPr>
        <p:spPr>
          <a:xfrm>
            <a:off x="3770280" y="1486080"/>
            <a:ext cx="1254240" cy="96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Rectangle 19"/>
          <p:cNvSpPr/>
          <p:nvPr/>
        </p:nvSpPr>
        <p:spPr>
          <a:xfrm>
            <a:off x="4367160" y="1295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Freeform 20"/>
          <p:cNvSpPr/>
          <p:nvPr/>
        </p:nvSpPr>
        <p:spPr>
          <a:xfrm>
            <a:off x="3722760" y="1666800"/>
            <a:ext cx="1360440" cy="15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Rectangle 21"/>
          <p:cNvSpPr/>
          <p:nvPr/>
        </p:nvSpPr>
        <p:spPr>
          <a:xfrm>
            <a:off x="4403880" y="2179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Freeform 22"/>
          <p:cNvSpPr/>
          <p:nvPr/>
        </p:nvSpPr>
        <p:spPr>
          <a:xfrm>
            <a:off x="3543480" y="1714680"/>
            <a:ext cx="9504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Rectangle 23"/>
          <p:cNvSpPr/>
          <p:nvPr/>
        </p:nvSpPr>
        <p:spPr>
          <a:xfrm>
            <a:off x="3495240" y="2189160"/>
            <a:ext cx="26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Freeform 24"/>
          <p:cNvSpPr/>
          <p:nvPr/>
        </p:nvSpPr>
        <p:spPr>
          <a:xfrm>
            <a:off x="3770280" y="3265560"/>
            <a:ext cx="1254240" cy="95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367160" y="30751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Freeform 26"/>
          <p:cNvSpPr/>
          <p:nvPr/>
        </p:nvSpPr>
        <p:spPr>
          <a:xfrm>
            <a:off x="2144880" y="250200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27"/>
          <p:cNvSpPr/>
          <p:nvPr/>
        </p:nvSpPr>
        <p:spPr>
          <a:xfrm>
            <a:off x="2754360" y="2620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Freeform 28"/>
          <p:cNvSpPr/>
          <p:nvPr/>
        </p:nvSpPr>
        <p:spPr>
          <a:xfrm>
            <a:off x="5357880" y="161928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5967360" y="1736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Freeform 30"/>
          <p:cNvSpPr/>
          <p:nvPr/>
        </p:nvSpPr>
        <p:spPr>
          <a:xfrm>
            <a:off x="5156280" y="1714680"/>
            <a:ext cx="9504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Rectangle 31"/>
          <p:cNvSpPr/>
          <p:nvPr/>
        </p:nvSpPr>
        <p:spPr>
          <a:xfrm>
            <a:off x="5069880" y="2189160"/>
            <a:ext cx="33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5357880" y="250200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Rectangle 33"/>
          <p:cNvSpPr/>
          <p:nvPr/>
        </p:nvSpPr>
        <p:spPr>
          <a:xfrm>
            <a:off x="5967360" y="2620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7" name="Group 34"/>
          <p:cNvGrpSpPr/>
          <p:nvPr/>
        </p:nvGrpSpPr>
        <p:grpSpPr>
          <a:xfrm>
            <a:off x="1828800" y="2243160"/>
            <a:ext cx="334800" cy="347760"/>
            <a:chOff x="1828800" y="2243160"/>
            <a:chExt cx="334800" cy="347760"/>
          </a:xfrm>
        </p:grpSpPr>
        <p:sp>
          <p:nvSpPr>
            <p:cNvPr id="668" name="Oval 35"/>
            <p:cNvSpPr/>
            <p:nvPr/>
          </p:nvSpPr>
          <p:spPr>
            <a:xfrm>
              <a:off x="1828800" y="2243160"/>
              <a:ext cx="33480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36"/>
            <p:cNvSpPr/>
            <p:nvPr/>
          </p:nvSpPr>
          <p:spPr>
            <a:xfrm>
              <a:off x="1954080" y="2287440"/>
              <a:ext cx="135000" cy="2898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0" name="Text Box 43"/>
          <p:cNvSpPr/>
          <p:nvPr/>
        </p:nvSpPr>
        <p:spPr>
          <a:xfrm>
            <a:off x="1295280" y="40384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network G = (N, A) in which there is an origin node s and a destination node t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standard notation:   n = |N|, m = |A|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44"/>
          <p:cNvSpPr/>
          <p:nvPr/>
        </p:nvSpPr>
        <p:spPr>
          <a:xfrm>
            <a:off x="1371600" y="55627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shortest path from s to 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Oval 10"/>
          <p:cNvSpPr/>
          <p:nvPr/>
        </p:nvSpPr>
        <p:spPr>
          <a:xfrm>
            <a:off x="1828800" y="2209680"/>
            <a:ext cx="361800" cy="412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Oval 10"/>
          <p:cNvSpPr/>
          <p:nvPr/>
        </p:nvSpPr>
        <p:spPr>
          <a:xfrm>
            <a:off x="6629400" y="2209680"/>
            <a:ext cx="361800" cy="412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0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0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1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1999-F3E7-460E-93A6-F08E24D44A2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Rectangle 13"/>
          <p:cNvSpPr/>
          <p:nvPr/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aximum Flow Proble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Rectangle 14"/>
          <p:cNvSpPr/>
          <p:nvPr/>
        </p:nvSpPr>
        <p:spPr>
          <a:xfrm>
            <a:off x="533520" y="990720"/>
            <a:ext cx="7543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rected Graph G = (N, A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ource 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ink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apacities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ＭＳ Ｐゴシック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on arc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ximize the flow out of s, subject t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= Flow into i, for i ≠ s or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7" name="Group 45"/>
          <p:cNvGrpSpPr/>
          <p:nvPr/>
        </p:nvGrpSpPr>
        <p:grpSpPr>
          <a:xfrm>
            <a:off x="2013120" y="4222800"/>
            <a:ext cx="3976560" cy="1828800"/>
            <a:chOff x="2013120" y="4222800"/>
            <a:chExt cx="3976560" cy="1828800"/>
          </a:xfrm>
        </p:grpSpPr>
        <p:sp>
          <p:nvSpPr>
            <p:cNvPr id="678" name="Oval 16"/>
            <p:cNvSpPr/>
            <p:nvPr/>
          </p:nvSpPr>
          <p:spPr>
            <a:xfrm>
              <a:off x="2013120" y="49467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17"/>
            <p:cNvSpPr/>
            <p:nvPr/>
          </p:nvSpPr>
          <p:spPr>
            <a:xfrm>
              <a:off x="2197080" y="49784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Oval 19"/>
            <p:cNvSpPr/>
            <p:nvPr/>
          </p:nvSpPr>
          <p:spPr>
            <a:xfrm>
              <a:off x="3841920" y="422280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Rectangle 20"/>
            <p:cNvSpPr/>
            <p:nvPr/>
          </p:nvSpPr>
          <p:spPr>
            <a:xfrm>
              <a:off x="4000680" y="42926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3867120" y="565812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Rectangle 23"/>
            <p:cNvSpPr/>
            <p:nvPr/>
          </p:nvSpPr>
          <p:spPr>
            <a:xfrm>
              <a:off x="4040280" y="570240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5583600" y="49593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Rectangle 26"/>
            <p:cNvSpPr/>
            <p:nvPr/>
          </p:nvSpPr>
          <p:spPr>
            <a:xfrm>
              <a:off x="5754600" y="5004000"/>
              <a:ext cx="7704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Freeform 28"/>
            <p:cNvSpPr/>
            <p:nvPr/>
          </p:nvSpPr>
          <p:spPr>
            <a:xfrm>
              <a:off x="3657600" y="44575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Line 29"/>
            <p:cNvSpPr/>
            <p:nvPr/>
          </p:nvSpPr>
          <p:spPr>
            <a:xfrm flipV="1">
              <a:off x="2374920" y="452124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Freeform 31"/>
            <p:cNvSpPr/>
            <p:nvPr/>
          </p:nvSpPr>
          <p:spPr>
            <a:xfrm>
              <a:off x="3670560" y="571500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Line 32"/>
            <p:cNvSpPr/>
            <p:nvPr/>
          </p:nvSpPr>
          <p:spPr>
            <a:xfrm>
              <a:off x="2400480" y="5207040"/>
              <a:ext cx="12826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Freeform 34"/>
            <p:cNvSpPr/>
            <p:nvPr/>
          </p:nvSpPr>
          <p:spPr>
            <a:xfrm>
              <a:off x="5411880" y="490212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Line 35"/>
            <p:cNvSpPr/>
            <p:nvPr/>
          </p:nvSpPr>
          <p:spPr>
            <a:xfrm>
              <a:off x="4256280" y="4432320"/>
              <a:ext cx="116820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Freeform 37"/>
            <p:cNvSpPr/>
            <p:nvPr/>
          </p:nvSpPr>
          <p:spPr>
            <a:xfrm>
              <a:off x="5424840" y="523260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Line 38"/>
            <p:cNvSpPr/>
            <p:nvPr/>
          </p:nvSpPr>
          <p:spPr>
            <a:xfrm flipV="1">
              <a:off x="4281480" y="5308560"/>
              <a:ext cx="11556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Freeform 40"/>
            <p:cNvSpPr/>
            <p:nvPr/>
          </p:nvSpPr>
          <p:spPr>
            <a:xfrm>
              <a:off x="4000680" y="5423040"/>
              <a:ext cx="903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Line 41"/>
            <p:cNvSpPr/>
            <p:nvPr/>
          </p:nvSpPr>
          <p:spPr>
            <a:xfrm>
              <a:off x="4040280" y="4610160"/>
              <a:ext cx="144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Rectangle 42"/>
            <p:cNvSpPr/>
            <p:nvPr/>
          </p:nvSpPr>
          <p:spPr>
            <a:xfrm>
              <a:off x="2666880" y="4648320"/>
              <a:ext cx="253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Rectangle 45"/>
            <p:cNvSpPr/>
            <p:nvPr/>
          </p:nvSpPr>
          <p:spPr>
            <a:xfrm>
              <a:off x="4648680" y="4495680"/>
              <a:ext cx="12708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Rectangle 47"/>
            <p:cNvSpPr/>
            <p:nvPr/>
          </p:nvSpPr>
          <p:spPr>
            <a:xfrm>
              <a:off x="3962880" y="4876920"/>
              <a:ext cx="12708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Rectangle 49"/>
            <p:cNvSpPr/>
            <p:nvPr/>
          </p:nvSpPr>
          <p:spPr>
            <a:xfrm>
              <a:off x="4726080" y="5410440"/>
              <a:ext cx="253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Rectangle 51"/>
            <p:cNvSpPr/>
            <p:nvPr/>
          </p:nvSpPr>
          <p:spPr>
            <a:xfrm>
              <a:off x="2788200" y="5257800"/>
              <a:ext cx="19116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1" name="Group 44"/>
          <p:cNvGrpSpPr/>
          <p:nvPr/>
        </p:nvGrpSpPr>
        <p:grpSpPr>
          <a:xfrm>
            <a:off x="2895480" y="4343400"/>
            <a:ext cx="2200320" cy="1067400"/>
            <a:chOff x="2895480" y="4343400"/>
            <a:chExt cx="2200320" cy="1067400"/>
          </a:xfrm>
        </p:grpSpPr>
        <p:sp>
          <p:nvSpPr>
            <p:cNvPr id="702" name="Rectangle 44"/>
            <p:cNvSpPr/>
            <p:nvPr/>
          </p:nvSpPr>
          <p:spPr>
            <a:xfrm>
              <a:off x="2895480" y="4343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Rectangle 46"/>
            <p:cNvSpPr/>
            <p:nvPr/>
          </p:nvSpPr>
          <p:spPr>
            <a:xfrm>
              <a:off x="4876920" y="4343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Rectangle 48"/>
            <p:cNvSpPr/>
            <p:nvPr/>
          </p:nvSpPr>
          <p:spPr>
            <a:xfrm>
              <a:off x="4114800" y="4724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Rectangle 50"/>
            <p:cNvSpPr/>
            <p:nvPr/>
          </p:nvSpPr>
          <p:spPr>
            <a:xfrm>
              <a:off x="4953240" y="5105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Rectangle 52"/>
            <p:cNvSpPr/>
            <p:nvPr/>
          </p:nvSpPr>
          <p:spPr>
            <a:xfrm>
              <a:off x="3047760" y="5105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7" name="Text Box 53"/>
          <p:cNvSpPr/>
          <p:nvPr/>
        </p:nvSpPr>
        <p:spPr>
          <a:xfrm>
            <a:off x="228600" y="6172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Network with Arc Capacities (and the maximum flow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3EF3-22A8-4E27-8950-BD5AE280F82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9" name="Group 1026"/>
          <p:cNvGrpSpPr/>
          <p:nvPr/>
        </p:nvGrpSpPr>
        <p:grpSpPr>
          <a:xfrm>
            <a:off x="457200" y="1523880"/>
            <a:ext cx="3976560" cy="1828440"/>
            <a:chOff x="457200" y="1523880"/>
            <a:chExt cx="3976560" cy="1828440"/>
          </a:xfrm>
        </p:grpSpPr>
        <p:grpSp>
          <p:nvGrpSpPr>
            <p:cNvPr id="710" name="Group 1027"/>
            <p:cNvGrpSpPr/>
            <p:nvPr/>
          </p:nvGrpSpPr>
          <p:grpSpPr>
            <a:xfrm>
              <a:off x="457200" y="2247840"/>
              <a:ext cx="406080" cy="380880"/>
              <a:chOff x="457200" y="2247840"/>
              <a:chExt cx="406080" cy="380880"/>
            </a:xfrm>
          </p:grpSpPr>
          <p:sp>
            <p:nvSpPr>
              <p:cNvPr id="711" name="Oval 1028"/>
              <p:cNvSpPr/>
              <p:nvPr/>
            </p:nvSpPr>
            <p:spPr>
              <a:xfrm>
                <a:off x="457200" y="2247840"/>
                <a:ext cx="406080" cy="3808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Rectangle 1029"/>
              <p:cNvSpPr/>
              <p:nvPr/>
            </p:nvSpPr>
            <p:spPr>
              <a:xfrm>
                <a:off x="641160" y="227952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1030"/>
            <p:cNvGrpSpPr/>
            <p:nvPr/>
          </p:nvGrpSpPr>
          <p:grpSpPr>
            <a:xfrm>
              <a:off x="2286000" y="1523880"/>
              <a:ext cx="420480" cy="393480"/>
              <a:chOff x="2286000" y="1523880"/>
              <a:chExt cx="420480" cy="393480"/>
            </a:xfrm>
          </p:grpSpPr>
          <p:sp>
            <p:nvSpPr>
              <p:cNvPr id="714" name="Oval 1031"/>
              <p:cNvSpPr/>
              <p:nvPr/>
            </p:nvSpPr>
            <p:spPr>
              <a:xfrm>
                <a:off x="2286000" y="1523880"/>
                <a:ext cx="420480" cy="3934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Rectangle 1032"/>
              <p:cNvSpPr/>
              <p:nvPr/>
            </p:nvSpPr>
            <p:spPr>
              <a:xfrm>
                <a:off x="2444760" y="159336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1033"/>
            <p:cNvGrpSpPr/>
            <p:nvPr/>
          </p:nvGrpSpPr>
          <p:grpSpPr>
            <a:xfrm>
              <a:off x="2311200" y="2958840"/>
              <a:ext cx="420840" cy="393480"/>
              <a:chOff x="2311200" y="2958840"/>
              <a:chExt cx="420840" cy="393480"/>
            </a:xfrm>
          </p:grpSpPr>
          <p:sp>
            <p:nvSpPr>
              <p:cNvPr id="717" name="Oval 1034"/>
              <p:cNvSpPr/>
              <p:nvPr/>
            </p:nvSpPr>
            <p:spPr>
              <a:xfrm>
                <a:off x="2311200" y="2958840"/>
                <a:ext cx="420840" cy="3934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Rectangle 1035"/>
              <p:cNvSpPr/>
              <p:nvPr/>
            </p:nvSpPr>
            <p:spPr>
              <a:xfrm>
                <a:off x="2484360" y="300312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1036"/>
            <p:cNvGrpSpPr/>
            <p:nvPr/>
          </p:nvGrpSpPr>
          <p:grpSpPr>
            <a:xfrm>
              <a:off x="4027320" y="2260440"/>
              <a:ext cx="406440" cy="380880"/>
              <a:chOff x="4027320" y="2260440"/>
              <a:chExt cx="406440" cy="380880"/>
            </a:xfrm>
          </p:grpSpPr>
          <p:sp>
            <p:nvSpPr>
              <p:cNvPr id="720" name="Oval 1037"/>
              <p:cNvSpPr/>
              <p:nvPr/>
            </p:nvSpPr>
            <p:spPr>
              <a:xfrm>
                <a:off x="4027320" y="2260440"/>
                <a:ext cx="406440" cy="3808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Rectangle 1038"/>
              <p:cNvSpPr/>
              <p:nvPr/>
            </p:nvSpPr>
            <p:spPr>
              <a:xfrm>
                <a:off x="4198320" y="2304720"/>
                <a:ext cx="7704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1039"/>
            <p:cNvGrpSpPr/>
            <p:nvPr/>
          </p:nvGrpSpPr>
          <p:grpSpPr>
            <a:xfrm>
              <a:off x="819000" y="1758960"/>
              <a:ext cx="1460520" cy="520560"/>
              <a:chOff x="819000" y="1758960"/>
              <a:chExt cx="1460520" cy="520560"/>
            </a:xfrm>
          </p:grpSpPr>
          <p:sp>
            <p:nvSpPr>
              <p:cNvPr id="723" name="Freeform 1040"/>
              <p:cNvSpPr/>
              <p:nvPr/>
            </p:nvSpPr>
            <p:spPr>
              <a:xfrm>
                <a:off x="2101680" y="175896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4" name="Line 1041"/>
              <p:cNvSpPr/>
              <p:nvPr/>
            </p:nvSpPr>
            <p:spPr>
              <a:xfrm flipV="1">
                <a:off x="819000" y="1822320"/>
                <a:ext cx="129528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1042"/>
            <p:cNvGrpSpPr/>
            <p:nvPr/>
          </p:nvGrpSpPr>
          <p:grpSpPr>
            <a:xfrm>
              <a:off x="844560" y="2508120"/>
              <a:ext cx="1447560" cy="609120"/>
              <a:chOff x="844560" y="2508120"/>
              <a:chExt cx="1447560" cy="609120"/>
            </a:xfrm>
          </p:grpSpPr>
          <p:sp>
            <p:nvSpPr>
              <p:cNvPr id="726" name="Freeform 1043"/>
              <p:cNvSpPr/>
              <p:nvPr/>
            </p:nvSpPr>
            <p:spPr>
              <a:xfrm>
                <a:off x="2114280" y="30157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7" name="Line 1044"/>
              <p:cNvSpPr/>
              <p:nvPr/>
            </p:nvSpPr>
            <p:spPr>
              <a:xfrm>
                <a:off x="844560" y="2508120"/>
                <a:ext cx="1282680" cy="54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1045"/>
            <p:cNvGrpSpPr/>
            <p:nvPr/>
          </p:nvGrpSpPr>
          <p:grpSpPr>
            <a:xfrm>
              <a:off x="2700000" y="1733400"/>
              <a:ext cx="1333800" cy="570960"/>
              <a:chOff x="2700000" y="1733400"/>
              <a:chExt cx="1333800" cy="570960"/>
            </a:xfrm>
          </p:grpSpPr>
          <p:sp>
            <p:nvSpPr>
              <p:cNvPr id="729" name="Freeform 1046"/>
              <p:cNvSpPr/>
              <p:nvPr/>
            </p:nvSpPr>
            <p:spPr>
              <a:xfrm>
                <a:off x="3855960" y="2203200"/>
                <a:ext cx="177840" cy="10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0" name="Line 1047"/>
              <p:cNvSpPr/>
              <p:nvPr/>
            </p:nvSpPr>
            <p:spPr>
              <a:xfrm>
                <a:off x="2700000" y="1733400"/>
                <a:ext cx="116856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1048"/>
            <p:cNvGrpSpPr/>
            <p:nvPr/>
          </p:nvGrpSpPr>
          <p:grpSpPr>
            <a:xfrm>
              <a:off x="2725560" y="2533320"/>
              <a:ext cx="1320840" cy="571320"/>
              <a:chOff x="2725560" y="2533320"/>
              <a:chExt cx="1320840" cy="571320"/>
            </a:xfrm>
          </p:grpSpPr>
          <p:sp>
            <p:nvSpPr>
              <p:cNvPr id="732" name="Freeform 1049"/>
              <p:cNvSpPr/>
              <p:nvPr/>
            </p:nvSpPr>
            <p:spPr>
              <a:xfrm>
                <a:off x="3868560" y="25333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3" name="Line 1050"/>
              <p:cNvSpPr/>
              <p:nvPr/>
            </p:nvSpPr>
            <p:spPr>
              <a:xfrm flipV="1">
                <a:off x="2725560" y="2609280"/>
                <a:ext cx="11556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1051"/>
            <p:cNvGrpSpPr/>
            <p:nvPr/>
          </p:nvGrpSpPr>
          <p:grpSpPr>
            <a:xfrm>
              <a:off x="2444760" y="1911240"/>
              <a:ext cx="90360" cy="990720"/>
              <a:chOff x="2444760" y="1911240"/>
              <a:chExt cx="90360" cy="990720"/>
            </a:xfrm>
          </p:grpSpPr>
          <p:sp>
            <p:nvSpPr>
              <p:cNvPr id="735" name="Freeform 1052"/>
              <p:cNvSpPr/>
              <p:nvPr/>
            </p:nvSpPr>
            <p:spPr>
              <a:xfrm>
                <a:off x="2444760" y="2724120"/>
                <a:ext cx="9036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Line 1053"/>
              <p:cNvSpPr/>
              <p:nvPr/>
            </p:nvSpPr>
            <p:spPr>
              <a:xfrm>
                <a:off x="2484360" y="1911240"/>
                <a:ext cx="1440" cy="81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37" name="Rectangle 1054"/>
            <p:cNvSpPr/>
            <p:nvPr/>
          </p:nvSpPr>
          <p:spPr>
            <a:xfrm>
              <a:off x="1060200" y="1733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Rectangle 1055"/>
            <p:cNvSpPr/>
            <p:nvPr/>
          </p:nvSpPr>
          <p:spPr>
            <a:xfrm>
              <a:off x="1312920" y="17841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Rectangle 1056"/>
            <p:cNvSpPr/>
            <p:nvPr/>
          </p:nvSpPr>
          <p:spPr>
            <a:xfrm>
              <a:off x="1403280" y="1733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Rectangle 1057"/>
            <p:cNvSpPr/>
            <p:nvPr/>
          </p:nvSpPr>
          <p:spPr>
            <a:xfrm>
              <a:off x="3131640" y="1606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Rectangle 1058"/>
            <p:cNvSpPr/>
            <p:nvPr/>
          </p:nvSpPr>
          <p:spPr>
            <a:xfrm>
              <a:off x="3322440" y="160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Rectangle 1059"/>
            <p:cNvSpPr/>
            <p:nvPr/>
          </p:nvSpPr>
          <p:spPr>
            <a:xfrm>
              <a:off x="2572920" y="21650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Rectangle 1060"/>
            <p:cNvSpPr/>
            <p:nvPr/>
          </p:nvSpPr>
          <p:spPr>
            <a:xfrm>
              <a:off x="2763720" y="216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Rectangle 1061"/>
            <p:cNvSpPr/>
            <p:nvPr/>
          </p:nvSpPr>
          <p:spPr>
            <a:xfrm>
              <a:off x="3309840" y="28638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Rectangle 1062"/>
            <p:cNvSpPr/>
            <p:nvPr/>
          </p:nvSpPr>
          <p:spPr>
            <a:xfrm>
              <a:off x="3627360" y="2863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Rectangle 1063"/>
            <p:cNvSpPr/>
            <p:nvPr/>
          </p:nvSpPr>
          <p:spPr>
            <a:xfrm>
              <a:off x="1148760" y="280008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Rectangle 1064"/>
            <p:cNvSpPr/>
            <p:nvPr/>
          </p:nvSpPr>
          <p:spPr>
            <a:xfrm>
              <a:off x="1403280" y="280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8" name="Text Box 1065"/>
          <p:cNvSpPr/>
          <p:nvPr/>
        </p:nvSpPr>
        <p:spPr>
          <a:xfrm>
            <a:off x="4724280" y="15238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- Flow into i = 0 for i ≠ s or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presenting the Max Flow as an L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0" name="Text Box 1068"/>
          <p:cNvSpPr/>
          <p:nvPr/>
        </p:nvSpPr>
        <p:spPr>
          <a:xfrm>
            <a:off x="685800" y="3657600"/>
            <a:ext cx="3581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Text Box 1069"/>
          <p:cNvSpPr/>
          <p:nvPr/>
        </p:nvSpPr>
        <p:spPr>
          <a:xfrm>
            <a:off x="685800" y="411480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=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1071"/>
          <p:cNvSpPr/>
          <p:nvPr/>
        </p:nvSpPr>
        <p:spPr>
          <a:xfrm>
            <a:off x="4724280" y="3581280"/>
            <a:ext cx="3733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1072"/>
          <p:cNvSpPr/>
          <p:nvPr/>
        </p:nvSpPr>
        <p:spPr>
          <a:xfrm>
            <a:off x="4724280" y="403848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=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1073"/>
          <p:cNvSpPr/>
          <p:nvPr/>
        </p:nvSpPr>
        <p:spPr>
          <a:xfrm>
            <a:off x="685800" y="464832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1074"/>
          <p:cNvSpPr/>
          <p:nvPr/>
        </p:nvSpPr>
        <p:spPr>
          <a:xfrm>
            <a:off x="685800" y="510552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Text Box 1075"/>
          <p:cNvSpPr/>
          <p:nvPr/>
        </p:nvSpPr>
        <p:spPr>
          <a:xfrm>
            <a:off x="4724280" y="4648320"/>
            <a:ext cx="3733920" cy="134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 0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for each i ≠ s or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1076"/>
          <p:cNvSpPr/>
          <p:nvPr/>
        </p:nvSpPr>
        <p:spPr>
          <a:xfrm>
            <a:off x="685800" y="563868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=   -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Text Box 1077"/>
          <p:cNvSpPr/>
          <p:nvPr/>
        </p:nvSpPr>
        <p:spPr>
          <a:xfrm>
            <a:off x="609480" y="6248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1078"/>
          <p:cNvSpPr/>
          <p:nvPr/>
        </p:nvSpPr>
        <p:spPr>
          <a:xfrm>
            <a:off x="4724280" y="6248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1079"/>
          <p:cNvSpPr/>
          <p:nvPr/>
        </p:nvSpPr>
        <p:spPr>
          <a:xfrm>
            <a:off x="4724280" y="559260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-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=   -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1CF7-5DE9-4905-81B2-13A20B757B1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403848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- Flow into i = b(i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in Cost 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4" name="Text Box 46"/>
          <p:cNvSpPr/>
          <p:nvPr/>
        </p:nvSpPr>
        <p:spPr>
          <a:xfrm>
            <a:off x="1143000" y="380988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,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1143000" y="4419720"/>
            <a:ext cx="57913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  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 b(i)   for each 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52"/>
          <p:cNvSpPr/>
          <p:nvPr/>
        </p:nvSpPr>
        <p:spPr>
          <a:xfrm>
            <a:off x="1143000" y="5105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7" name="Group 57"/>
          <p:cNvGrpSpPr/>
          <p:nvPr/>
        </p:nvGrpSpPr>
        <p:grpSpPr>
          <a:xfrm>
            <a:off x="457200" y="1143000"/>
            <a:ext cx="3976560" cy="2209680"/>
            <a:chOff x="457200" y="1143000"/>
            <a:chExt cx="3976560" cy="2209680"/>
          </a:xfrm>
        </p:grpSpPr>
        <p:sp>
          <p:nvSpPr>
            <p:cNvPr id="768" name="Oval 4"/>
            <p:cNvSpPr/>
            <p:nvPr/>
          </p:nvSpPr>
          <p:spPr>
            <a:xfrm>
              <a:off x="457200" y="224784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Rectangle 5"/>
            <p:cNvSpPr/>
            <p:nvPr/>
          </p:nvSpPr>
          <p:spPr>
            <a:xfrm>
              <a:off x="641520" y="227952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Oval 7"/>
            <p:cNvSpPr/>
            <p:nvPr/>
          </p:nvSpPr>
          <p:spPr>
            <a:xfrm>
              <a:off x="2286000" y="1523880"/>
              <a:ext cx="420840" cy="393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Rectangle 8"/>
            <p:cNvSpPr/>
            <p:nvPr/>
          </p:nvSpPr>
          <p:spPr>
            <a:xfrm>
              <a:off x="2444760" y="159372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311560" y="295920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Rectangle 11"/>
            <p:cNvSpPr/>
            <p:nvPr/>
          </p:nvSpPr>
          <p:spPr>
            <a:xfrm>
              <a:off x="2484360" y="300348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>
              <a:off x="4027320" y="226044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Rectangle 14"/>
            <p:cNvSpPr/>
            <p:nvPr/>
          </p:nvSpPr>
          <p:spPr>
            <a:xfrm>
              <a:off x="4199040" y="230508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Freeform 16"/>
            <p:cNvSpPr/>
            <p:nvPr/>
          </p:nvSpPr>
          <p:spPr>
            <a:xfrm>
              <a:off x="2101680" y="17589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Line 17"/>
            <p:cNvSpPr/>
            <p:nvPr/>
          </p:nvSpPr>
          <p:spPr>
            <a:xfrm flipV="1">
              <a:off x="819000" y="182232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Freeform 19"/>
            <p:cNvSpPr/>
            <p:nvPr/>
          </p:nvSpPr>
          <p:spPr>
            <a:xfrm>
              <a:off x="2114640" y="301608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Line 20"/>
            <p:cNvSpPr/>
            <p:nvPr/>
          </p:nvSpPr>
          <p:spPr>
            <a:xfrm>
              <a:off x="844560" y="2508120"/>
              <a:ext cx="12826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Freeform 22"/>
            <p:cNvSpPr/>
            <p:nvPr/>
          </p:nvSpPr>
          <p:spPr>
            <a:xfrm>
              <a:off x="3855960" y="22035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Line 23"/>
            <p:cNvSpPr/>
            <p:nvPr/>
          </p:nvSpPr>
          <p:spPr>
            <a:xfrm>
              <a:off x="2700360" y="1733400"/>
              <a:ext cx="1168200" cy="5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Freeform 25"/>
            <p:cNvSpPr/>
            <p:nvPr/>
          </p:nvSpPr>
          <p:spPr>
            <a:xfrm>
              <a:off x="3868560" y="2533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Line 26"/>
            <p:cNvSpPr/>
            <p:nvPr/>
          </p:nvSpPr>
          <p:spPr>
            <a:xfrm flipV="1">
              <a:off x="2725560" y="260964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Freeform 28"/>
            <p:cNvSpPr/>
            <p:nvPr/>
          </p:nvSpPr>
          <p:spPr>
            <a:xfrm>
              <a:off x="2444760" y="2724120"/>
              <a:ext cx="903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Line 29"/>
            <p:cNvSpPr/>
            <p:nvPr/>
          </p:nvSpPr>
          <p:spPr>
            <a:xfrm>
              <a:off x="2484360" y="1911240"/>
              <a:ext cx="180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Rectangle 30"/>
            <p:cNvSpPr/>
            <p:nvPr/>
          </p:nvSpPr>
          <p:spPr>
            <a:xfrm>
              <a:off x="1060560" y="1733400"/>
              <a:ext cx="6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 ,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Rectangle 54"/>
            <p:cNvSpPr/>
            <p:nvPr/>
          </p:nvSpPr>
          <p:spPr>
            <a:xfrm>
              <a:off x="2438280" y="1143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8" name="Text Box 55"/>
          <p:cNvSpPr/>
          <p:nvPr/>
        </p:nvSpPr>
        <p:spPr>
          <a:xfrm>
            <a:off x="5105520" y="20574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has a linear cost and a capac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56"/>
          <p:cNvSpPr/>
          <p:nvPr/>
        </p:nvSpPr>
        <p:spPr>
          <a:xfrm>
            <a:off x="609480" y="5943600"/>
            <a:ext cx="7086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vered in detail in Chapter 1 of AM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50B7-C831-4C3D-B22B-C05FCBA3228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Quick 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:  The Koenigsberg Bridge Probl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s Networks and Network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ubject management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flows an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tional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goal of today’s lecture:   set the tone for the rest of the su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moti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e some class log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BFA0-2F59-40E5-AFC3-FBCF0E47B62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ere Network Optimization Aris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of goods over transportation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of fleets of airpla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facturing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of goods for manufactu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of manufactured items within inventory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and expansion of communic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of information across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Systems, Financial Systems, and much m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E552-22C1-490E-9220-F82A40090FF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xt topic: 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n efficient algorith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measure efficienc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st case analysi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first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21EC-D237-4DE4-B6E7-8E3A007C715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asuring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the following algorithm for adding two m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matrices A and B with coefficients a( , ) and b( , 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i = 1 to 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j = 1 to n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c(i,j) := a(i,j) + b(i,j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running time of this algorithm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’s measure it as precisely as we can as a function of n and m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it 2nm, or 3nm, or wh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st case versus average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o we measure the running time?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are the basic steps that we should cou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1282-1269-401B-BC94-82F65EDA196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ute the running time precisely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tion  Number  (as a function of m,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654D-17B1-4CBC-9180-0179974AE78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We will ignore running time const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Our running times will be stated in terms of relevant problem parameters, e.g.,  n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We will measure everything in terms of worst case or most pessimistic analysis  (performance guarante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All arithmetic operations are assumed to take one step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or a number of steps that is bounded by a constant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1817-6224-4FDE-9217-7BB1F8BA3DE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impler Metric for Running Time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tion  Number  (as a function of m,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s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s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sons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TAL 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D7B9-7FA3-436C-98AF-C34F7268EB4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mplifying Assumptions and No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MODEL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andom Access Machin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(RAM)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computer model that everyone is used to.  It allows the use of arrays, and it can select any element of an array or matrix in O(1)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i,j) := a(i,j) + b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grality Assumption.  All numbers are integral (unless stated otherwis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F718-F603-41DC-B5C9-288818966D0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ze of a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a problem is the number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eded to represent the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the 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 matrix A is not n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ach matrix element has K bits, the size is nm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if ma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K = 10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= O( log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B01F-59AC-43B0-A171-05164407EA2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olynomial Time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n algorithm runs 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lynomial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the number of steps taken by an algorithm on any instanc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bounded by a polynomial in the size of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n algorithm runs 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onential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it does not run in polynomial tim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ing the determinant of a matrix can be done in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te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polynomial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53D1-ECA6-4A8E-ADC0-CD0219DB36C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olynomial Time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We can determine if n is prime by dividing n by every integer less than 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lgorithm is exponential tim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ze of the instance is log 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unning time of the algorithm is O(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de note: there is a polynomial time algorithm for determining if n is prim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most all of the algorithms presented in this class will be polynomial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find an Eulerian cycle (if one exists) in O(m) ste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known polynomial time algorithm for finding a min cost traveling salesman to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60E3-CB51-4C8A-9285-398F98AF454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the background of stude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 for this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ther Linear Programming (15.081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ata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oo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mework exercises usually call for proof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dterms will not require proof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ose who have not done many proofs before, the TA will provide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3587-4F02-4F70-92DA-A52BD0DE672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polynomial vs exponential ti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ontrast two algorithm, one that takes 30,000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eps, and one that takes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we could carry out 1 billion steps per seco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of nod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,000 n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30,            0.81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40,            1.92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3.75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6.48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CD6C-2C73-4E56-BB5A-1AFC7529DCF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polynomial vs. exponential ti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we could carry out 1 trillion steps per second, and instantaneously eliminate 99.9999999% of all solutions as not worth consid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of no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,00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70,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2.82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80,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.74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4.86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0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2042-E7BD-4353-87EC-5C5CF3A374A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lerian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utational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9E58-5CFE-4D73-93BB-1624769CCDE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coming Lectur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2:   Review of Data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those with data structure backgrounds are encouraged to atte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3.   Graph Search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determine if a graph is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o label a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6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EC25-769D-4501-ADA8-D619E04B215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aspects of the cla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ness for Powerpoint anim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d-calling as a way to speed up learning of the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ing with partners (the person next to you in in the classroom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time:  used for presenting theory, algorithms,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ly outlines of proofs illustrated by examples (not detailed proof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proofs are in the tex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636B-948E-474E-A653-494AC835F7F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Theory” began in 17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nard 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ed Koenigsbe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 wondered whether it is possible to take a walk, end up where you started from, and cross each bridge in Koenigsberg exactly o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it was believed to be im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593D-2590-4595-A407-70B6E496C24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274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43400" y="4724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832360" y="3152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Freeform 8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487680" y="27068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376440" y="1812960"/>
            <a:ext cx="335160" cy="89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3265560" y="3265560"/>
            <a:ext cx="334800" cy="89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056280" y="1812960"/>
            <a:ext cx="335160" cy="89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056280" y="4270320"/>
            <a:ext cx="335160" cy="89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4046400" y="1812960"/>
            <a:ext cx="335160" cy="893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046400" y="3265560"/>
            <a:ext cx="335160" cy="89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 rot="5400000">
            <a:off x="4771800" y="2538360"/>
            <a:ext cx="335160" cy="89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38148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022640" y="19242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4751280" y="28335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604836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6056280" y="45133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4067280" y="3397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3227400" y="33764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1219320" y="56386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it possible to start in A, cross over each bridge exactly once, and end up back in 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4674-0BB2-40D2-BE3C-8C77CD79AE5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274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343400" y="4724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832360" y="3152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487680" y="27068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376440" y="1812960"/>
            <a:ext cx="335160" cy="89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3265560" y="3265560"/>
            <a:ext cx="334800" cy="89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6056280" y="1812960"/>
            <a:ext cx="335160" cy="89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056280" y="4270320"/>
            <a:ext cx="335160" cy="89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4046400" y="1812960"/>
            <a:ext cx="335160" cy="893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4046400" y="3265560"/>
            <a:ext cx="335160" cy="89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Rectangle 17"/>
          <p:cNvSpPr/>
          <p:nvPr/>
        </p:nvSpPr>
        <p:spPr>
          <a:xfrm rot="5400000">
            <a:off x="4771800" y="2538360"/>
            <a:ext cx="335160" cy="89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338148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022640" y="19242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751280" y="28335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04836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6056280" y="45133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067280" y="3397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3227400" y="33764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219320" y="56386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ptualization:  Land masses are “nodes”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419720" y="114300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Oval 27"/>
          <p:cNvSpPr/>
          <p:nvPr/>
        </p:nvSpPr>
        <p:spPr>
          <a:xfrm>
            <a:off x="5638680" y="2971800"/>
            <a:ext cx="83844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Oval 28"/>
          <p:cNvSpPr/>
          <p:nvPr/>
        </p:nvSpPr>
        <p:spPr>
          <a:xfrm>
            <a:off x="4114800" y="457200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3276720" y="259092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AA4E-8891-48BD-9038-82116AB5D6C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219320" y="56386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ptualization:  Bridges are “arcs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5" name="Group 15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176" name="Text Box 16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Oval 17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179" name="Text Box 19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Oval 20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182" name="Text Box 22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Oval 23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4" name="Group 24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185" name="Text Box 25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26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187" name="AutoShape 27"/>
          <p:cNvCxnSpPr>
            <a:stCxn id="186" idx="1"/>
            <a:endCxn id="177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88" name="AutoShape 28"/>
          <p:cNvCxnSpPr>
            <a:stCxn id="186" idx="6"/>
            <a:endCxn id="177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89" name="AutoShape 29"/>
          <p:cNvCxnSpPr>
            <a:stCxn id="186" idx="6"/>
            <a:endCxn id="183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0" name="AutoShape 30"/>
          <p:cNvCxnSpPr>
            <a:stCxn id="186" idx="6"/>
            <a:endCxn id="180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1" name="AutoShape 31"/>
          <p:cNvCxnSpPr>
            <a:stCxn id="186" idx="4"/>
            <a:endCxn id="183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2" name="AutoShape 32"/>
          <p:cNvCxnSpPr>
            <a:stCxn id="183" idx="6"/>
            <a:endCxn id="180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3" name="AutoShape 33"/>
          <p:cNvCxnSpPr>
            <a:stCxn id="180" idx="7"/>
            <a:endCxn id="177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50:14Z</dcterms:created>
  <dc:creator>Jim Orlin</dc:creator>
  <dc:description/>
  <dc:language>en-US</dc:language>
  <cp:lastModifiedBy>Sapient</cp:lastModifiedBy>
  <cp:lastPrinted>2010-09-08T16:50:40Z</cp:lastPrinted>
  <dcterms:modified xsi:type="dcterms:W3CDTF">2011-02-28T06:10:13Z</dcterms:modified>
  <cp:revision>53</cp:revision>
  <dc:subject/>
  <dc:title>15.082        Spring 1998</dc:title>
</cp:coreProperties>
</file>