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A987-42AB-4F3D-88E4-1EC401C38FF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0AF2-7192-444F-B775-E0D9E260458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133D-A2CF-482B-8FED-D56CFCCDF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E4CA-9DD3-40B8-ADE2-23ED06149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8698-3939-4D0C-B36D-19C6C5313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34D0-B098-4978-A369-54AB6CEFF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C8AA4-A706-457D-B46C-12E21E22A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8706-44D2-4D73-B796-AECA6B6CD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336D-6C89-45C4-8714-BC8A3F1F0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C2D7-8E9C-4B12-93BD-8734630E8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9420-AF35-439E-A40B-E4922A119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41DF-FFDB-40E4-A5A0-B6918B8AD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1DD1-62E0-4084-8640-2F7A79B4A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987B-3023-41A7-8483-E6D71C87A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4CF4-758B-4228-A38F-B985A1F2201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34"/>
          <p:cNvGrpSpPr/>
          <p:nvPr/>
        </p:nvGrpSpPr>
        <p:grpSpPr>
          <a:xfrm>
            <a:off x="152280" y="4648320"/>
            <a:ext cx="2971800" cy="1993680"/>
            <a:chOff x="152280" y="4648320"/>
            <a:chExt cx="2971800" cy="1993680"/>
          </a:xfrm>
        </p:grpSpPr>
        <p:sp>
          <p:nvSpPr>
            <p:cNvPr id="6" name="Text Box 3"/>
            <p:cNvSpPr/>
            <p:nvPr/>
          </p:nvSpPr>
          <p:spPr>
            <a:xfrm>
              <a:off x="1466640" y="46483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Text Box 4"/>
            <p:cNvSpPr/>
            <p:nvPr/>
          </p:nvSpPr>
          <p:spPr>
            <a:xfrm>
              <a:off x="2571840" y="51926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Text Box 5"/>
            <p:cNvSpPr/>
            <p:nvPr/>
          </p:nvSpPr>
          <p:spPr>
            <a:xfrm>
              <a:off x="1676160" y="51512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Text Box 6"/>
            <p:cNvSpPr/>
            <p:nvPr/>
          </p:nvSpPr>
          <p:spPr>
            <a:xfrm>
              <a:off x="2147760" y="537192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Text Box 7"/>
            <p:cNvSpPr/>
            <p:nvPr/>
          </p:nvSpPr>
          <p:spPr>
            <a:xfrm>
              <a:off x="21398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Text Box 8"/>
            <p:cNvSpPr/>
            <p:nvPr/>
          </p:nvSpPr>
          <p:spPr>
            <a:xfrm>
              <a:off x="1298520" y="586908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Text Box 9"/>
            <p:cNvSpPr/>
            <p:nvPr/>
          </p:nvSpPr>
          <p:spPr>
            <a:xfrm>
              <a:off x="685440" y="54277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Text Box 10"/>
            <p:cNvSpPr/>
            <p:nvPr/>
          </p:nvSpPr>
          <p:spPr>
            <a:xfrm>
              <a:off x="448920" y="504036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Text Box 11"/>
            <p:cNvSpPr/>
            <p:nvPr/>
          </p:nvSpPr>
          <p:spPr>
            <a:xfrm>
              <a:off x="6854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Text Box 12"/>
            <p:cNvSpPr/>
            <p:nvPr/>
          </p:nvSpPr>
          <p:spPr>
            <a:xfrm>
              <a:off x="1384200" y="516096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Oval 13"/>
            <p:cNvSpPr/>
            <p:nvPr/>
          </p:nvSpPr>
          <p:spPr>
            <a:xfrm>
              <a:off x="15228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Oval 14"/>
            <p:cNvSpPr/>
            <p:nvPr/>
          </p:nvSpPr>
          <p:spPr>
            <a:xfrm>
              <a:off x="87444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Oval 15"/>
            <p:cNvSpPr/>
            <p:nvPr/>
          </p:nvSpPr>
          <p:spPr>
            <a:xfrm>
              <a:off x="159516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Oval 16"/>
            <p:cNvSpPr/>
            <p:nvPr/>
          </p:nvSpPr>
          <p:spPr>
            <a:xfrm>
              <a:off x="210492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Oval 17"/>
            <p:cNvSpPr/>
            <p:nvPr/>
          </p:nvSpPr>
          <p:spPr>
            <a:xfrm>
              <a:off x="1255680" y="6351480"/>
              <a:ext cx="2984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Oval 18"/>
            <p:cNvSpPr/>
            <p:nvPr/>
          </p:nvSpPr>
          <p:spPr>
            <a:xfrm>
              <a:off x="282744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Line 19"/>
            <p:cNvSpPr/>
            <p:nvPr/>
          </p:nvSpPr>
          <p:spPr>
            <a:xfrm>
              <a:off x="448920" y="5854680"/>
              <a:ext cx="849240" cy="538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Line 20"/>
            <p:cNvSpPr/>
            <p:nvPr/>
          </p:nvSpPr>
          <p:spPr>
            <a:xfrm flipV="1">
              <a:off x="321840" y="5068800"/>
              <a:ext cx="552240" cy="620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Line 21"/>
            <p:cNvSpPr/>
            <p:nvPr/>
          </p:nvSpPr>
          <p:spPr>
            <a:xfrm>
              <a:off x="406080" y="5730840"/>
              <a:ext cx="1231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Line 22"/>
            <p:cNvSpPr/>
            <p:nvPr/>
          </p:nvSpPr>
          <p:spPr>
            <a:xfrm flipH="1" flipV="1">
              <a:off x="1171440" y="5109840"/>
              <a:ext cx="55080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Line 23"/>
            <p:cNvSpPr/>
            <p:nvPr/>
          </p:nvSpPr>
          <p:spPr>
            <a:xfrm>
              <a:off x="1171440" y="4943520"/>
              <a:ext cx="933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Line 24"/>
            <p:cNvSpPr/>
            <p:nvPr/>
          </p:nvSpPr>
          <p:spPr>
            <a:xfrm flipH="1">
              <a:off x="1764720" y="5110200"/>
              <a:ext cx="33948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" name="Line 25"/>
            <p:cNvSpPr/>
            <p:nvPr/>
          </p:nvSpPr>
          <p:spPr>
            <a:xfrm>
              <a:off x="1850760" y="5730840"/>
              <a:ext cx="9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" name="Line 27"/>
            <p:cNvSpPr/>
            <p:nvPr/>
          </p:nvSpPr>
          <p:spPr>
            <a:xfrm flipV="1">
              <a:off x="1511280" y="5854680"/>
              <a:ext cx="1316160" cy="581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Line 28"/>
            <p:cNvSpPr/>
            <p:nvPr/>
          </p:nvSpPr>
          <p:spPr>
            <a:xfrm>
              <a:off x="2401920" y="5151240"/>
              <a:ext cx="468360" cy="537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Line 48"/>
            <p:cNvSpPr/>
            <p:nvPr/>
          </p:nvSpPr>
          <p:spPr>
            <a:xfrm flipV="1">
              <a:off x="1425600" y="5938560"/>
              <a:ext cx="212400" cy="371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&amp; 6.855J  &amp;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gorithm Visualization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Ford-Fulkerson Augmenting Path Algorithm for the Maximum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3F78-17F6-45DD-8F10-793CA6CD70C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3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3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3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3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43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44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45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47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4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49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Line 5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Line 5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AC1F-6F3C-4A58-847A-105F812B7EE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Text Box 54"/>
          <p:cNvSpPr/>
          <p:nvPr/>
        </p:nvSpPr>
        <p:spPr>
          <a:xfrm>
            <a:off x="6095880" y="3139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Text Box 55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57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6095880" y="3124080"/>
            <a:ext cx="53676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45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4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4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5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5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59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6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5D24-AA46-46CC-AEAB-633625C71E0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4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5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6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7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5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55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57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5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E31B-EC13-469A-A3AB-0A4BF3D45B1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Text Box 61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63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58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5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6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48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4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5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51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5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5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4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5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D76-9D08-45AC-9295-015B9040F98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Line 51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Line 52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Line 53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Line 54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55"/>
          <p:cNvSpPr/>
          <p:nvPr/>
        </p:nvSpPr>
        <p:spPr>
          <a:xfrm>
            <a:off x="3733920" y="4800600"/>
            <a:ext cx="3809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s-t path in the residual network.  This flow is optima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Line 5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2C84-CC42-453B-862A-E3E8AAD3C7E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4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50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Line 51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Line 52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53"/>
          <p:cNvSpPr/>
          <p:nvPr/>
        </p:nvSpPr>
        <p:spPr>
          <a:xfrm>
            <a:off x="3352680" y="4800600"/>
            <a:ext cx="4267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se are the nodes that are reachable from node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Line 5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Oval 5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Oval 5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Oval 5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Oval 5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Oval 5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C823-7D43-4C11-9F92-59D760FA02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92" name="Group 31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793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94" name="Group 30"/>
            <p:cNvGrpSpPr/>
            <p:nvPr/>
          </p:nvGrpSpPr>
          <p:grpSpPr>
            <a:xfrm>
              <a:off x="2743200" y="1295280"/>
              <a:ext cx="5334120" cy="3200400"/>
              <a:chOff x="2743200" y="1295280"/>
              <a:chExt cx="5334120" cy="3200400"/>
            </a:xfrm>
          </p:grpSpPr>
          <p:sp>
            <p:nvSpPr>
              <p:cNvPr id="795" name="Text Box 4"/>
              <p:cNvSpPr/>
              <p:nvPr/>
            </p:nvSpPr>
            <p:spPr>
              <a:xfrm>
                <a:off x="7086600" y="1828800"/>
                <a:ext cx="53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Text Box 6"/>
              <p:cNvSpPr/>
              <p:nvPr/>
            </p:nvSpPr>
            <p:spPr>
              <a:xfrm>
                <a:off x="632628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Text Box 7"/>
              <p:cNvSpPr/>
              <p:nvPr/>
            </p:nvSpPr>
            <p:spPr>
              <a:xfrm>
                <a:off x="6095880" y="3124080"/>
                <a:ext cx="5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Text Box 9"/>
              <p:cNvSpPr/>
              <p:nvPr/>
            </p:nvSpPr>
            <p:spPr>
              <a:xfrm>
                <a:off x="365760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Text Box 10"/>
              <p:cNvSpPr/>
              <p:nvPr/>
            </p:nvSpPr>
            <p:spPr>
              <a:xfrm>
                <a:off x="3276720" y="182880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Text Box 11"/>
              <p:cNvSpPr/>
              <p:nvPr/>
            </p:nvSpPr>
            <p:spPr>
              <a:xfrm>
                <a:off x="3807000" y="310824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Oval 13"/>
              <p:cNvSpPr/>
              <p:nvPr/>
            </p:nvSpPr>
            <p:spPr>
              <a:xfrm>
                <a:off x="27432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Oval 14"/>
              <p:cNvSpPr/>
              <p:nvPr/>
            </p:nvSpPr>
            <p:spPr>
              <a:xfrm>
                <a:off x="4038480" y="129528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Oval 15"/>
              <p:cNvSpPr/>
              <p:nvPr/>
            </p:nvSpPr>
            <p:spPr>
              <a:xfrm>
                <a:off x="5334120" y="27432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Oval 16"/>
              <p:cNvSpPr/>
              <p:nvPr/>
            </p:nvSpPr>
            <p:spPr>
              <a:xfrm>
                <a:off x="6248520" y="129528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5" name="Oval 17"/>
              <p:cNvSpPr/>
              <p:nvPr/>
            </p:nvSpPr>
            <p:spPr>
              <a:xfrm>
                <a:off x="4724280" y="3962520"/>
                <a:ext cx="533520" cy="533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Oval 18"/>
              <p:cNvSpPr/>
              <p:nvPr/>
            </p:nvSpPr>
            <p:spPr>
              <a:xfrm>
                <a:off x="75438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Line 19"/>
              <p:cNvSpPr/>
              <p:nvPr/>
            </p:nvSpPr>
            <p:spPr>
              <a:xfrm>
                <a:off x="3276720" y="3048120"/>
                <a:ext cx="1523880" cy="9903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Line 20"/>
              <p:cNvSpPr/>
              <p:nvPr/>
            </p:nvSpPr>
            <p:spPr>
              <a:xfrm flipV="1">
                <a:off x="3048120" y="1599840"/>
                <a:ext cx="99036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Line 21"/>
              <p:cNvSpPr/>
              <p:nvPr/>
            </p:nvSpPr>
            <p:spPr>
              <a:xfrm>
                <a:off x="3200400" y="2819520"/>
                <a:ext cx="2209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Line 23"/>
              <p:cNvSpPr/>
              <p:nvPr/>
            </p:nvSpPr>
            <p:spPr>
              <a:xfrm>
                <a:off x="4572000" y="1371600"/>
                <a:ext cx="1676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>
                <a:off x="5791320" y="2819520"/>
                <a:ext cx="17524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Line 26"/>
              <p:cNvSpPr/>
              <p:nvPr/>
            </p:nvSpPr>
            <p:spPr>
              <a:xfrm flipV="1">
                <a:off x="5181480" y="3047760"/>
                <a:ext cx="2362320" cy="10666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27"/>
              <p:cNvSpPr/>
              <p:nvPr/>
            </p:nvSpPr>
            <p:spPr>
              <a:xfrm>
                <a:off x="6781680" y="1752480"/>
                <a:ext cx="83844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" name="Text Box 28"/>
          <p:cNvSpPr/>
          <p:nvPr/>
        </p:nvSpPr>
        <p:spPr>
          <a:xfrm>
            <a:off x="4114800" y="4800600"/>
            <a:ext cx="2666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optim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DE0D-A442-4F3C-8935-7ECE2D85093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Oval 2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3429000" y="4876920"/>
            <a:ext cx="4495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plus reversals of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2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4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44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4495680" y="1828800"/>
            <a:ext cx="838440" cy="9144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46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47"/>
          <p:cNvSpPr/>
          <p:nvPr/>
        </p:nvSpPr>
        <p:spPr>
          <a:xfrm flipV="1">
            <a:off x="5791320" y="1752480"/>
            <a:ext cx="609480" cy="10670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4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51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5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6453-6322-4B72-8D8F-403FAC4388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76720" y="4724280"/>
            <a:ext cx="4495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and the original residual networ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161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7086960" y="18288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5639040" y="175248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32628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096240" y="31240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800600" y="33526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65760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327636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3806640" y="31082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95288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3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403848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53341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624852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724280" y="39625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Oval 18"/>
            <p:cNvSpPr/>
            <p:nvPr/>
          </p:nvSpPr>
          <p:spPr>
            <a:xfrm>
              <a:off x="7544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3276360" y="3048120"/>
              <a:ext cx="15238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47760" y="1599840"/>
              <a:ext cx="99036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3200400" y="2819520"/>
              <a:ext cx="2209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H="1" flipV="1">
              <a:off x="4571640" y="1676160"/>
              <a:ext cx="99036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4572000" y="1371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H="1">
              <a:off x="5638680" y="1676520"/>
              <a:ext cx="60948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>
              <a:off x="5791320" y="2819520"/>
              <a:ext cx="1752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V="1">
              <a:off x="5181480" y="3047760"/>
              <a:ext cx="23623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>
              <a:off x="6782040" y="1752480"/>
              <a:ext cx="8380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48"/>
            <p:cNvSpPr/>
            <p:nvPr/>
          </p:nvSpPr>
          <p:spPr>
            <a:xfrm flipV="1">
              <a:off x="5029200" y="3200040"/>
              <a:ext cx="380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FCC8-B421-49F8-BA79-068F6C25594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2093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094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2095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2096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97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09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09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10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10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9" name="Text Box 2077"/>
          <p:cNvSpPr/>
          <p:nvPr/>
        </p:nvSpPr>
        <p:spPr>
          <a:xfrm>
            <a:off x="3429000" y="4724280"/>
            <a:ext cx="4495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in G(x)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210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val 210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210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210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Oval 210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210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Line 210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11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211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211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211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211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Line 211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211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11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11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11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212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212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BCF1-5F51-4E2F-A34C-646E15A6A80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7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7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69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4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4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4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4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5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Oval 5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5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5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5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5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6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6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6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Line 6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6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Line 6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7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Line 7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7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Line 7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02AF-406C-41D7-BB15-B828A94B7C0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26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27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28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30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3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42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43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70E5-DBAB-4D6E-A9A2-4DCB83BC0BC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55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5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5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4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 Box 4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Oval 1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Oval 1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Oval 2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Oval 2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Oval 2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Oval 2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2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2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3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3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Line 3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36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Line 37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Line 39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4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41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D9ED-9F15-4F36-9022-79F0E49E65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9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5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51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5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54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5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7AF1-0D86-489E-8E2E-208A7BC7182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56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0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23:33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0:31Z</dcterms:modified>
  <cp:revision>28</cp:revision>
  <dc:subject/>
  <dc:title>15.082        Spring 1998</dc:title>
</cp:coreProperties>
</file>