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4.wmf" ContentType="image/x-wmf"/>
  <Override PartName="/ppt/media/image34.wmf" ContentType="image/x-wmf"/>
  <Override PartName="/ppt/media/image10.wmf" ContentType="image/x-wmf"/>
  <Override PartName="/ppt/media/image30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5F3-C173-425F-96A5-6B4B0927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C3F-9A13-4A62-AD3E-8C6886B4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B61-A89F-4DA1-B794-FD237FBC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A6B-3E2A-4D2A-8789-952BB99C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E5D-BCF0-47BC-8893-A6711842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EB9-2221-463D-AB35-F4AFC5E1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602-FC0E-4008-A9CD-C45B0F50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831-7CD5-47B8-A69B-B79C52DC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668-62DC-4860-A83F-A63077A4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4E8-39FC-4F4B-8F3D-62D9051B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79E-758E-4B86-B200-61E55BE5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C7E-5812-4C9A-9F06-59A10CBB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7EBF-B8E0-441A-9B90-0CAE4086EC9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EDCB-04C4-4F18-A407-723DB8FD28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Cost Fun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fly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* total dut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guaranteed duty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ily compensates for flying time, but also compensates for “undesirable”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6F2-71D0-44EA-9B87-78DADE6BAE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5B252-28FE-4EA7-9E7A-AD7D927F45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equenc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uty perio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interspersed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riods of re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hat begins and ends at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rew domic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04B-5380-4AC2-A32C-B67BFE125B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1C8F7-0733-4C6A-AA65-2237C1AD74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R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 duty starts/last duty ends at domic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ies are sequential in space/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rest between du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layover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number of days away from 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-in-24 r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F16-59BB-474A-AF88-2BD4EA23D2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59B3B-D118-41F3-A03C-8AA2037AA6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Cost Fun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m of dut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* total time away from base (TAFB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guaranteed pairing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9FC-F5F8-4250-8F49-0F0CECC68D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E4466-126C-450D-AF88-C7F764C167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rest between pair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monthly flying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time on du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total number of days of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key differenc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 function focuses on crew pre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hedules individuals rather than complete cre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CB6-1021-4F5D-ADDE-622FC9E5E4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293F5-98AB-4C9B-98FF-B8080913C5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Scheduling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1371600"/>
            <a:ext cx="6172200" cy="441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w Scheduling Prob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359000"/>
            <a:ext cx="6184800" cy="4432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47920" y="1359000"/>
            <a:ext cx="6184800" cy="4432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8880" y="1251000"/>
            <a:ext cx="8166240" cy="466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2760" y="1219320"/>
            <a:ext cx="8178480" cy="482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54160" y="1130400"/>
            <a:ext cx="863568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0DDF-8975-40C5-B7FC-3B592F81994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1D452-AAA0-43BB-977E-523B792CF7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 minimum cost set of pairings such that every flight is included in exactly one pai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w Pairing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i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ek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e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48D-F487-444C-88CC-ECEEAABC88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55ED8-B535-4397-A70F-EA6DCE15E4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il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flights operating four or more times per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sen pairings will be repeated each 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-day pairings will be flown by multiple crew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s cannot be repeated in a pai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685-2125-4734-AE46-B9A89C9376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547C1-9CCA-47D0-9475-B30F7E1FDD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159840" y="133668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        TUE      WED      THU         FRI       SAT         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3040" y="19558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346040" y="24890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489040" y="302256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632040" y="35560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775040" y="40892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28600" y="4648320"/>
            <a:ext cx="7883640" cy="419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28600" y="5143680"/>
            <a:ext cx="788364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5D0-4806-413D-81C0-66ADF676DF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AEA02-7E0B-4F42-ADDA-9769727A33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159840" y="133668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        TUE      WED      THU         FRI       SAT         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3040" y="195588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46040" y="248904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489040" y="302256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632040" y="1905120"/>
            <a:ext cx="3302280" cy="40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775040" y="2438280"/>
            <a:ext cx="3302280" cy="406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924520" y="2978280"/>
            <a:ext cx="992160" cy="38232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0080" y="3035160"/>
            <a:ext cx="75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67520" y="2978280"/>
            <a:ext cx="992160" cy="38232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89920" y="30351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7920" y="2436840"/>
            <a:ext cx="992160" cy="3826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0320" y="249408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93080" y="1905120"/>
            <a:ext cx="992160" cy="3823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8640" y="1962000"/>
            <a:ext cx="75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7160" y="3046320"/>
            <a:ext cx="992160" cy="3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560" y="31035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0160" y="3046320"/>
            <a:ext cx="992160" cy="382680"/>
          </a:xfrm>
          <a:prstGeom prst="rect">
            <a:avLst/>
          </a:prstGeom>
          <a:solidFill>
            <a:srgbClr val="ff9933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2560" y="3103560"/>
            <a:ext cx="74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C91-6596-41F7-89D3-D544F9411A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23E5C-FD9D-4A27-99D0-AB2F110E2E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Crew Scheduling Probl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tial Solution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w Pairing Optimization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Price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ing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56C-C715-463B-A2B4-CB59808729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18911-9E7C-4B9D-8669-FDE7BD3389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eekl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scheduled in a week-long peri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on a particular flight leg can vary by day of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y-of-week as well as flight number, location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D92-04BC-4491-A553-3A249E71AB2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7D7C2-74B2-437B-A324-368C2A3887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cep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in “broken pairing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all flights that are scheduled at most three times/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y-of-week as well as flight number, location,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“weekly” pair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FEB-5685-493F-A436-FA156A1B555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0BB83-874B-4E5C-8D8C-2E78877423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ran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flights in pairings that cross the end of the mon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flights by date as well as flight number, location, time, day-of-wee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pairings connecting two different flight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93D-193B-4C71-86B3-11B8212D414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B6C13-3F56-40DE-9F3A-064279BA1B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812880" y="3048120"/>
            <a:ext cx="1854000" cy="106668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ai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124080"/>
            <a:ext cx="1981440" cy="106704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cep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3124080"/>
            <a:ext cx="2057400" cy="1067040"/>
          </a:xfrm>
          <a:prstGeom prst="rect">
            <a:avLst/>
          </a:prstGeom>
          <a:solidFill>
            <a:srgbClr val="ed25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5812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36576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45280" y="4191120"/>
            <a:ext cx="11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o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i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5388480" y="4191120"/>
            <a:ext cx="11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ok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ai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7C0-0D0C-4858-9059-D4BBD9A34F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4971C-BFB5-4DAF-901D-B47175279E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ignment Proble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ed at the individual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rporates rest, vacation time, medical leave,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 is not on cost but crew needs/ prefer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255-959D-4405-8A8D-D1F24105775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D3BFF-8241-441A-8F7F-DE23AFABD3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idline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rings are constructed into generic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edules are posted and crew members bid for specific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senior crew members given greater pri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ly used in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6B5-4A74-47E9-8ECA-AEFDFE18589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0150B-3616-4A27-B7C6-ABE8B91943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Roste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sonalized pairings are construc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rporates crew vacation requests, training needs,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er priority given to more senior crew me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 outside the U.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5FD-2CA1-4BC7-A2EF-2F4A59ED2AE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19D51-5F0C-4B5E-9F54-53C7254572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airing vs. Assign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milarit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quencing flights to form pairing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quencing pairings to form sched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 partitioning formulations (possibly with side constrain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ifferenc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crews vs. single crew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ive func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 horiz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B0C-FB63-4FB4-AF1E-CDDA57230A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4C6F7-B355-405A-AF32-191CFCF39F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ckpit vs. Cabi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s stay together; cabin crews do n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 makeup is fixed; cabin needs can vary by dem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bin crew members have a wider range of aircraft they can sta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ckpit crew members receive higher sal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EB2-4070-4D6C-98C6-A3491CFCE3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90A3B-9FCE-45D4-A5F8-71B1D3DB51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omestic vs. Internation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estic U.S. networks of large carriers are predominantly hub-and-spok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many connection opport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estic networks are usually dai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ational networks are typically point-to-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re of a need to us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eadhea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ational networks are typically week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0FC-8E5C-4FAA-B4ED-1026315EC5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383DF-F724-41C3-9806-824DD13235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rew Scheduling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largest operating expense (after fue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 success s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x problems with many remaining opportun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ase study for techniques to solve large 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E0F-197B-43E1-9C32-BCF50632C8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8F5E7-3F8A-4E95-AC0F-FF58E28B52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overy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disruption, adjust the crew schedule so that it becomes fea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our objectiv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urn to original schedule as quickly as possi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passenger disruption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cos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ited time horizon -- need fast heu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171-0A3B-411E-A69C-1F4D9266A8E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67C2D-B0BE-4809-8E00-F2C0B4113C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cus: Daily Domestic Cockpit Crew Pai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roblem descrip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 approach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on with aircraft routing, FA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837-5FA0-49BB-A1F3-900D85E036D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45FD0-C5E4-404C-8327-C7DBDE68F0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Crew Pair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set of flights (corresponding to 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vidual fleet type 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leet fami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, choose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cost set of pairings such that e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is covered exactly once (i.e. every flight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ained in exactly one pair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BE4-E7A6-4E81-86F5-94A6169EA5E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8BC9F-8F9B-4C07-B20E-6C57D42FAD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set of feasible pairings for fleet type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the set of daily flights assigned to fleet type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f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defined to be 1 if flight f is included in pairing p, else 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the cost of pairing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a binary decision variable – value 1 indicates that pairing p is chosen, else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D4D-DA13-4AD8-9D01-B3881A9362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F2648-3EC6-46EA-95FB-962D7D3C1D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371600"/>
            <a:ext cx="640080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133720" y="1447920"/>
                <a:ext cx="4876560" cy="44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∀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844-1F76-41D1-8040-0112177505F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7E6DB-728D-4F63-A6BC-6384D48F04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s this an easy problem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near objective fun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complex feasibility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write/intui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all number of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ge number of integer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DD5-471B-4A69-9C34-5CC602F89B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5CCD8-F561-49BA-BD8C-7E89CA001E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do we solve it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need branch-and-bound to solve the 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e need column generation to solve the individual LP relaxatio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Branch-and-pric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combines the tw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CAE-51BA-4EFA-B623-0599DBB30EC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3845D-5288-44B4-A87C-1DC5018E02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 Re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umn generation solv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nea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grams with a large number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stricted mast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a subset of the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to optim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put the duals to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icing probl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look for negative reduced cost colum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e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BD7-1B2D-4BA4-B3E5-8E68A7EF5F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FF6E9-683E-413B-A1AD-4AB34008B3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ting Crew Pai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rt with enough columns to ensure a feasible solution (may need to use artificial variabl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ve Restricted Master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for one or more negative reduced cost columns for each crew base; add to Restricted Master problem and re-sol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no new columns are found, LP is optim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0DD-3646-40DF-9B91-143AF73F31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19EC4-00A5-42DC-9ADE-EFF4F05AA1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rew Pairing Reduced Cos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cost of pairing p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819520"/>
            <a:ext cx="7238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295280" y="3060720"/>
                <a:ext cx="72201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9E47-0751-4B5F-8F4B-DDF565D0F6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08A9F-A4FB-494A-87EC-EFCD2821C3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54080" y="1752480"/>
            <a:ext cx="5104800" cy="4267080"/>
            <a:chOff x="1954080" y="1752480"/>
            <a:chExt cx="5104800" cy="4267080"/>
          </a:xfrm>
        </p:grpSpPr>
        <p:sp>
          <p:nvSpPr>
            <p:cNvPr id="51" name=""/>
            <p:cNvSpPr/>
            <p:nvPr/>
          </p:nvSpPr>
          <p:spPr>
            <a:xfrm>
              <a:off x="1954080" y="1752480"/>
              <a:ext cx="510480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54080" y="2971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4080" y="4114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54080" y="5257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2872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2872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2872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DB74-3D5E-49F2-9BAC-D3E6414C58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15098-B3B4-456F-9CC6-66655E4AF6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371600"/>
            <a:ext cx="640080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133720" y="1447920"/>
                <a:ext cx="4876560" cy="44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∀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∀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D81-D6BA-43EF-A7EA-577A2EC0A5D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A7E55-926D-454B-B45D-41AA43E5E3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as a Shortest Path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airing can be seen as a path, where nodes represent flights and arcs represent valid conne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s must start/end at a given crew b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daily problem,  paths cannot repeat a fl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s must satisfy duty and pairing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costs can be computed via labels corresponding to pairing reduced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0C2-23A7-4DED-9061-92FA70F39E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46C6E-29E2-4C3F-8D8B-DD4435978E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Struc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arc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s represent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cs represent (potentially) feasible conne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ple copies of the network in order to construct multi-day pair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rce/sink nodes at the crew b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FEF-7B34-4EEE-B8A8-54547D2D900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C8E57-E8EA-425C-AF57-0E6C56F3C9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429000"/>
            <a:ext cx="1143000" cy="1143000"/>
          </a:xfrm>
          <a:prstGeom prst="ellipse">
            <a:avLst/>
          </a:prstGeom>
          <a:solidFill>
            <a:srgbClr val="00ccff"/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B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47920" y="2819520"/>
            <a:ext cx="1371600" cy="76176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4419720"/>
            <a:ext cx="1219320" cy="68580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486400"/>
            <a:ext cx="3200400" cy="30492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5651640" cy="5194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792600" y="1905120"/>
            <a:ext cx="2760480" cy="711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792600" y="2819520"/>
            <a:ext cx="2684520" cy="909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809880" y="3962520"/>
            <a:ext cx="2760840" cy="125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CC0-EF1D-4F17-A4C8-1F728AEED3B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02251-8B1A-4F71-98A1-CABBECCAE6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Day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8098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25909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3276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388620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44197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243828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5909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388620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95680" y="4419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243828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25909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3276720"/>
            <a:ext cx="30456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886200"/>
            <a:ext cx="30492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419720"/>
            <a:ext cx="304920" cy="30456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24382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2057400"/>
            <a:ext cx="0" cy="3657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3809880"/>
            <a:ext cx="304560" cy="3049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49C-01AA-49C5-85B8-B2723D58868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726D5-7BB8-4FCF-8414-1ADBA05B17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bel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asibil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rest between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rest between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# of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fly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dut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idle (connection ar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 idle (connections arc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6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 -- max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m of duty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* TAF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guarantee p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ty -- max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 flying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* total duty ti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n guarantee p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F25-9EA6-499D-B1BA-6E761A26C0E3}" type="slidenum">
              <a:t>4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89A0F-687D-417F-9CD0-114ADB4CCE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bels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s have to trac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du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ying time in current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 elapsed time in current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ent duty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iring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iring TAF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m of completed duties’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# completed du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ent pairing reduced co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s also contai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i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ous fl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ous flight’s label 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CAF-A68A-4CF4-B5F5-FA7A7D55B4D6}" type="slidenum">
              <a:t>4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DB714-7B20-4033-AA8E-045F9C9588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cessing Label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each node (in topological order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label at that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66240" indent="-2034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connection arc out of that n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cess the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a label is created, check existing labels for domin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271520" indent="-2034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the node ends at the crew base and reduced cost is negative, a potential column’s been fo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56A-93C1-4E3B-BF9D-59EB510EBF2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26230-72D2-499C-96C7-7526D218E7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cessing Labels, cont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"/>
          <p:cNvSpPr/>
          <p:nvPr/>
        </p:nvSpPr>
        <p:spPr>
          <a:xfrm>
            <a:off x="2336760" y="2133720"/>
            <a:ext cx="137160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Flight repea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133720"/>
            <a:ext cx="914400" cy="13716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Giv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Ar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311560" y="762120"/>
            <a:ext cx="1396800" cy="1422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708360" y="2108160"/>
            <a:ext cx="2563920" cy="139716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5477040" y="1301760"/>
            <a:ext cx="134640" cy="838080"/>
            <a:chOff x="5477040" y="1301760"/>
            <a:chExt cx="134640" cy="838080"/>
          </a:xfrm>
        </p:grpSpPr>
        <p:sp>
          <p:nvSpPr>
            <p:cNvPr id="249" name=""/>
            <p:cNvSpPr/>
            <p:nvPr/>
          </p:nvSpPr>
          <p:spPr>
            <a:xfrm>
              <a:off x="5514840" y="1433520"/>
              <a:ext cx="57240" cy="70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7040" y="1301760"/>
              <a:ext cx="13464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86"/>
                  </a:moveTo>
                  <a:lnTo>
                    <a:pt x="42" y="0"/>
                  </a:lnTo>
                  <a:lnTo>
                    <a:pt x="0" y="86"/>
                  </a:lnTo>
                  <a:lnTo>
                    <a:pt x="85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857840" y="768240"/>
            <a:ext cx="1373040" cy="53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79840" y="91296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15040" y="1682640"/>
            <a:ext cx="534960" cy="2304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06560" y="17035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280200" y="2657520"/>
            <a:ext cx="1143000" cy="135000"/>
            <a:chOff x="6280200" y="2657520"/>
            <a:chExt cx="1143000" cy="135000"/>
          </a:xfrm>
        </p:grpSpPr>
        <p:sp>
          <p:nvSpPr>
            <p:cNvPr id="256" name=""/>
            <p:cNvSpPr/>
            <p:nvPr/>
          </p:nvSpPr>
          <p:spPr>
            <a:xfrm>
              <a:off x="6280200" y="2695680"/>
              <a:ext cx="101124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88200" y="265752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85"/>
                  </a:moveTo>
                  <a:lnTo>
                    <a:pt x="85" y="42"/>
                  </a:lnTo>
                  <a:lnTo>
                    <a:pt x="0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423200" y="2114640"/>
            <a:ext cx="1373040" cy="137304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37840" y="2541600"/>
            <a:ext cx="83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id 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9600" y="2816280"/>
            <a:ext cx="75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ing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85120" y="2571840"/>
            <a:ext cx="534960" cy="23004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46760" y="2592360"/>
            <a:ext cx="2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416720" y="762120"/>
            <a:ext cx="1397160" cy="1422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442280" y="3456000"/>
            <a:ext cx="1396800" cy="1420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895480" y="3733920"/>
            <a:ext cx="4572000" cy="198108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 for dut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duty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idl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fly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914400"/>
            <a:ext cx="6019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3657600"/>
            <a:ext cx="3429000" cy="289548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labe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duty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flying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duty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airing red.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pairing TAF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date sum of duty c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762120"/>
            <a:ext cx="60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19720" y="5105520"/>
            <a:ext cx="4724280" cy="1447560"/>
          </a:xfrm>
          <a:prstGeom prst="rect">
            <a:avLst/>
          </a:prstGeom>
          <a:solidFill>
            <a:srgbClr val="ed25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id for pair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number of du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in lay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violate max TAF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838080"/>
            <a:ext cx="6248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838080"/>
            <a:ext cx="60958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B39-CFDD-4280-B9EE-38A514C42486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B8704-46FA-441F-9B68-0345027BB5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13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 and Network Struc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ty assignmen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 number of ar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arc per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 be hundreds of connections per du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: 363 flights, 7838 duties, 1.65 M conne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er labels per path - duty rules are built 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assignmen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maller number of ar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arc per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171440" indent="-18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ypically not more than 30 connections per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rger number of lab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09C-C668-4B28-A78C-40BF15E52F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0101D-7D82-4CA3-9262-7D5A7F84D7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Crew Schedul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ign crews to cover all flights for a given fleet 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ize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me paid for fl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nalty” pa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al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bust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886-19B9-4E2E-A146-04E1025E50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CD51D-6172-4060-A035-2EDD417663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"/>
          <p:cNvSpPr/>
          <p:nvPr/>
        </p:nvSpPr>
        <p:spPr>
          <a:xfrm>
            <a:off x="4049640" y="1066680"/>
            <a:ext cx="762120" cy="762120"/>
          </a:xfrm>
          <a:prstGeom prst="rect">
            <a:avLst/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Ro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190680" cy="969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562720" y="2362320"/>
            <a:ext cx="803160" cy="803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343400" y="2916360"/>
            <a:ext cx="3144960" cy="969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073400" y="4038480"/>
            <a:ext cx="803520" cy="803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7121520" y="4038480"/>
            <a:ext cx="803160" cy="803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60560" y="4668840"/>
            <a:ext cx="3159360" cy="969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5673600" y="5749920"/>
            <a:ext cx="803520" cy="80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2133720" y="5749920"/>
            <a:ext cx="1655640" cy="80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5DF-FBA3-4053-9C00-A1DEFD4A1E26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3FFD6-2185-45CC-A138-1839AF4C6A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euristic Solution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anch-and-bound with only root node LP solved using column gener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feasible solution may exist in the columns generated to solve the root node L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ventional wisdom:  need some “bad” columns to get a “good”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920-5B03-4DA0-86FF-AEC4DA58A96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3B507-6B16-42BA-82A4-16BD6D7C818F}" type="datetime1">
              <a:rPr lang="en-US"/>
              <a:t>07/28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Branch-and-Pric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a branching rule that is compatible with column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le must be enforceable without changing the structure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-label shortest path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ing based on variable dichotomy is not compat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annot restrict the shortest path algorithm from finding a path (that is, a pairin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2EB-D131-48EE-9F94-A1F162658B6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1AA40-4D37-4F9B-818A-9B1B9DC3A6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Variable Dichotomy 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 fractional solution to the crew pairing problem, pick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.t.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0 &lt; 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&lt; 1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wo new problems: {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, x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0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rawback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bal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depth of t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forcing in the pricing proble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868320" indent="-18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eas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68320" indent="-182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ha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E984-D5DB-4A15-A2C0-4DB17C0F754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88873-AC51-40A4-A31F-B8F5F8803C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 on Follow-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 fractional solution, there must be two flights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1, f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such that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1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is followed by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2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 fractional amount in the solu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r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1-f2-f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value 1/2 and pairin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value 1/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anch on {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s/is not followed by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balanc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wer branching leve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to enforce in pric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3D1-12C1-4DE6-ADCC-0E1C3EF735E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FE1A3-F6F7-404B-964E-4ABF13377D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to Alter Network to Enforce Branching Decis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follow-on fligh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-b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fro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flights other th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in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rom flights other th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follow-on flight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-b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allow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ll connection arcs from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A1C-2B5A-4FD0-907A-A3A33E6D69C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6AC36-8AE4-47CD-A2FE-DA7014DCC44F}" type="datetime1">
              <a:rPr lang="en-US"/>
              <a:t>07/28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How to Select Flight Pairs for 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 current LP solution values of all possible flight follow-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 on the follow-on with the greatest val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DEA-D341-495F-8DCB-3FA2DA0A6D69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7B632-2C71-46DD-909B-542B0C097654}" type="datetime1">
              <a:rPr lang="en-US"/>
              <a:t>07/28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merican Airlines (1993)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5,000+ crew memb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ave $20+ million/yea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s in 4 - 10 hou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A63-50B4-4C3D-9A19-C2FBFA0414A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7EA16-5C13-412B-9835-25D691E660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ther Crew Scheduling Research Topic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abin crew schedul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ing pairing and assign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obust plann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cover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tegrated mode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6EC-0C77-4BE9-A683-5BB145636C2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3B26C-439B-4CCE-89F9-FD2057651D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Flow Problem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31240" cy="437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3080" y="1430280"/>
            <a:ext cx="7180200" cy="4361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2438280"/>
            <a:ext cx="4495680" cy="2971800"/>
          </a:xfrm>
          <a:prstGeom prst="rect">
            <a:avLst/>
          </a:prstGeom>
          <a:solidFill>
            <a:srgbClr val="ed253d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x feasibili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linear objectiv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4B6-684A-4C01-ADB9-20E2B1A1781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5E80A-D89E-4460-B182-73294CC02C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uilding Bloc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98640" y="1828800"/>
            <a:ext cx="1849680" cy="335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40760" y="2058840"/>
            <a:ext cx="1706400" cy="31226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65400" y="2133720"/>
            <a:ext cx="2247480" cy="3062160"/>
            <a:chOff x="365400" y="2133720"/>
            <a:chExt cx="2247480" cy="3062160"/>
          </a:xfrm>
        </p:grpSpPr>
        <p:grpSp>
          <p:nvGrpSpPr>
            <p:cNvPr id="68" name=""/>
            <p:cNvGrpSpPr/>
            <p:nvPr/>
          </p:nvGrpSpPr>
          <p:grpSpPr>
            <a:xfrm>
              <a:off x="365400" y="2133720"/>
              <a:ext cx="1485720" cy="3062160"/>
              <a:chOff x="365400" y="2133720"/>
              <a:chExt cx="1485720" cy="306216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461880" y="2133720"/>
                <a:ext cx="1389240" cy="1295280"/>
                <a:chOff x="461880" y="2133720"/>
                <a:chExt cx="1389240" cy="12952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17680" y="2828880"/>
                  <a:ext cx="1212840" cy="5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" name=""/>
                <p:cNvGrpSpPr/>
                <p:nvPr/>
              </p:nvGrpSpPr>
              <p:grpSpPr>
                <a:xfrm>
                  <a:off x="461880" y="2133720"/>
                  <a:ext cx="1389240" cy="1295280"/>
                  <a:chOff x="461880" y="2133720"/>
                  <a:chExt cx="1389240" cy="129528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>
                    <a:off x="936720" y="228600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936720" y="243828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936720" y="3048120"/>
                    <a:ext cx="304560" cy="75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936720" y="3200400"/>
                    <a:ext cx="304560" cy="76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479520" y="2666880"/>
                    <a:ext cx="1371600" cy="2286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lnTo>
                          <a:pt x="5400" y="108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012680" y="2133720"/>
                    <a:ext cx="152640" cy="533160"/>
                  </a:xfrm>
                  <a:prstGeom prst="rect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012680" y="2895480"/>
                    <a:ext cx="152640" cy="533520"/>
                  </a:xfrm>
                  <a:prstGeom prst="rect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555480" y="2438280"/>
                    <a:ext cx="152640" cy="228600"/>
                  </a:xfrm>
                  <a:prstGeom prst="rtTriangle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V="1">
                    <a:off x="555480" y="2894760"/>
                    <a:ext cx="152640" cy="228600"/>
                  </a:xfrm>
                  <a:prstGeom prst="rtTriangle">
                    <a:avLst/>
                  </a:pr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H="1">
                    <a:off x="461880" y="2692440"/>
                    <a:ext cx="372960" cy="166680"/>
                  </a:xfrm>
                  <a:custGeom>
                    <a:avLst/>
                    <a:gdLst>
                      <a:gd name="textAreaLeft" fmla="*/ 360 w 372960"/>
                      <a:gd name="textAreaRight" fmla="*/ 373680 w 372960"/>
                      <a:gd name="textAreaTop" fmla="*/ 0 h 166680"/>
                      <a:gd name="textAreaBottom" fmla="*/ 166680 h 1666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" name=""/>
              <p:cNvSpPr/>
              <p:nvPr/>
            </p:nvSpPr>
            <p:spPr>
              <a:xfrm>
                <a:off x="365400" y="4675320"/>
                <a:ext cx="103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Fligh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816200" y="4842000"/>
              <a:ext cx="590400" cy="134640"/>
            </a:xfrm>
            <a:prstGeom prst="rightArrow">
              <a:avLst>
                <a:gd name="adj1" fmla="val 50000"/>
                <a:gd name="adj2" fmla="val 109626"/>
              </a:avLst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22480" y="272088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699080" y="2200320"/>
            <a:ext cx="2679480" cy="2936520"/>
            <a:chOff x="4699080" y="2200320"/>
            <a:chExt cx="2679480" cy="2936520"/>
          </a:xfrm>
        </p:grpSpPr>
        <p:sp>
          <p:nvSpPr>
            <p:cNvPr id="86" name=""/>
            <p:cNvSpPr/>
            <p:nvPr/>
          </p:nvSpPr>
          <p:spPr>
            <a:xfrm>
              <a:off x="5230080" y="4616280"/>
              <a:ext cx="12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Pair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8160" y="482292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97800" y="2647800"/>
              <a:ext cx="590400" cy="135000"/>
            </a:xfrm>
            <a:prstGeom prst="rightArrow">
              <a:avLst>
                <a:gd name="adj1" fmla="val 50000"/>
                <a:gd name="adj2" fmla="val 109333"/>
              </a:avLst>
            </a:prstGeom>
            <a:solidFill>
              <a:srgbClr val="ff0000"/>
            </a:solidFill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4699080" y="2200320"/>
              <a:ext cx="1927080" cy="10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80E-8E7F-4527-A3EB-4A3B971BCF7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CD92E-6B34-4552-869F-7B7B833218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Period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uty period is a day-long sequenc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onsecutive flight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can be assigned to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ingle crew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to be followed by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eriod of 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B4A-49BD-4B74-8FC4-8378DEF21E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54213-799B-4554-938C-88814042A4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uty Rul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l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s are sequential in space/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flying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imum idle/sit/connec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idle/sit/connec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ximum duty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012-D8D7-4462-B961-243739D68F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81995-AF5C-4B77-9131-25F7F594FF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6T16:12:55Z</dcterms:modified>
  <cp:revision>493</cp:revision>
  <dc:subject/>
  <dc:title>Thesis Proposal Meeting</dc:title>
</cp:coreProperties>
</file>