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F6DB-D413-4376-BF40-CC3C8923C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EC2B-6814-44D0-B272-B4D5CE9DE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7E3D-4C49-430B-9436-048095AB9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26EA-A5B5-4D7F-8422-EB3490623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D7AA-29AD-480D-97CB-C5773F63C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44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9680" y="14475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44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9680" y="3915360"/>
            <a:ext cx="267696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7F28-7CA3-421F-AD16-291681C8A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82A3-4632-4C97-B80A-A407B7C84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366C-ADEB-48C3-B0F5-9DBE27077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3059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52DAE-CD4C-406D-8322-D342EBB98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E5D9-4F0B-4298-A5B8-4E03BA4A7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440" y="39153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C6B1-3ED7-42B9-BABE-C204B137B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447560"/>
            <a:ext cx="4056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31384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46EB-825B-44F2-84CB-59C73BCAE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36080" cy="46080"/>
          </a:xfrm>
          <a:prstGeom prst="rect">
            <a:avLst/>
          </a:prstGeom>
          <a:solidFill>
            <a:srgbClr val="0000cc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C2E2-3203-40FA-BD2F-BACFCDF3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97920" y="6510240"/>
            <a:ext cx="7095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buClr>
                <a:srgbClr val="000099"/>
              </a:buClr>
              <a:buSzPct val="60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w Approaches to Add Robustness into Airline Schedul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han Lan, Cindy Barnhart and John-Paul Clarke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enter for Transportation and Logistic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y 5 , 200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34000" y="228600"/>
            <a:ext cx="62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rtesy of Shan Lan, Cindy Barnhart and John-Paul Clarke. Used with 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of Building Robust Pla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ck of a systematic way to define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craft, crew and passenger flows interact in the hub-and-spok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uge problem size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tractability issu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robustness and cost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C9A0-8482-4FCF-85F6-7D59B80DA3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of Robust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cos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aircraft/passenger/crew delays and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asy to recover (aircraft, crew, passenger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solate disruptions and reduce the downstream impac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54B5-1737-421D-AE00-ACFF177D7D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bust Airline Schedule Plann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362320" y="3124080"/>
          <a:ext cx="6553080" cy="2590920"/>
        </p:xfrm>
        <a:graphic>
          <a:graphicData uri="http://schemas.openxmlformats.org/drawingml/2006/table">
            <a:tbl>
              <a:tblPr/>
              <a:tblGrid>
                <a:gridCol w="1398600"/>
                <a:gridCol w="1400040"/>
                <a:gridCol w="1324080"/>
                <a:gridCol w="1135080"/>
                <a:gridCol w="129528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osenberg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eeva &amp; Clarke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ng &amp; Cla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This 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Yen &amp; Birg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chaefer, </a:t>
                      </a:r>
                      <a:r>
                        <a:rPr b="0" i="1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et 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ebalov &amp; Klab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2900520" y="213372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2240" y="2133720"/>
            <a:ext cx="13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as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61280" y="2133720"/>
            <a:ext cx="12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in delay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213372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ol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is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1981080"/>
            <a:ext cx="14000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0960" y="1981080"/>
            <a:ext cx="13161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981080"/>
            <a:ext cx="2438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981080"/>
            <a:ext cx="1398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840" y="3124080"/>
            <a:ext cx="2160360" cy="2590920"/>
            <a:chOff x="213840" y="3124080"/>
            <a:chExt cx="2160360" cy="2590920"/>
          </a:xfrm>
        </p:grpSpPr>
        <p:sp>
          <p:nvSpPr>
            <p:cNvPr id="122" name=""/>
            <p:cNvSpPr/>
            <p:nvPr/>
          </p:nvSpPr>
          <p:spPr>
            <a:xfrm>
              <a:off x="356400" y="32004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Schedule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5320" y="38862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Fleet 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840" y="457200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Maintenanc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6400" y="5257800"/>
              <a:ext cx="18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imes New Roman"/>
                </a:rPr>
                <a:t>Crew Schedul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3280" y="31240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3280" y="38098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3280" y="44956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3280" y="5181480"/>
              <a:ext cx="2032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61EB-5F29-4BB5-8D9B-3C324F6CEB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Should We Start?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balance cost that airlines are willing to pay for robustness versus cost of op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oking for robust solution without significant added cos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maintenance routing problem: The financial impact is relatively smal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t is more a feasibility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w to route aircraft has impacts on flight delays and cancellations, passengers, crew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hat robustness can be achieved for the maintenance routing problem?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22C5-8DEB-41D7-8C62-8820F19F86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1384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tring based for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00F3-4065-4D65-B6D5-9A0A1CFF42B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lay Propag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rrival delay may cause departure delay for the next flight that is using the same aircraft if there is not enough slack between these two flight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 propagation may cause schedule, passenger and crew disruptions for downstream flights (especially at hubs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520" y="44197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9528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5880" y="5486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105520"/>
            <a:ext cx="69343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10552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419112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667400"/>
            <a:ext cx="2533680" cy="86328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7840" y="54864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33720" y="4191120"/>
            <a:ext cx="2895480" cy="914400"/>
            <a:chOff x="2133720" y="4191120"/>
            <a:chExt cx="2895480" cy="914400"/>
          </a:xfrm>
        </p:grpSpPr>
        <p:sp>
          <p:nvSpPr>
            <p:cNvPr id="145" name=""/>
            <p:cNvSpPr/>
            <p:nvPr/>
          </p:nvSpPr>
          <p:spPr>
            <a:xfrm>
              <a:off x="2133720" y="4191120"/>
              <a:ext cx="289548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4120" y="426744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181480" y="510552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548640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0199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5943600"/>
            <a:ext cx="30492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49960" y="5105520"/>
            <a:ext cx="759960" cy="914400"/>
            <a:chOff x="6249960" y="5105520"/>
            <a:chExt cx="759960" cy="914400"/>
          </a:xfrm>
        </p:grpSpPr>
        <p:sp>
          <p:nvSpPr>
            <p:cNvPr id="152" name=""/>
            <p:cNvSpPr/>
            <p:nvPr/>
          </p:nvSpPr>
          <p:spPr>
            <a:xfrm>
              <a:off x="6476760" y="5105520"/>
              <a:ext cx="53316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9960" y="548676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2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066680" y="4191120"/>
            <a:ext cx="685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EA72-D5DA-4346-A196-A55F0EC687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pagated Delay vs. Independent Dela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13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may be divided into two categori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inbound aircraft delay –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0-30% of total delay (Continental Airline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dependent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used by other factors – not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2331-F56A-4F1F-9231-7C2D289D3F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828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3240" y="2295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6440" y="343836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7240" y="30481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1240" y="30481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693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11480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971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9718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971800"/>
            <a:ext cx="152388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52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100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0" y="26668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4720" y="41990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4876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8200" y="45799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4520" y="45799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5400" y="48769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828800"/>
            <a:ext cx="6858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6840" y="3362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828800"/>
            <a:ext cx="99072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1828800"/>
            <a:ext cx="1600200" cy="1143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76440" y="2362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1880" y="2219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2362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240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8200" y="23623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31360" y="20574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143000" y="4495680"/>
                <a:ext cx="27432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TT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ac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0680" y="33782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Turn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D9AC7-7F13-4A7D-9022-1CA696911F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lays propagate along aircraft rou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ly limited slack can be ad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uting aircraft intelligently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tter allocated slack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ssentially add slack where advantageous, reducing slack where less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EAC5-725C-4422-8544-F0B8AE3156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884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286000"/>
            <a:ext cx="1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2200" y="2819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438280"/>
            <a:ext cx="69343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4382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15238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1523880"/>
            <a:ext cx="60948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2000160"/>
            <a:ext cx="2533680" cy="863640"/>
          </a:xfrm>
          <a:custGeom>
            <a:avLst/>
            <a:gdLst/>
            <a:ahLst/>
            <a:rect l="l" t="t" r="r" b="b"/>
            <a:pathLst>
              <a:path w="1596" h="544">
                <a:moveTo>
                  <a:pt x="0" y="276"/>
                </a:moveTo>
                <a:cubicBezTo>
                  <a:pt x="72" y="314"/>
                  <a:pt x="230" y="544"/>
                  <a:pt x="432" y="504"/>
                </a:cubicBezTo>
                <a:cubicBezTo>
                  <a:pt x="634" y="464"/>
                  <a:pt x="1018" y="72"/>
                  <a:pt x="1212" y="36"/>
                </a:cubicBezTo>
                <a:cubicBezTo>
                  <a:pt x="1406" y="0"/>
                  <a:pt x="1516" y="236"/>
                  <a:pt x="1596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1981080"/>
            <a:ext cx="3086280" cy="841320"/>
          </a:xfrm>
          <a:custGeom>
            <a:avLst/>
            <a:gdLst/>
            <a:ahLst/>
            <a:rect l="l" t="t" r="r" b="b"/>
            <a:pathLst>
              <a:path w="1944" h="530">
                <a:moveTo>
                  <a:pt x="0" y="294"/>
                </a:moveTo>
                <a:cubicBezTo>
                  <a:pt x="80" y="326"/>
                  <a:pt x="250" y="530"/>
                  <a:pt x="480" y="486"/>
                </a:cubicBezTo>
                <a:cubicBezTo>
                  <a:pt x="710" y="442"/>
                  <a:pt x="1136" y="60"/>
                  <a:pt x="1380" y="30"/>
                </a:cubicBezTo>
                <a:cubicBezTo>
                  <a:pt x="1624" y="0"/>
                  <a:pt x="1827" y="249"/>
                  <a:pt x="1944" y="30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35080" y="18892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416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09680" y="1523880"/>
            <a:ext cx="2895840" cy="914400"/>
            <a:chOff x="2209680" y="1523880"/>
            <a:chExt cx="2895840" cy="914400"/>
          </a:xfrm>
        </p:grpSpPr>
        <p:sp>
          <p:nvSpPr>
            <p:cNvPr id="213" name=""/>
            <p:cNvSpPr/>
            <p:nvPr/>
          </p:nvSpPr>
          <p:spPr>
            <a:xfrm>
              <a:off x="2209680" y="15238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0800" y="1600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088040" y="2819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819520"/>
            <a:ext cx="1600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057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981080"/>
            <a:ext cx="1600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4120" y="1828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608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3429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33526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2438280"/>
            <a:ext cx="53316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3276720"/>
            <a:ext cx="30456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326280" y="2438280"/>
            <a:ext cx="760320" cy="914400"/>
            <a:chOff x="6326280" y="2438280"/>
            <a:chExt cx="760320" cy="914400"/>
          </a:xfrm>
        </p:grpSpPr>
        <p:sp>
          <p:nvSpPr>
            <p:cNvPr id="227" name=""/>
            <p:cNvSpPr/>
            <p:nvPr/>
          </p:nvSpPr>
          <p:spPr>
            <a:xfrm>
              <a:off x="6553080" y="2438280"/>
              <a:ext cx="53352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26280" y="281952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3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1523880"/>
            <a:ext cx="685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43000" y="4029120"/>
            <a:ext cx="6972480" cy="2349360"/>
            <a:chOff x="1143000" y="4029120"/>
            <a:chExt cx="6972480" cy="2349360"/>
          </a:xfrm>
        </p:grpSpPr>
        <p:sp>
          <p:nvSpPr>
            <p:cNvPr id="231" name=""/>
            <p:cNvSpPr/>
            <p:nvPr/>
          </p:nvSpPr>
          <p:spPr>
            <a:xfrm>
              <a:off x="3620520" y="60102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8840" y="42670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800600"/>
              <a:ext cx="1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2200" y="533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143000" y="4943520"/>
              <a:ext cx="69724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49528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9680" y="4038480"/>
              <a:ext cx="53352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038480"/>
              <a:ext cx="6094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3200" y="4624560"/>
              <a:ext cx="3959280" cy="688680"/>
            </a:xfrm>
            <a:custGeom>
              <a:avLst/>
              <a:gdLst/>
              <a:ahLst/>
              <a:rect l="l" t="t" r="r" b="b"/>
              <a:pathLst>
                <a:path w="2494" h="434">
                  <a:moveTo>
                    <a:pt x="0" y="207"/>
                  </a:moveTo>
                  <a:cubicBezTo>
                    <a:pt x="130" y="240"/>
                    <a:pt x="468" y="434"/>
                    <a:pt x="780" y="405"/>
                  </a:cubicBezTo>
                  <a:cubicBezTo>
                    <a:pt x="1092" y="376"/>
                    <a:pt x="1586" y="66"/>
                    <a:pt x="1872" y="33"/>
                  </a:cubicBezTo>
                  <a:cubicBezTo>
                    <a:pt x="2158" y="0"/>
                    <a:pt x="2365" y="169"/>
                    <a:pt x="2494" y="205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4038480"/>
              <a:ext cx="2895840" cy="9144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9440" y="4749840"/>
              <a:ext cx="1619280" cy="376200"/>
            </a:xfrm>
            <a:custGeom>
              <a:avLst/>
              <a:gdLst/>
              <a:ahLst/>
              <a:rect l="l" t="t" r="r" b="b"/>
              <a:pathLst>
                <a:path w="1020" h="237">
                  <a:moveTo>
                    <a:pt x="0" y="128"/>
                  </a:moveTo>
                  <a:cubicBezTo>
                    <a:pt x="50" y="143"/>
                    <a:pt x="170" y="237"/>
                    <a:pt x="300" y="218"/>
                  </a:cubicBezTo>
                  <a:cubicBezTo>
                    <a:pt x="430" y="199"/>
                    <a:pt x="660" y="28"/>
                    <a:pt x="780" y="14"/>
                  </a:cubicBezTo>
                  <a:cubicBezTo>
                    <a:pt x="900" y="0"/>
                    <a:pt x="970" y="109"/>
                    <a:pt x="1020" y="134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560" y="44956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30800" y="41148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00"/>
                  </a:solidFill>
                  <a:latin typeface="Arial"/>
                </a:rPr>
                <a:t>f1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8040" y="533412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495288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733920" y="5324040"/>
              <a:ext cx="163836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7057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257800" y="4486320"/>
              <a:ext cx="15620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334120" y="4343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6080" y="4191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143000" y="58579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4952880"/>
              <a:ext cx="53316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1143000" y="4029120"/>
              <a:ext cx="68961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46A0-ABF9-4ED4-9ADA-FA04A46BF2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–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5028-C517-4001-9ED0-31414F2FEC5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ing Issu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fficult to use leg-based models to track th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ne variable (string) for each aircraft route between two maintenances (Barnhart, et al. 1998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tring: a sequence of connected flights that begins and ends at maintenance sta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for each route can be determ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ed to determine delays for each feasible rou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st of the feasible routes haven’t been realized y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are a function of rout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D and TAD for these routes can’t be found in the historical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 is not a function of routing and can be calculated by tracking the route of each individual aircraft in the historical data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80AA-836B-487B-AEC7-E5F44418C3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enerating Flight Delay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r Any Feasible Rou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1: Determine propagated delays from historical data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 max (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2: Determine Independent Arrival Delays (IAD) from historical data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 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ep 3: Determine TAD and PD for feasible route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the first flight on each string, New_TAD = IA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=max (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– slack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0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_T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= IA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+ New_PD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46BE-7948-404A-B9A5-2F02C8F6BA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ing 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514600" y="1447920"/>
                <a:ext cx="415908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bSup>
                              </m:e>
                            </m:nary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s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F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e>
                        </m:nary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4161-07C8-45C4-914F-C18AE3A6FA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990720" y="2057400"/>
                <a:ext cx="6553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E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bjective Function Coeffici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13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(PD)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tribution of Total Arrival Delay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ssible distributions analyzed: Normal, Exponential, Gamma, Weibull, Lognormal, etc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atistical analysis shows that lognormal distribution is the best f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closed form of expected value function can be obtai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19320" y="5560920"/>
                <a:ext cx="35049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Φ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3E0C-C1CA-45E7-9B34-AC53023E7E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s formulation is a deterministic mixed-integer program with a huge number of 0-1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ranch-and-Bound with a linear programming relaxation solved at each node of the branch-and-bound tree using column gener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P solu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special branching strategy: branching on follow-ons (Ryan and Foster 1981, Barnhart et al. 1998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E4C9-DDA2-4E32-AB21-0A6D24DEB1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st Network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se new rout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9" name="network%20size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3352680" cy="17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3F1B-117A-42A2-B42E-8F5FB826EF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2" name="PD%20July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5029200" cy="1900080"/>
          </a:xfrm>
          <a:prstGeom prst="rect">
            <a:avLst/>
          </a:prstGeom>
          <a:ln w="0">
            <a:noFill/>
          </a:ln>
        </p:spPr>
      </p:pic>
      <p:pic>
        <p:nvPicPr>
          <p:cNvPr id="273" name="PD%20August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495288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75F0-43D0-4EFE-AD0F-E642866B27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Delay Distrib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otal delays for existing and new routing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6" name="TD%20distribution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DC5F-5616-4BF5-8B88-7E34801A3D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ll passengers connecting from A to B are disrupt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9" name="PD%20Passengers" descr=""/>
          <p:cNvPicPr/>
          <p:nvPr/>
        </p:nvPicPr>
        <p:blipFill>
          <a:blip r:embed="rId1"/>
          <a:stretch/>
        </p:blipFill>
        <p:spPr>
          <a:xfrm>
            <a:off x="1295280" y="3505320"/>
            <a:ext cx="617220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01AA-8B53-43CA-9140-400B9E8749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assenger delays and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Modeling Ide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ormulations and their proper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olution approac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Proof-of-concept resul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89EE-BE8C-4646-B7F6-40D8959894B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819520" y="1371600"/>
            <a:ext cx="3580920" cy="3263760"/>
            <a:chOff x="2819520" y="1371600"/>
            <a:chExt cx="3580920" cy="3263760"/>
          </a:xfrm>
        </p:grpSpPr>
        <p:sp>
          <p:nvSpPr>
            <p:cNvPr id="86" name=""/>
            <p:cNvSpPr/>
            <p:nvPr/>
          </p:nvSpPr>
          <p:spPr>
            <a:xfrm>
              <a:off x="2819520" y="137160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hedule 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9520" y="417564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w Schedu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19520" y="230292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eet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19520" y="3243960"/>
              <a:ext cx="35809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intenance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08360" y="181044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08360" y="2742120"/>
              <a:ext cx="1440" cy="50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08360" y="3673800"/>
              <a:ext cx="1440" cy="50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Schedule Plann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st existing planning models assume that aircraft, crew, and passengers will operate as plann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168A-F137-49FB-91C8-A0954753F6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 caused by disruptions is the most critical part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good proxy for passenger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84" name="delay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86728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FDBF-7008-42FD-9CED-6C1B4D08D6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initions Related to Passenger Disruption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19320" y="1905120"/>
            <a:ext cx="6858000" cy="3968640"/>
            <a:chOff x="1219320" y="1905120"/>
            <a:chExt cx="6858000" cy="3968640"/>
          </a:xfrm>
        </p:grpSpPr>
        <p:grpSp>
          <p:nvGrpSpPr>
            <p:cNvPr id="287" name=""/>
            <p:cNvGrpSpPr/>
            <p:nvPr/>
          </p:nvGrpSpPr>
          <p:grpSpPr>
            <a:xfrm>
              <a:off x="1219320" y="2543760"/>
              <a:ext cx="6858000" cy="2643480"/>
              <a:chOff x="1219320" y="2543760"/>
              <a:chExt cx="6858000" cy="2643480"/>
            </a:xfrm>
          </p:grpSpPr>
          <p:sp>
            <p:nvSpPr>
              <p:cNvPr id="288" name=""/>
              <p:cNvSpPr/>
              <p:nvPr/>
            </p:nvSpPr>
            <p:spPr>
              <a:xfrm>
                <a:off x="1219320" y="390312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24240" y="2543760"/>
                <a:ext cx="106668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15360" y="3903120"/>
                <a:ext cx="121896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86560" y="3978720"/>
                <a:ext cx="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1440" y="2543760"/>
                <a:ext cx="2971800" cy="1359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74320" y="3977280"/>
                <a:ext cx="7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a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650120" y="395316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219320" y="254376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19320" y="5187240"/>
                <a:ext cx="685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15360" y="3978720"/>
                <a:ext cx="0" cy="5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38640" y="4356000"/>
                <a:ext cx="342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2040" y="44316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122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608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16400" y="35254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72560" y="3903120"/>
                <a:ext cx="1600200" cy="128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98040" y="35254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7692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560" y="3147840"/>
                <a:ext cx="0" cy="37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4640" y="329904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83640" y="292140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781720" y="190512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73880" y="5414040"/>
              <a:ext cx="350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371600" y="160020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CT – MCT &lt; 0, passengers are disru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11E3-AE8E-486E-87C5-9B6508F4EE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inimize Passenger Missed Conn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492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f the slack is “eaten” by flight delay, passengers are disrupted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dding more slack can be good for connecting passengers, but can result in reduced productivity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propriately located slack can prevent passenger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oving flight departure times in a small time window can lead to better allocated slack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81CD-5348-44BB-898F-B0E979818E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llustration of the Ide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3505320"/>
            <a:ext cx="4724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42670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2666880"/>
            <a:ext cx="4724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5029200"/>
            <a:ext cx="4724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666880"/>
            <a:ext cx="60948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505320"/>
            <a:ext cx="6858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42670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3040" y="243828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3400" y="327672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53920" y="40305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3040" y="48006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por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666880" y="3657600"/>
                <a:ext cx="25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886200" y="4343400"/>
                <a:ext cx="233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143000" y="2895480"/>
                <a:ext cx="2160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581280" y="3505320"/>
            <a:ext cx="68580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4267080"/>
            <a:ext cx="685800" cy="762120"/>
          </a:xfrm>
          <a:prstGeom prst="line">
            <a:avLst/>
          </a:prstGeom>
          <a:ln w="2556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1440" y="1673280"/>
            <a:ext cx="78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00 passengers in fligh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connect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95480" y="3505320"/>
            <a:ext cx="668520" cy="761760"/>
          </a:xfrm>
          <a:prstGeom prst="line">
            <a:avLst/>
          </a:prstGeom>
          <a:ln w="255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600200" y="3505320"/>
            <a:ext cx="762120" cy="761760"/>
            <a:chOff x="1600200" y="3505320"/>
            <a:chExt cx="762120" cy="761760"/>
          </a:xfrm>
        </p:grpSpPr>
        <p:sp>
          <p:nvSpPr>
            <p:cNvPr id="335" name=""/>
            <p:cNvSpPr/>
            <p:nvPr/>
          </p:nvSpPr>
          <p:spPr>
            <a:xfrm>
              <a:off x="1676520" y="3505320"/>
              <a:ext cx="685800" cy="761760"/>
            </a:xfrm>
            <a:prstGeom prst="line">
              <a:avLst/>
            </a:prstGeom>
            <a:ln w="25560">
              <a:solidFill>
                <a:srgbClr val="33cc33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1600200" y="3733920"/>
                  <a:ext cx="3268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7" name=""/>
          <p:cNvSpPr/>
          <p:nvPr/>
        </p:nvSpPr>
        <p:spPr>
          <a:xfrm>
            <a:off x="68580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587760" y="2743200"/>
            <a:ext cx="5334120" cy="1424160"/>
            <a:chOff x="3587760" y="2743200"/>
            <a:chExt cx="5334120" cy="1424160"/>
          </a:xfrm>
        </p:grpSpPr>
        <p:sp>
          <p:nvSpPr>
            <p:cNvPr id="339" name=""/>
            <p:cNvSpPr/>
            <p:nvPr/>
          </p:nvSpPr>
          <p:spPr>
            <a:xfrm>
              <a:off x="6705720" y="2895480"/>
              <a:ext cx="221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 (misconnect)= 0.3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 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587760" y="2743200"/>
              <a:ext cx="5251320" cy="1424160"/>
              <a:chOff x="3587760" y="2743200"/>
              <a:chExt cx="5251320" cy="1424160"/>
            </a:xfrm>
          </p:grpSpPr>
          <p:sp>
            <p:nvSpPr>
              <p:cNvPr id="341" name=""/>
              <p:cNvSpPr/>
              <p:nvPr/>
            </p:nvSpPr>
            <p:spPr>
              <a:xfrm>
                <a:off x="3587760" y="3276720"/>
                <a:ext cx="3146400" cy="890640"/>
              </a:xfrm>
              <a:custGeom>
                <a:avLst/>
                <a:gdLst/>
                <a:ahLst/>
                <a:rect l="l" t="t" r="r" b="b"/>
                <a:pathLst>
                  <a:path w="1982" h="561">
                    <a:moveTo>
                      <a:pt x="0" y="561"/>
                    </a:moveTo>
                    <a:cubicBezTo>
                      <a:pt x="64" y="489"/>
                      <a:pt x="66" y="222"/>
                      <a:pt x="396" y="128"/>
                    </a:cubicBezTo>
                    <a:cubicBezTo>
                      <a:pt x="726" y="34"/>
                      <a:pt x="1652" y="27"/>
                      <a:pt x="198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34160" y="2743200"/>
                <a:ext cx="210492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4343400" y="3657600"/>
            <a:ext cx="4568760" cy="838080"/>
            <a:chOff x="4343400" y="3657600"/>
            <a:chExt cx="4568760" cy="838080"/>
          </a:xfrm>
        </p:grpSpPr>
        <p:sp>
          <p:nvSpPr>
            <p:cNvPr id="344" name=""/>
            <p:cNvSpPr/>
            <p:nvPr/>
          </p:nvSpPr>
          <p:spPr>
            <a:xfrm>
              <a:off x="6781320" y="3733920"/>
              <a:ext cx="21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(misconnect)=0.2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(disrupted pax) =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1680" y="3657600"/>
              <a:ext cx="21304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43400" y="4094280"/>
              <a:ext cx="2395440" cy="133200"/>
            </a:xfrm>
            <a:custGeom>
              <a:avLst/>
              <a:gdLst/>
              <a:ahLst/>
              <a:rect l="l" t="t" r="r" b="b"/>
              <a:pathLst>
                <a:path w="1592" h="84">
                  <a:moveTo>
                    <a:pt x="0" y="84"/>
                  </a:moveTo>
                  <a:cubicBezTo>
                    <a:pt x="49" y="74"/>
                    <a:pt x="31" y="24"/>
                    <a:pt x="296" y="12"/>
                  </a:cubicBezTo>
                  <a:cubicBezTo>
                    <a:pt x="561" y="0"/>
                    <a:pt x="1376" y="12"/>
                    <a:pt x="1592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33160" y="5257800"/>
            <a:ext cx="54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ed disrupted passengers reduced: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C1F1-A7E9-4AFE-915B-DFF3D60D55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ere to Appl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666880" y="15235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ether a passenger will be disrupted depends on flight delays, a function of fleeting and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efore solving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mpact of the propagation of flight delays won’t be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w fleeting and routing solution may cause delay propagate in a different way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may eventually change th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fter solving fleeting and routing problem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lay propagation has been conside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maintain the current fleeting and routing solu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1880" y="15541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880" y="57024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97180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4336920"/>
            <a:ext cx="1906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4440" y="24382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11200" y="3803760"/>
            <a:ext cx="1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13000" y="516888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9613-62D4-4345-ABF4-E73556467F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bjectiv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the expected total number of passengers missing connec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flight, exactly one copy will be select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each connection, exactly one copy will be selected and this selected copy must connect the selected flight-leg copi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current fleeting and routing solution cannot be altered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23880" y="3917880"/>
            <a:ext cx="5791320" cy="2942640"/>
            <a:chOff x="1523880" y="3917880"/>
            <a:chExt cx="5791320" cy="2942640"/>
          </a:xfrm>
        </p:grpSpPr>
        <p:sp>
          <p:nvSpPr>
            <p:cNvPr id="360" name=""/>
            <p:cNvSpPr/>
            <p:nvPr/>
          </p:nvSpPr>
          <p:spPr>
            <a:xfrm flipV="1">
              <a:off x="1523880" y="5239080"/>
              <a:ext cx="57913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529280" y="5956560"/>
              <a:ext cx="576972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23880" y="4551840"/>
              <a:ext cx="579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3872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96680" y="523908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02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15320" y="391788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82280" y="640080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58840" y="523908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76560" y="4551840"/>
              <a:ext cx="69192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0160" y="4551840"/>
              <a:ext cx="692280" cy="693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1780200" y="423468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"/>
            <p:cNvSpPr/>
            <p:nvPr/>
          </p:nvSpPr>
          <p:spPr>
            <a:xfrm>
              <a:off x="2673000" y="492408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3270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883240" y="423468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"/>
                <p:cNvSpPr txBox="1"/>
                <p:nvPr/>
              </p:nvSpPr>
              <p:spPr>
                <a:xfrm>
                  <a:off x="541296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969520" y="603180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450120" y="603180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3009240" y="550332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"/>
            <p:cNvSpPr/>
            <p:nvPr/>
          </p:nvSpPr>
          <p:spPr>
            <a:xfrm>
              <a:off x="3211200" y="490212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5027400" y="4604760"/>
                  <a:ext cx="47376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5D62-BD25-4935-8179-6FCDC67F2D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nection-Based Formul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9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1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2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of the connection variables can be relax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09480" y="1600200"/>
                <a:ext cx="3157560" cy="39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7DB5-0200-4E9D-B4DC-7FFC713572F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lternative Connection-based Formu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5760" y="1596960"/>
            <a:ext cx="23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876920" y="2209680"/>
                <a:ext cx="388620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4569840" y="1600200"/>
            <a:ext cx="24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t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209680"/>
                <a:ext cx="3260880" cy="40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n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D5A4-4C07-46B8-9317-5A431A4DA3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el Propert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s on constraint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second set of constraints are redundant and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integrality constraints of the connection variables can be relaxed in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orem on LP relax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LP relaxation of formulation one is at least as strong as those of formulations two and th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A6DB-55D5-478F-8C47-F496F9C1EA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blem Siz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network from a major US airline used by Barnhart et al. (2001)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,044 flights and 76,641 itineraries.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uppose 7 copies will be generated for each flight (if 5 minutes interval is used, 7 copies correspond to a 30 minute time window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on average every flight connects to 12 flights with connecting passenger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676520" y="4267080"/>
          <a:ext cx="6629400" cy="2286000"/>
        </p:xfrm>
        <a:graphic>
          <a:graphicData uri="http://schemas.openxmlformats.org/drawingml/2006/table">
            <a:tbl>
              <a:tblPr/>
              <a:tblGrid>
                <a:gridCol w="557280"/>
                <a:gridCol w="1734840"/>
                <a:gridCol w="2679840"/>
                <a:gridCol w="1657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Integer Vari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umber of R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5,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,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16,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03,9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F332-30EE-4F29-9A4F-46C117CB8C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irline Oper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any reasons can cause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re weather conditions, unexpected aircraft and personnel failures, congested traffic, etc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lays may propagate through the 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ng delays and cancellations cause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Airlines must reschedule aircraft/crew and re-accommodate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Huge revenue loss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elays cost consumers and airlines about $6.5 billion in 2000 (Air Transport Association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EE7C-F09F-4620-8D82-3ADDBF69D1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Maintain Current Fleeting and Routing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an aircraft maintenance route: the planned turn time &gt;= minimum turn time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ce               , if the time between the arrival of flight copy        and the departure of flight copy        is less than the minimum turn time.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upper bounds will be set to zero for these x variabl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828800" y="2286000"/>
                <a:ext cx="11858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676520" y="2666880"/>
                <a:ext cx="4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858000" y="2743200"/>
                <a:ext cx="53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9" name=""/>
          <p:cNvGrpSpPr/>
          <p:nvPr/>
        </p:nvGrpSpPr>
        <p:grpSpPr>
          <a:xfrm>
            <a:off x="1676520" y="4191120"/>
            <a:ext cx="5790960" cy="2942640"/>
            <a:chOff x="1676520" y="4191120"/>
            <a:chExt cx="5790960" cy="2942640"/>
          </a:xfrm>
        </p:grpSpPr>
        <p:sp>
          <p:nvSpPr>
            <p:cNvPr id="400" name=""/>
            <p:cNvSpPr/>
            <p:nvPr/>
          </p:nvSpPr>
          <p:spPr>
            <a:xfrm flipV="1">
              <a:off x="1676520" y="5511960"/>
              <a:ext cx="57909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1681920" y="6229440"/>
              <a:ext cx="5769360" cy="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76520" y="4825080"/>
              <a:ext cx="579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910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49320" y="5511960"/>
              <a:ext cx="830880" cy="71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55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67600" y="419112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34920" y="667404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11120" y="5511960"/>
              <a:ext cx="847800" cy="717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29200" y="4825080"/>
              <a:ext cx="69192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2800" y="4825080"/>
              <a:ext cx="692280" cy="69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1932840" y="4507920"/>
                  <a:ext cx="3168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2825640" y="5197320"/>
              <a:ext cx="2085480" cy="633960"/>
            </a:xfrm>
            <a:custGeom>
              <a:avLst/>
              <a:gdLst/>
              <a:ahLst/>
              <a:rect l="l" t="t" r="r" b="b"/>
              <a:pathLst>
                <a:path w="1488" h="576">
                  <a:moveTo>
                    <a:pt x="0" y="286"/>
                  </a:moveTo>
                  <a:cubicBezTo>
                    <a:pt x="69" y="327"/>
                    <a:pt x="232" y="576"/>
                    <a:pt x="414" y="535"/>
                  </a:cubicBezTo>
                  <a:cubicBezTo>
                    <a:pt x="596" y="494"/>
                    <a:pt x="911" y="82"/>
                    <a:pt x="1090" y="41"/>
                  </a:cubicBezTo>
                  <a:cubicBezTo>
                    <a:pt x="1269" y="0"/>
                    <a:pt x="1405" y="235"/>
                    <a:pt x="1488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4793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3035520" y="4507920"/>
                  <a:ext cx="336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55656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6122160" y="6304680"/>
                  <a:ext cx="374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6602400" y="6304680"/>
                  <a:ext cx="354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3161880" y="5776560"/>
                  <a:ext cx="45000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419" name=""/>
            <p:cNvSpPr/>
            <p:nvPr/>
          </p:nvSpPr>
          <p:spPr>
            <a:xfrm>
              <a:off x="3363480" y="5175360"/>
              <a:ext cx="2578680" cy="659160"/>
            </a:xfrm>
            <a:custGeom>
              <a:avLst/>
              <a:gdLst/>
              <a:ahLst/>
              <a:rect l="l" t="t" r="r" b="b"/>
              <a:pathLst>
                <a:path w="1840" h="599">
                  <a:moveTo>
                    <a:pt x="0" y="306"/>
                  </a:moveTo>
                  <a:cubicBezTo>
                    <a:pt x="98" y="347"/>
                    <a:pt x="363" y="599"/>
                    <a:pt x="587" y="555"/>
                  </a:cubicBezTo>
                  <a:cubicBezTo>
                    <a:pt x="811" y="511"/>
                    <a:pt x="1137" y="86"/>
                    <a:pt x="1346" y="43"/>
                  </a:cubicBezTo>
                  <a:cubicBezTo>
                    <a:pt x="1555" y="0"/>
                    <a:pt x="1737" y="246"/>
                    <a:pt x="1840" y="29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5180040" y="4878000"/>
                  <a:ext cx="47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j</m:t>
                          </m:r>
                          <m:r>
                            <m:t xml:space="preserve">,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A9A8-6E7B-4C72-98BF-93A0A9AFFE5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lution Approac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andom variables can be replaced by their me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terministic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tribution of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ranch-and-Pr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523880" y="2133720"/>
                <a:ext cx="5639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b>
                        </m:sSub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971800" y="2895480"/>
                <a:ext cx="6094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523880" y="3200400"/>
                <a:ext cx="26672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with prob  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057400" y="3962520"/>
                <a:ext cx="4495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ility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can be determined by considerin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-- prob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T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MC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37A6-0BB4-48DA-88A8-8EC30C527D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twor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use the same four networks, but add all flights together and form one network with total 278 flight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ata divided into two sets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rst data set (Jul 2000) used to build model and generate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data set (Aug 2000) used to test the new sche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ength of the formu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29" name="LP%20relaxation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7086600" cy="11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C303-C3A2-4110-BEA4-4FF92B964E5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sume 30 minute minimum connecting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July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ust 2000 dat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2" name="July%20-%2030%20min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467480" cy="1392120"/>
          </a:xfrm>
          <a:prstGeom prst="rect">
            <a:avLst/>
          </a:prstGeom>
          <a:ln w="0">
            <a:noFill/>
          </a:ln>
        </p:spPr>
      </p:pic>
      <p:pic>
        <p:nvPicPr>
          <p:cNvPr id="433" name="August%20-%2030%20min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7391520" cy="137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91CE-E5B1-42B0-BFC3-441EA45584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gust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6" name="August%20-%2020%20min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37" name="August%20-%2025%20min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7162560" cy="13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2735-8CAF-48F4-A1E8-977F5444A9B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w many copies to generat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0" name="Prob%20size%201%20min%20interv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5638680" cy="2111400"/>
          </a:xfrm>
          <a:prstGeom prst="rect">
            <a:avLst/>
          </a:prstGeom>
          <a:ln w="0">
            <a:noFill/>
          </a:ln>
        </p:spPr>
      </p:pic>
      <p:pic>
        <p:nvPicPr>
          <p:cNvPr id="441" name="Solution%201%20min%20interval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6386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8E65-5364-4C0A-9D62-7FA705F5581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Maintenance Rou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Flight Schedule Retim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Summary of Contribu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Future Research Dire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9C31-9FAE-4601-863C-16ED065ED20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ummary of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s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6793-C64E-4059-A752-9E2010CB290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ture Research Direc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d Mode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robust aircraft maintenance routing with fleet assign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obust aircraft maintenance routing with time windo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tegrated flight schedule re-timing with FAMTW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ther approach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with minimal expected co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eet assignment under demand uncertaint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wap opportuniti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routes with short cyc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0924-B65F-4109-89D5-311DAF0A47B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ational Resul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July 2000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5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ssume 20 minute minimum connecting tim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0" name="July%20-%2025%20min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7086600" cy="1320840"/>
          </a:xfrm>
          <a:prstGeom prst="rect">
            <a:avLst/>
          </a:prstGeom>
          <a:ln w="0">
            <a:noFill/>
          </a:ln>
        </p:spPr>
      </p:pic>
      <p:pic>
        <p:nvPicPr>
          <p:cNvPr id="451" name="July%20-%2020%20min" descr=""/>
          <p:cNvPicPr/>
          <p:nvPr/>
        </p:nvPicPr>
        <p:blipFill>
          <a:blip r:embed="rId2"/>
          <a:stretch/>
        </p:blipFill>
        <p:spPr>
          <a:xfrm>
            <a:off x="1371600" y="4724280"/>
            <a:ext cx="7086600" cy="13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35BD-8AE4-4476-B9B6-0700B32C52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ight Delays &amp;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nd (1995-1999)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80%) in flights delayed more than 45 mi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increase (500%) in the number of cancelled fligh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ear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0% of flights dela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5% of flights cancelled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uture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 traffic in US is expected to double in the next 10-15 year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ach 1% increase in air traffic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a 5% increase in delays (Schaefer et al. (2001)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ad to more frequent and serious delay and schedule disruption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5AFE-FC72-464D-8A5D-09A9BBFA0C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act on Passeng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ruptions calculated at the flight level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 flight was cancelled, all passengers on that flight is disrup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actual departure time of flight B – actual arrival time of flight A &lt; minimum connecting time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ll passengers connecting from A to B are disrupted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umber of disrupted passengers only calculated for connections between flights that both have ASQP record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SQP has records only for domestic flights flown by jet airplanes and major airlines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ctual departure and arrival times for flights without ASQP records are unknown </a:t>
            </a:r>
            <a:r>
              <a:rPr b="0" lang="en-US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Assume no disruptions for these flight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assengers only counted as disrupted onc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passenger is disrupted on any flight leg of itinerary, passenger not counted as disrupted on the following flight leg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736C-8989-4EFF-B8AB-D6DAE5126E7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elays and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elay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difference between scheduled and actual arrival time at passengers’ destin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light delay and passenger delay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56" name="delay" descr=""/>
          <p:cNvPicPr/>
          <p:nvPr/>
        </p:nvPicPr>
        <p:blipFill>
          <a:blip r:embed="rId1"/>
          <a:stretch/>
        </p:blipFill>
        <p:spPr>
          <a:xfrm>
            <a:off x="1752480" y="4267080"/>
            <a:ext cx="51818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D36F-54D8-4701-BA8F-4C4BE86F882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gnificant numbers: 4%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20-30 million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perience very long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tribute to more than half of the total passenger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use huge revenue lo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stroy airlines’ imag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e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assenger delay caused by disruption is the most critical pa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rd to determine the delays for each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ize number of disrupted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5B24-96D4-4361-975B-5DFE2B8B750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P Solu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gorithm for LP relaxation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0: Create initial feasible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1: Solve the restricted master problem (RMP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nd optimal solution to RMP with a subset of all strings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2: Solve the pricing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enerate strings with negative reduced c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no string is generated, stop: the LP is solv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ep 3: Construct a new restricted master probl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 the strings generated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o to step 1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BB65-76CC-441D-8C10-1A957DDE4EA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easible string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fligh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set of ground variabl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set of strings ending (starting) wit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binary decision variable for each feasible string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integer variable to count number of aircraft on the ground at maintenance sta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depar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: number of aircraft on the ground before (after)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 at the maintenance station from which flight </a:t>
            </a: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arriv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838080" y="3429000"/>
                <a:ext cx="385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838080" y="2971800"/>
                <a:ext cx="916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838080" y="4800600"/>
                <a:ext cx="1086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838080" y="5638680"/>
                <a:ext cx="1062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66B7-3B53-4B7E-A14A-FE6E0DC6433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otation (Cont.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propagated delay from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to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nd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are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indicator variable, equals 1 if flight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is in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, and equals 0 otherwi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string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, a single point time at which to count aircraf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: number of times ground arc </a:t>
            </a: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crosses the count tim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: number of planes available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838080" y="144792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838080" y="2286000"/>
                <a:ext cx="432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838080" y="3200400"/>
                <a:ext cx="374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826920" y="4191120"/>
                <a:ext cx="3780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1A1D-CCED-42C5-989B-F280C5BFE13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at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irline Service Quality Performance (ASQP) provides good source of delay inform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QP provides flight operation information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ll domestic flights served by jet aircraft by major airlines in U.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lanned departure time and arrival time, actual departure time and arrival time (including wheels-off and wheels-on time, taxi-out and taxi-in time, airborne tim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ircraft tail number for each fligh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ncelled flights  (reasons for cancellation, and aircraft tail number are not availabl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AF63-5C90-4A82-91DC-0EE7DEE1CF3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ffect of Cancella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r cancelled flights in the historical dat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know which aircraft supposed to fly the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don’t have the delay information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 assume the propagated delays for these flights are zer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ower cancellation rat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ss passengers disrupted because of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passengers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 days in Aug 2000 with very few cancellations (cancellation rate = 0.19%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Aug 2000, 65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r 7 selected days in Aug 2000, 92% of disrupted passengers are disrupted because of flight delay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7CAB-C5EF-41F8-B2ED-326F67BB02C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ults - Low Cancellation Day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 disruptions for 7 selected days in Aug 2000 with very few cancel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duction in number of disrupted passengers per non-cancelled flights is same as that for entire month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600200" y="2514600"/>
          <a:ext cx="4952880" cy="21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14600"/>
                    <a:ext cx="495288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78FF-3883-4826-AE4B-0C7453F8C20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tens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schedul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slacks may be added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further reduce delay propag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mbine with fleet assignmen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eed to determine cost for propagated dela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re feasible string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better solu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mum turn time is a function of fleet typ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grate with fleet assignment and schedule gener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F613-8A2D-4FC9-9864-EE3CD9F7D2B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ssenger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assengers are disrupted if their planned itineraries are infeasible becaus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lights cancel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sufficient time to connec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% of passengers disrupted in 2000 (Bratu and Barnhart, 2002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alf of them are connecting passenge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Very long delays for disrupted passenger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verage delay for disrupted passengers is approx. 419 minutes (versus 14 min delay for non-disrupted passengers) (Bratu and Barnhart, 200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gnificant revenue lo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BCE5-4202-40CA-8A3C-7F7E47E51E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r Contribu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vide alternative definitions for robustness in the context of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an optimization model and solution approach that can generate aircraft maintenance routes to minimiz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optimization models and solution approach to minimize the expected total number of passengers missing connection, and analyze the model propert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of-of-concept results show that these approaches are promis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Develop integrated models for more robustnes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7B25-A223-4C60-A621-B27BC1CACE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ut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13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ackground, Motivation and Our Contribu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굴림"/>
              </a:rPr>
              <a:t>Overview of Robust Airline Schedule Plann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How to deal with schedule disrup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Challenges of building robust airline schedu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Definitions of robustne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굴림"/>
              </a:rPr>
              <a:t>Robust airline schedule planning approach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obust Aircraft Maintenance Routing -- reduce delay propag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Flight Schedule Retiming – reduce passenger missed conn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ummary and Future Research Dir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76C9-9C42-4FF3-98B1-57DD064B1AB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Deal with Schedule Disruption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13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wo ways to deal with schedule disruptions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-optimize schedule after disruptions occur (operation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uild robustness into the schedules (planning stag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isting planning systems do not have effective methods to manage disrup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more robust plan can reduce the effect of  disruptions on the operations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reduce operation costs and improve quality of servic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SzPct val="8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obust airline schedule planning methods are needed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C5EE-CBF4-4128-810A-837BA8DDB5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22:04:04Z</dcterms:created>
  <dc:creator> </dc:creator>
  <dc:description/>
  <dc:language>en-US</dc:language>
  <cp:lastModifiedBy>CEE</cp:lastModifiedBy>
  <cp:lastPrinted>2002-10-17T14:54:11Z</cp:lastPrinted>
  <dcterms:modified xsi:type="dcterms:W3CDTF">2004-02-24T19:39:39Z</dcterms:modified>
  <cp:revision>475</cp:revision>
  <dc:subject/>
  <dc:title>Fleet Assignment under Demand Uncertainty</dc:title>
</cp:coreProperties>
</file>