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6A679C-617B-4C75-87FB-60D73248A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4BB4BE-27A7-4A64-ADC4-E47FD5EBB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893CBD-BFDF-4D70-927C-140C53A8C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93D221-339B-4A0D-8FF1-6E34A01B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2B1E59-1ADC-4F73-8772-7F0841452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C92-C97B-428F-BFE2-B8C07816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569-EFFE-4EA0-97B1-34C8A30F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C38-E86D-47DE-BB42-5D3A7E03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2C22-F19D-4101-9C25-F75ED80E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4AE-D52A-4514-BBC5-51944918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37D-3DD4-49AE-BE4F-F095C215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F52-2BDF-4233-8FC2-CC87A387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F1E-971F-402D-A24E-F82BCE33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67D-EF0C-49EC-8CD1-9F74CC46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CF0-B906-48DD-9959-6FCC99B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85E-7899-42C6-9835-E573633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385-60C0-463F-B5D4-B8900D5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E7C0-4FE9-41C4-80D7-3E589D82EE0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6A9B-3832-481C-8224-6A5F5541BF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AE9-AE46-47FF-9400-F6F6FD23A8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E3A94-0702-4195-AF7B-EBB5D662F5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79E-817C-483E-AA47-A3E68528B8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ED6D2-DB70-4024-8548-0941B8DFA4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709-5CB3-4D92-98A5-314B3570D029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2B9F9-7500-4239-AA55-EEE8EAA36314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A4E-F997-4BDE-B638-C36EAD7C9127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1EEB6-B3A3-4AD0-8A5B-68EE0F5B47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896-1458-4DF2-8A79-4E7F559C7A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FF293-1FD8-46C6-B3C3-FFE7A44E5FEF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9A9-0F46-4590-BF16-650E75DB21C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9BAD3-0412-4CEB-8626-13B4BB8CE2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680-4EF9-41BA-840E-3071CF9108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36707-A098-4442-B7F2-D790EE48FE9A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1EA-44EB-47D7-A9C6-6C9CCCCBA548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7AB31-E137-4699-B874-FE06D46131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B9B-566A-4D35-BD36-DE72748B33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A8B43-196F-4746-863D-07F3203DC9C3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F48-D050-4321-A161-D487D495E3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4CE65-6D5D-42A3-875B-853EB1F72C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FDC-10ED-4552-A7BA-8B89A047A0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84B74-8466-4555-B463-E9C784D96AFA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114-9FBC-4F39-9022-ECDA8B73BD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60D0D-03B5-496F-AA9D-4F3F693D23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CD0-63AD-4783-8A04-13C7CBB5B6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FC30A-CB67-4643-BC32-2713C11BE6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2D2-AC64-4E97-A7E2-6A595C7723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53792-8E91-42FE-899D-FC37BBF2A7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15A-4E51-48D3-B26B-0DE8521910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9EC76-3C6D-43C6-AF1F-01226CA85144}" type="datetime5">
              <a:rPr lang="en-US"/>
              <a:t>Jul 28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257-D660-42D0-89A7-A53E18D571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7A306-18A3-494D-A2BD-F19E3CC2B372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CFB-E296-44D0-BA1D-3DEE18A466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9A71F-E8EE-4103-92E8-4BE148D876C9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452-CC85-4556-94FB-CAB7799782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66B18-DC10-4B76-9108-7B8566CD699F}" type="datetime5">
              <a:rPr lang="en-US"/>
              <a:t>Jul 28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CE3-93BD-4D9F-8D5B-3D66FE94C7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7C603-7375-438E-8460-6CA3682155E1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B96-EBEB-48EB-A668-ABC104044E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5151F-F00F-4E1A-B380-EBA4F68C8167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4AC-5BD5-4DB0-A2B3-1C91A3B1C2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EC948-7B2C-4B4B-A0FA-4F8A6324F399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008-DADD-4A65-8625-318E9FAC09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4A8E6-78FF-4A5F-A5CD-ADEBE2D4E5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BAC-E216-4A9A-AFD5-1D6F510A99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54776-D1B8-4116-BB12-E963C0C1941F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12880" y="12571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optimal (non-negative)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13A-3C47-42C3-90F7-FAAD135816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56383-314A-4B51-8824-7AB0B46836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6DB-169F-48AC-9881-D77C26FD04C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5B678-DB0B-4A79-B150-4901931EA3B2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946-5780-4C78-9249-044FF715825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2A15F-1294-48BF-ABB9-4C00B9753DDB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309-2A0B-43A6-B71B-7645AE3D2B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79F5A-C9B1-4CC7-ABB9-30210254EE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576-279E-4925-914D-848803D0D4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BD693-456F-4876-A199-BCE25E0B7E46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3E7-F7B4-4022-954B-21ABC7B008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F756A-3988-4EAF-BC62-952BC6530A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9C4-6EA9-4441-A3F3-FB0CA0BF41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D5D3F-9F56-445E-8B98-4C6E52BA4D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068-3338-4351-B615-017E69EBD0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4924A-9775-4F6A-BAB7-F67E9428E5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26F-A53D-4BC8-BCDA-3D0078AC17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8E5F0-FAAA-4229-81E3-0E6054AFB5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13C-90C1-4927-849D-34D045FC6D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C85F0-6669-48CF-810E-FD06FED059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689-4858-4258-8409-8D91F73C2C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72E85-F529-4B39-8F3A-D6DF266F8C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C45-7338-47A6-AC60-E996D0EBF1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9B969-2C58-402C-B4F0-7D7520F3A9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0E0-EF11-4D3A-BFDD-E2D9FE166C1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B31C5-F0E6-460F-B802-ED7DE23B21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393-43E3-4FA3-8406-1A2C17509B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65F12-2E54-4159-B3C1-B359AD6497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4:38Z</dcterms:modified>
  <cp:revision>370</cp:revision>
  <dc:subject/>
  <dc:title>Thesis Proposal Meeting</dc:title>
</cp:coreProperties>
</file>