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78AD-B4FF-49A5-B0C5-62AB5DF6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E58-E7C0-466E-A13A-259695A8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2859-4429-4462-B433-9CA5EF0B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4EAC-7B0D-435B-BF9D-14AB9AEA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1311-D0B0-4DA0-AFD8-561B07F0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D4B2-B7A4-4D48-B170-2C45E5F6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475-C0EF-47CC-87D1-4D375485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EBC9-1EC3-4FAC-87DB-E67119D8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954A-E1DA-4C8C-AF09-566AAA12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EC90-BB5F-4C30-940D-8299894C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2060-6CCB-44DA-8525-0D3E2AAF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51EC-86BC-45C6-9160-C53BB57C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705D-D1EE-4809-B656-41C46E593731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46E5-83B5-4849-8B91-C15700477B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Quantitative Share Index or Quality of Service Index (QSI):  Defini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11360" y="2228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ntitative Share Index or Quality of Service Index (QS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is a QSI for each itinerar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each mark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airlin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(m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um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(m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ver all itinerarie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 a mark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ver all airline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 equal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for all market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F570-9F16-44F0-94F3-15851AA43D6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22B23-6C10-4548-ABC9-BE62E4B3DA2C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arket Sha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arket share of airlin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mark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 the sum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(m)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 all itinerarie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 mark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arket share of the competitors of airlin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mark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1 – (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um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(m)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 all itinerarie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 mark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 this a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s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m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4FA9-1558-4F0D-B567-08A3D2C8702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A1A4D-4368-45F5-9DAA-4219FF4E0B5F}" type="datetime1">
              <a:rPr lang="en-US"/>
              <a:t>07/28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capture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028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der a passenger who desires itinerar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t is redirected (spilled) to itinerar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passenger has the choice of accepting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 not (going to a competito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ability that passenger will accep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(given an uniform distribution) is the ratio o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J(m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J(m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s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m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bability that passenger will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O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ep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given an uniform distribution) is the ratio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s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m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o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QSI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J(m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s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m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ratios sum to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s a monopoly, recapture rate will equal 1.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445C-C5CD-4398-9C59-133B232F55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88072-79DD-4218-811A-6AD991D27795}" type="datetime1">
              <a:rPr lang="en-US"/>
              <a:t>07/28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capture Calc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apture rates for airlin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 probability that a passenger spilled from I will accept a seat on J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if one exi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SI mechanism for computing recapture ra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660760" y="4222800"/>
                <a:ext cx="361944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SI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c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SI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2DAE-49B0-4C82-B7CD-5123C1BFF04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DF7EF-594F-4040-84FD-6A7ABD44A123}" type="datetime1">
              <a:rPr lang="en-US"/>
              <a:t>07/28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 with Recapt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"/>
          <p:cNvSpPr/>
          <p:nvPr/>
        </p:nvSpPr>
        <p:spPr>
          <a:xfrm>
            <a:off x="2489040" y="5619600"/>
            <a:ext cx="53352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13480" y="5619600"/>
            <a:ext cx="53316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46240" y="5257800"/>
            <a:ext cx="2743200" cy="438120"/>
          </a:xfrm>
          <a:custGeom>
            <a:avLst/>
            <a:gdLst/>
            <a:ahLst/>
            <a:rect l="l" t="t" r="r" b="b"/>
            <a:pathLst>
              <a:path w="1728" h="276">
                <a:moveTo>
                  <a:pt x="0" y="276"/>
                </a:moveTo>
                <a:cubicBezTo>
                  <a:pt x="146" y="230"/>
                  <a:pt x="589" y="0"/>
                  <a:pt x="877" y="0"/>
                </a:cubicBezTo>
                <a:cubicBezTo>
                  <a:pt x="1165" y="0"/>
                  <a:pt x="1551" y="219"/>
                  <a:pt x="1728" y="2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22560" y="5605560"/>
            <a:ext cx="2560680" cy="250560"/>
          </a:xfrm>
          <a:custGeom>
            <a:avLst/>
            <a:gdLst/>
            <a:ahLst/>
            <a:rect l="l" t="t" r="r" b="b"/>
            <a:pathLst>
              <a:path w="1613" h="158">
                <a:moveTo>
                  <a:pt x="0" y="105"/>
                </a:moveTo>
                <a:cubicBezTo>
                  <a:pt x="272" y="57"/>
                  <a:pt x="547" y="0"/>
                  <a:pt x="816" y="9"/>
                </a:cubicBezTo>
                <a:cubicBezTo>
                  <a:pt x="1085" y="18"/>
                  <a:pt x="1447" y="127"/>
                  <a:pt x="1613" y="15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2560" y="5929200"/>
            <a:ext cx="2573280" cy="235080"/>
          </a:xfrm>
          <a:custGeom>
            <a:avLst/>
            <a:gdLst/>
            <a:ahLst/>
            <a:rect l="l" t="t" r="r" b="b"/>
            <a:pathLst>
              <a:path w="1621" h="148">
                <a:moveTo>
                  <a:pt x="0" y="45"/>
                </a:moveTo>
                <a:cubicBezTo>
                  <a:pt x="272" y="93"/>
                  <a:pt x="546" y="148"/>
                  <a:pt x="816" y="141"/>
                </a:cubicBezTo>
                <a:cubicBezTo>
                  <a:pt x="1086" y="134"/>
                  <a:pt x="1453" y="29"/>
                  <a:pt x="1621" y="0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4920" y="49719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,100,1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3080" y="53150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,300,1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96960" y="577224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,100,1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8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apture rat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4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5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5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 0.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ume all itineraries have a single fare class, and their fares are all equ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timal solu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ill _____ from I to J, Spill _____ from I to 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ill _____ from J to I, Spill _____ from J to 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ill _____ from K to I, Spill _____ from K to 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62320" y="3733920"/>
            <a:ext cx="1904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181480" y="3657600"/>
            <a:ext cx="190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133720" y="4114800"/>
            <a:ext cx="5331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00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29200" y="4114800"/>
            <a:ext cx="457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5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438280" y="4572000"/>
            <a:ext cx="190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81480" y="4572000"/>
            <a:ext cx="190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DA00-5C35-4C2D-A810-D7B4CB719F2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047C5-18EA-46CC-B2FE-155BCFF312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athematical Model: 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the number of passengers that desire travel on itinerar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then travel on itinerary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s an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average fare for itinerar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daily unconstrained demand for itinerar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capacity on flight leg 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recapture rate of a passenger desiring itinerar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who is offered itinerar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422360" y="5543640"/>
                <a:ext cx="6095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flight leg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is on itinerary </m:t>
                              </m:r>
                              <m:r>
                                <m:t xml:space="preserve">p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228680" y="2286000"/>
                <a:ext cx="2858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930240" y="3772080"/>
                <a:ext cx="7826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ar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914400" y="4114800"/>
                <a:ext cx="6094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914400" y="4457880"/>
                <a:ext cx="81288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219320" y="4743360"/>
                <a:ext cx="260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00BE-35DA-4278-8DBD-8FE0DA805B2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F8953-37EA-462B-B2C0-4212F25D5EE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asic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26880" y="1314360"/>
                <a:ext cx="8490240" cy="418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imize</m:t>
                          </m:r>
                        </m:e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p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P</m:t>
                                  </m:r>
                                </m:sub>
                                <m:sup/>
                                <m:e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fare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</m:e>
                        <m:e/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subject to:</m:t>
                          </m:r>
                        </m:e>
                        <m:e/>
                        <m:e/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p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P</m:t>
                                  </m:r>
                                </m:sub>
                                <m:sup/>
                                <m:e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  <m:r>
                            <m:t xml:space="preserve">≤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A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  <m:e>
                          <m:r>
                            <m:t xml:space="preserve">∀</m:t>
                          </m:r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L</m:t>
                          </m:r>
                        </m:e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r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den>
                              </m:f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nary>
                        </m:e>
                        <m:e>
                          <m:r>
                            <m:t xml:space="preserve">∀</m:t>
                          </m:r>
                          <m:r>
                            <m:t xml:space="preserve">p</m:t>
                          </m:r>
                          <m:r>
                            <m:t xml:space="preserve">∈</m:t>
                          </m:r>
                          <m:r>
                            <m:t xml:space="preserve">P</m:t>
                          </m:r>
                        </m:e>
                      </m:mr>
                      <m:mr>
                        <m:e/>
                        <m:e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r</m:t>
                              </m:r>
                            </m:sup>
                          </m:sSubSup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∀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  <m:r>
                            <m:t xml:space="preserve">∈</m:t>
                          </m:r>
                          <m:r>
                            <m:t xml:space="preserve">P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886-5A71-4961-AC5E-9D0FE664AD1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6177E-7E0C-441A-902C-6B5FA7F08F5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358452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C6A1-6A5B-4E32-8461-2F14171B173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3CEC1-4EB0-48C3-BCB5-241CB51F34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ow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58452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0059-5E06-4BAF-8C5D-42BB14ED509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7BCD4-AC14-43D9-9D7A-F32B74A56C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and Row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4659480" cy="48006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454D-0AC8-4E5E-8CE1-5A5FD91A9CB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C887F-023B-4A71-9E4A-18556B0B0A3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Passenger Mix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utl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mul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lumn and Row Gen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ution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s and Exten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D5C0-D320-416A-AA7F-E05580A675E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5A232-50BE-43D3-9B62-82293F48CA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and Row Generation:  Constraint Matrix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943600" cy="47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AC0D-CBC1-4880-8317-870C1E02E52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17C77-3928-43F8-A763-7660B25E21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Keypath Concep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ume most passengers flow along their desired itiner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cus on which passengers the airline would like to redirect on other itinerar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decision vari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number of passengers who desire travel on itinerary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, but the airline attempts to redirect onto the itinerary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unconstrained demand on flight leg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803160" y="4191120"/>
                <a:ext cx="728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224000" y="5327640"/>
                <a:ext cx="2412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387520" y="5886360"/>
                <a:ext cx="29955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DAD7-6907-418E-A5A1-1F9E856F12A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FC94B-A605-4637-A0A8-72A9C03203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Keypath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62120" y="1428840"/>
                <a:ext cx="7619760" cy="33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p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P</m:t>
                                  </m:r>
                                </m:sub>
                                <m:sup/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fare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b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  <m:sup>
                                          <m:r>
                                            <m:t xml:space="preserve">r</m:t>
                                          </m:r>
                                        </m:sup>
                                      </m:sSubSup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fare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</m:sub>
                                      </m:sSub>
                                    </m:e>
                                  </m:d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</m:e>
                        <m:e/>
                        <m:e/>
                      </m:mr>
                      <m:mr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t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:</m:t>
                          </m:r>
                        </m:e>
                        <m:e/>
                        <m:e/>
                        <m:e/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r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p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P</m:t>
                                  </m:r>
                                </m:sub>
                                <m:sup/>
                                <m:e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p</m:t>
                                      </m:r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</m:e>
                              </m:nary>
                            </m:e>
                          </m:nary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r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p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P</m:t>
                                  </m:r>
                                </m:sub>
                                <m:sup/>
                                <m:e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p</m:t>
                                      </m:r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  <m:sup>
                                      <m:r>
                                        <m:t xml:space="preserve">p</m:t>
                                      </m:r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  <m:sup>
                                      <m:r>
                                        <m:t xml:space="preserve">p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nary>
                        </m:e>
                        <m:e/>
                        <m:e/>
                      </m:mr>
                      <m:mr>
                        <m:e/>
                        <m:e>
                          <m:r>
                            <m:t xml:space="preserve"> </m:t>
                          </m:r>
                          <m:r>
                            <m:t xml:space="preserve">≥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A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  <m:e>
                          <m:r>
                            <m:t xml:space="preserve">∀</m:t>
                          </m:r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L</m:t>
                          </m:r>
                        </m:e>
                        <m:e/>
                      </m:mr>
                      <m:mr>
                        <m:e/>
                        <m:e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r</m:t>
                              </m:r>
                              <m:r>
                                <m:t xml:space="preserve">∈</m:t>
                              </m:r>
                              <m:r>
                                <m:t xml:space="preserve">P</m:t>
                              </m:r>
                            </m:sub>
                            <m:sup/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r</m:t>
                                  </m:r>
                                </m:sup>
                              </m:sSubSup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nary>
                        </m:e>
                        <m:e>
                          <m:r>
                            <m:t xml:space="preserve">∀</m:t>
                          </m:r>
                          <m:r>
                            <m:t xml:space="preserve">p</m:t>
                          </m:r>
                          <m:r>
                            <m:t xml:space="preserve">∈</m:t>
                          </m:r>
                          <m:r>
                            <m:t xml:space="preserve">P</m:t>
                          </m:r>
                        </m:e>
                        <m:e/>
                      </m:mr>
                      <m:mr>
                        <m:e/>
                        <m:e>
                          <m:sSubSup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r</m:t>
                              </m:r>
                            </m:sup>
                          </m:sSubSup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629400" y="5562720"/>
                <a:ext cx="167328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¹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</m:sSubSup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4875120" y="4952880"/>
            <a:ext cx="266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hange of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lation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4952880"/>
            <a:ext cx="3429000" cy="1600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36E3-DC52-4CCF-A675-E7CA3632690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AC161-C704-406F-86A1-10D0E10414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Benefit of the Keypath Concep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now minimizing the objective function and most of the objective coefficients are __________.  Therefore, this will guide the decision variables to values of __________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does this help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86200" y="2743200"/>
            <a:ext cx="1447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ositive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057400" y="3733920"/>
            <a:ext cx="1904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EBC0-42B3-4CA6-8532-349789AFB8D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2D9C8-DFBA-484B-9410-BD3D3C70DD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lution Procedur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971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Both Column Generation and Row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ual flow of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1- Define RMP for Iteration 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Set k =1.  Denote an initial subset of columns (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which is to be used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2- Solve RMP for Iteration 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Solve a problem with the subset of columns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3- Generate Row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Determine if any constraints are violated and express them explicitly in the constraint matrix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4- Generate Colum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Price some of the remaining columns, and add a group (A*) that have a reduced cost less than zero, i.e.,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=[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|A*]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tep 5- Test Optimalit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If no columns or rows are added, terminate.  Otherwise, k =k+1, go to Step 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A0A6-A763-4034-9944-B5A5749E2B1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C389A-C12A-405D-9A66-332DBF28D5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a large number of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the number of itineraries in mark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of them aren’t going to be conside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te columns by explicit enumeration and “pricing out” of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6166-109E-4F25-964E-A6B7F1285E4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BFD16-2523-47AB-BF70-A7AABB1C5A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ing Reduced Cos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reduced cost of a column i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re     is the non-negative dual cost associated with flight leg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      is the non-negative dual cost associated with itinerar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187280" y="2400480"/>
                <a:ext cx="677088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ar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ar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r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133720" y="3352680"/>
                <a:ext cx="380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867280" y="3962520"/>
                <a:ext cx="609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ADE1-075C-47CD-9314-E0F793B848A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B7CEE-6C06-4FFD-A3BA-59C20DE762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lving the Pricing Problem (Column Generation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the column generation step be accomplished by solving shortest paths on a network with “modified” arc costs, or some other polynomial time algorith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nt:  Think about fare struc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are the implications of the answer to this questio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2B3C-F9CB-4C8F-9B6B-2784BF1060E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F606F-0D28-4683-923E-81619E4F28B7}" type="datetime1">
              <a:rPr lang="en-US"/>
              <a:t>07/28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ational Experienc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urrent United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umber of Markets -15,67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umber of Itineraries - 60,21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imum number of legs in an itinerary- 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ximum number of itineraries in a market- 6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ight network (# of flights)-  2,03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ing CPLEX, we solved the above problem in roughly 100 seconds, generating just over 100,000 columns and 4,100+ row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9091-894B-48D7-81B2-41ADBF1E8B2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1C4B4-CEEA-447E-AC6B-6A29A700CF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s:  Irregular Opera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n flights are cancelled or delay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ssenger itineraries are cancell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ssenger reassignments to alternative itineraries necessa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light schedule and fleet assignments (capacity) are know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bjective might be to minimize total delays or to minimize the maximum delay beyond schedul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are recapture rates affected by this scenario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would the passenger-mix model have to be altered for this scenario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F417-52DA-48CC-B7BE-BE26DD8F0C5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1CF14-4883-4CDC-8A9E-8D14FDF40B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me Basic Defin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rk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 origin-destination airport pair, between which passengers wish to fly one-w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S-ORD and ORD-BOS are differ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iner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specific sequence of flight legs on which a passenger travels from their ultimate origin to their ultimate destin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re Clas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fferent prices for the same travel service, usually distinguished from one another by the set of restrictions imposed by the airli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F0C2-835A-4009-A401-36EC00A5FA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E6711-81BB-4EBF-8634-481E10B578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79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tensions:  Yield Manag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the passenger mix problem be used as a tool for yield management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are the issu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terministic vs. stochast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quence of reque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mall demands (i.e., quality of dat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anta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hows the expected makeup of seat allo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akes into account the probability of recapturing spilled passen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ives ideas of itineraries that should be block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ual prices might give us ideas for contributions, or displacement co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D5EE-8BE1-45FA-A925-EEB6BEB542F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690B9-AFB9-46AF-B648-A072CC5C01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tensions: Fleet Assign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be explained in the next lectures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3B21-2E11-4123-9866-3AE98294606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B2BC8-DBEA-40EA-8FAA-706FDF7C45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me More Defin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i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ssengers that are denied booking due to capacity restri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ap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ssengers that are recaptured back to the airline after being spilled from another flight le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223D-603E-4034-84C8-6980958F11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90DCB-DFA3-4D5F-A27F-C01957702E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blem Descrip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 airline’s flight schedu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unconstrained demand for all itineraries over the airline’s flight schedu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ize revenues by intelligently spilling passengers that are either low fare or will most likely fly another itinerary (recaptur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quivalent to minimize the total spill cos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EF73-3FB9-4EA0-92D7-9BBBDACB18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BFC29-EEE6-4232-B36E-BC8FE6634D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"/>
          <p:cNvSpPr/>
          <p:nvPr/>
        </p:nvSpPr>
        <p:spPr>
          <a:xfrm>
            <a:off x="2489040" y="51055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13480" y="5105520"/>
            <a:ext cx="53316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46240" y="4743360"/>
            <a:ext cx="2743200" cy="438120"/>
          </a:xfrm>
          <a:custGeom>
            <a:avLst/>
            <a:gdLst/>
            <a:ahLst/>
            <a:rect l="l" t="t" r="r" b="b"/>
            <a:pathLst>
              <a:path w="1728" h="276">
                <a:moveTo>
                  <a:pt x="0" y="276"/>
                </a:moveTo>
                <a:cubicBezTo>
                  <a:pt x="146" y="230"/>
                  <a:pt x="589" y="0"/>
                  <a:pt x="877" y="0"/>
                </a:cubicBezTo>
                <a:cubicBezTo>
                  <a:pt x="1165" y="0"/>
                  <a:pt x="1551" y="219"/>
                  <a:pt x="1728" y="2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22560" y="5091120"/>
            <a:ext cx="2560680" cy="250920"/>
          </a:xfrm>
          <a:custGeom>
            <a:avLst/>
            <a:gdLst/>
            <a:ahLst/>
            <a:rect l="l" t="t" r="r" b="b"/>
            <a:pathLst>
              <a:path w="1613" h="158">
                <a:moveTo>
                  <a:pt x="0" y="105"/>
                </a:moveTo>
                <a:cubicBezTo>
                  <a:pt x="272" y="57"/>
                  <a:pt x="547" y="0"/>
                  <a:pt x="816" y="9"/>
                </a:cubicBezTo>
                <a:cubicBezTo>
                  <a:pt x="1085" y="18"/>
                  <a:pt x="1447" y="127"/>
                  <a:pt x="1613" y="15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22560" y="5415120"/>
            <a:ext cx="2573280" cy="234720"/>
          </a:xfrm>
          <a:custGeom>
            <a:avLst/>
            <a:gdLst/>
            <a:ahLst/>
            <a:rect l="l" t="t" r="r" b="b"/>
            <a:pathLst>
              <a:path w="1621" h="148">
                <a:moveTo>
                  <a:pt x="0" y="45"/>
                </a:moveTo>
                <a:cubicBezTo>
                  <a:pt x="272" y="93"/>
                  <a:pt x="546" y="148"/>
                  <a:pt x="816" y="141"/>
                </a:cubicBezTo>
                <a:cubicBezTo>
                  <a:pt x="1086" y="134"/>
                  <a:pt x="1453" y="29"/>
                  <a:pt x="1621" y="0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51160" y="436248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,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4760" y="474336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,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72040" y="5200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,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market, 3 itinera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constrained demand per itiner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tal demand for an itinerary when the number of seats is unlimi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ACF8-A11F-431E-B478-47C3ACDFB0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CEB56-C6B0-4B80-8A0A-40D9CEE4ED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 with Capacity Constrain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"/>
          <p:cNvSpPr/>
          <p:nvPr/>
        </p:nvSpPr>
        <p:spPr>
          <a:xfrm>
            <a:off x="4622760" y="46483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46840" y="4648320"/>
            <a:ext cx="533520" cy="533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79960" y="4286160"/>
            <a:ext cx="2743200" cy="438120"/>
          </a:xfrm>
          <a:custGeom>
            <a:avLst/>
            <a:gdLst/>
            <a:ahLst/>
            <a:rect l="l" t="t" r="r" b="b"/>
            <a:pathLst>
              <a:path w="1728" h="276">
                <a:moveTo>
                  <a:pt x="0" y="276"/>
                </a:moveTo>
                <a:cubicBezTo>
                  <a:pt x="146" y="230"/>
                  <a:pt x="589" y="0"/>
                  <a:pt x="877" y="0"/>
                </a:cubicBezTo>
                <a:cubicBezTo>
                  <a:pt x="1165" y="0"/>
                  <a:pt x="1551" y="219"/>
                  <a:pt x="1728" y="2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56280" y="4633920"/>
            <a:ext cx="2560680" cy="250920"/>
          </a:xfrm>
          <a:custGeom>
            <a:avLst/>
            <a:gdLst/>
            <a:ahLst/>
            <a:rect l="l" t="t" r="r" b="b"/>
            <a:pathLst>
              <a:path w="1613" h="158">
                <a:moveTo>
                  <a:pt x="0" y="105"/>
                </a:moveTo>
                <a:cubicBezTo>
                  <a:pt x="272" y="57"/>
                  <a:pt x="547" y="0"/>
                  <a:pt x="816" y="9"/>
                </a:cubicBezTo>
                <a:cubicBezTo>
                  <a:pt x="1085" y="18"/>
                  <a:pt x="1447" y="127"/>
                  <a:pt x="1613" y="15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56280" y="4957920"/>
            <a:ext cx="2573280" cy="234720"/>
          </a:xfrm>
          <a:custGeom>
            <a:avLst/>
            <a:gdLst/>
            <a:ahLst/>
            <a:rect l="l" t="t" r="r" b="b"/>
            <a:pathLst>
              <a:path w="1621" h="148">
                <a:moveTo>
                  <a:pt x="0" y="45"/>
                </a:moveTo>
                <a:cubicBezTo>
                  <a:pt x="272" y="93"/>
                  <a:pt x="546" y="148"/>
                  <a:pt x="816" y="141"/>
                </a:cubicBezTo>
                <a:cubicBezTo>
                  <a:pt x="1086" y="134"/>
                  <a:pt x="1453" y="29"/>
                  <a:pt x="1621" y="0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4520" y="38862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,100,1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4160" y="46483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,200,1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40840" y="52578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,100,1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market, 3 itinera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acity on itinerary I = 15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acity on itinerary J = 17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acity on itinerary K = 13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timal solu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ill _____ from 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ill _____ from 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ill _____ from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90920" y="4114800"/>
            <a:ext cx="1616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90920" y="5029200"/>
            <a:ext cx="1616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09680" y="4572000"/>
            <a:ext cx="3142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5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54C5-3E1F-4690-8D91-C677A34481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CC63E-6991-480B-9D73-35127B887B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venue Management:  A Quick Loo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486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flight le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ight 105, LGA-ORD, 287 seats availab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fare class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: High fare, no restric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: Low fare, many restric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and for Flight 1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Y class: 95 with an average fare of $4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 class:  225 with an average fare of $1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timal Spill Solution (     Y and      M passenger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venue:  $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pill:  $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419720" y="4876920"/>
            <a:ext cx="1616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0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486400" y="4876920"/>
            <a:ext cx="3142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33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8120" y="5334120"/>
            <a:ext cx="21333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95*400 + 192*100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666880" y="5867280"/>
            <a:ext cx="9144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33*100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8E74-5657-4634-87F2-2D91E75664E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CA884-F3A9-4517-82A5-249BC1582FE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etwork Revenue Manage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Fligh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ight 105, LGA-ORD, 287 sea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ight 201, ORD-SFO, 287 sea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and (one fare clas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GA-ORD, 225 passengers $1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D-SFO, 150 passengers $15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GA-SFO, 150 passengers, $22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timal Solution:  $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GA-ORD,          passenger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D-SFO,         passen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GA-SFO,         passen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114800" y="4400640"/>
            <a:ext cx="2819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50*100+150*150+137*225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8120" y="4705200"/>
            <a:ext cx="5331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50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971800" y="5162400"/>
            <a:ext cx="533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50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971800" y="5619600"/>
            <a:ext cx="533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37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D146-35B4-4BE6-8E58-90EC0AA595A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D3D41-07EF-4739-8755-451F70F56F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5T22:54:55Z</dcterms:modified>
  <cp:revision>413</cp:revision>
  <dc:subject/>
  <dc:title>Thesis Proposal Meeting</dc:title>
</cp:coreProperties>
</file>