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notesSlide48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5880" y="685440"/>
            <a:ext cx="457020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E60742D-9E10-47B3-804E-26CC1D2B5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D2200EA-3384-4839-A80E-536AA4E76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06480" y="4341600"/>
            <a:ext cx="503064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5305426-A77A-4A1D-9EE9-89A0CF82B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06480" y="4341600"/>
            <a:ext cx="503064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5A8FD10-656C-41B5-9820-30C0AFE41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body"/>
          </p:nvPr>
        </p:nvSpPr>
        <p:spPr>
          <a:xfrm>
            <a:off x="909720" y="4343040"/>
            <a:ext cx="50292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A89E358-3B7B-4790-8138-B0EACCA8B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 Next year, it would be good to supplement this with finding the paths with negative reduced costs by finding the shortest paths on the network, using modified co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 It might be a good idea to also cover lagrangian relaxation and approximation algorithms for mcf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1F5F736-E8B2-4BC8-B568-6EE2F61D3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8EAA47F-A22E-4F09-8181-A62B8411F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3727F19-34D5-481F-BE3B-781B0E5CA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B6F688A-93D5-4882-ACD2-4E682100E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FF9FFF0-F3B1-484C-BFE7-B28F1958F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489BBD8-33BE-4AF1-B880-F756A5A44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7BF67E4-2B27-417B-90A6-6080ECB28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4A6CA7F-05F9-454B-9333-515EF1015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 Next year, it would be good to supplement this with finding the paths with negative reduced costs by finding the shortest paths on the network, using modified co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 It might be a good idea to also cover lagrangian relaxation and approximation algorithms for mcf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B304AE6-83B3-4732-846B-C6F9AB448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7ABE31F-B927-458C-8928-847CE4654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026D33D-4AFE-49A1-8525-A9F23AADA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DA98E73-D531-4B5D-A943-DA021F52D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2694ABC-6724-45A7-838F-5844ED7D0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E504-8923-4E11-8CCE-F69035583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9C73-BABE-4CBA-9699-8DFB3881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E821-A6A7-4282-A8DE-68E692EB7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A0CE-7024-4130-9B2F-416D34A14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FEAD-4C59-4CC3-861A-AA7C06FC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6235-EB66-4CBA-9CF8-B59B7B00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B9E9-4B77-498B-A5C1-7DE29FA7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A1C4-06F6-4EEC-960F-4615D7BA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F73E-DB89-47CB-BA60-DFC927B8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EE86-259B-4028-8CC6-BC48D203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0E85-3CBD-4987-BCD7-3B593315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155A-140A-4462-9909-816B829F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74600" indent="-226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414440" indent="-226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591240"/>
            <a:ext cx="205740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ADD4-38B4-4521-B2E0-77C794ACF5FD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01920" y="6590880"/>
            <a:ext cx="289584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590880"/>
            <a:ext cx="190476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49C1-3D52-494B-BE06-358DF85DA5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70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812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.206J/16.77J/ESD.215J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54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ynthia Barnhar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pring 2003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09480" y="1066680"/>
            <a:ext cx="7925040" cy="510552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Constraint Matrix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066680"/>
            <a:ext cx="1938600" cy="1122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etwork flow problem, commodity k=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638680"/>
            <a:ext cx="7923240" cy="561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Bundle constraints limiting total flow of all commodities to arc capac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90920" y="2209680"/>
            <a:ext cx="1938240" cy="1122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etwork flow problem, commodity k=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3352680"/>
            <a:ext cx="1938240" cy="1122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etwork flow problem, commodity k=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53080" y="4495680"/>
            <a:ext cx="1981440" cy="1122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etwork flow problem, commodity k=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9A7E-0150-4248-B673-3933B5A42D5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030F77-F8C2-4B8D-9258-D6572370104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113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lternative Formulations for O-D Commodity Cas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26200" cy="44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de-Arc Formul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ision variables:  flow of commodit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 each arc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j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th Formul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ision variables:  flow of  commodit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 each path for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ee” or “Sub-network” Formul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fine:  super commodity:  set of all (O-D) commodities with the same origi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o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(or destinatio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ision variables: quantity of the super commodit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’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signed to each “tree” or “sub-network” for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k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mulations are equival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8EA2-E94C-4C08-99F2-AD7DF3BE1ED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22CFAA-BB4B-4780-B276-EC424341BBF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98520" y="571032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36800" y="571032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8520" y="571032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36800" y="571032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ample Network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6560" y="2971800"/>
            <a:ext cx="3809880" cy="33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mod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#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qu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3048120"/>
            <a:ext cx="4495680" cy="32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r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j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s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      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      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      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      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      5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1778040"/>
            <a:ext cx="801720" cy="326880"/>
          </a:xfrm>
          <a:prstGeom prst="rect">
            <a:avLst/>
          </a:prstGeom>
          <a:solidFill>
            <a:srgbClr val="b4001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52480" y="17524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1295280"/>
            <a:ext cx="803160" cy="327240"/>
          </a:xfrm>
          <a:prstGeom prst="rect">
            <a:avLst/>
          </a:prstGeom>
          <a:solidFill>
            <a:srgbClr val="b4001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38480" y="1219320"/>
            <a:ext cx="505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1520" y="2306520"/>
            <a:ext cx="803160" cy="328680"/>
          </a:xfrm>
          <a:prstGeom prst="rect">
            <a:avLst/>
          </a:prstGeom>
          <a:solidFill>
            <a:srgbClr val="b4001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22096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38800" y="1778040"/>
            <a:ext cx="803520" cy="326880"/>
          </a:xfrm>
          <a:prstGeom prst="rect">
            <a:avLst/>
          </a:prstGeom>
          <a:solidFill>
            <a:srgbClr val="b4001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77120" y="1752480"/>
            <a:ext cx="627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343240" y="1477800"/>
            <a:ext cx="1420560" cy="300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43240" y="2114640"/>
            <a:ext cx="1522440" cy="376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02320" y="1487520"/>
            <a:ext cx="1417320" cy="328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702320" y="2153880"/>
            <a:ext cx="1519200" cy="345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79960" y="1631880"/>
            <a:ext cx="1440" cy="66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520" y="129528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26480" y="219564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60160" y="176220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10080" y="1219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89120" y="2244600"/>
            <a:ext cx="31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95680" y="2895480"/>
            <a:ext cx="0" cy="35053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A198-1E03-436C-A699-EC34BA108378}" type="slidenum">
              <a:t>1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183EBA-AE8D-44C7-A8AA-83CB8723538D}" type="datetime1">
              <a:rPr lang="en-US"/>
              <a:t>07/28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arame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t of all network arc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t of all commod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:  set of all network nod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(k) [D(k)]:  origin [destination] node for commodity k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per unit cost of commodity k on arc ij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total capacity on arc ij (assume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is unlimited for each k and each ij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total quantity of commodity k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7656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number of units of commodity k assigned to arc i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0781-1693-4A10-B520-DC2EB2E027D0}" type="slidenum">
              <a:t>1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4C76E0-6D16-414C-AE2E-1A0FFF28A79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-305280"/>
            <a:ext cx="708660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ode-Arc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455760"/>
          <a:ext cx="11430000" cy="444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5760"/>
                    <a:ext cx="11430000" cy="44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712800" y="3429000"/>
          <a:ext cx="8431200" cy="3030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2800" y="3429000"/>
                    <a:ext cx="843120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C74A-39C4-498D-99C9-186CD80479D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C0FEE9-2ACF-4667-B481-8F4CD95CF1C1}" type="datetime1">
              <a:rPr lang="en-US"/>
              <a:t>07/28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dditional 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arame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 set of all paths for commodity k, for all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per unit cost of commodity k on path p 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= 1 if path p contains arc ij; and = 0 otherwi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796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fraction of total quantity of commodity k assigned to path 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BA4A-6D55-47D7-988F-53505ED2C9BB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AE84EA-B42D-42C8-97A7-DFEBF7284D7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1708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O/D Based Path Formulatio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511280" y="1066680"/>
            <a:ext cx="4050720" cy="495360"/>
            <a:chOff x="1511280" y="1066680"/>
            <a:chExt cx="4050720" cy="495360"/>
          </a:xfrm>
        </p:grpSpPr>
        <p:sp>
          <p:nvSpPr>
            <p:cNvPr id="141" name=""/>
            <p:cNvSpPr/>
            <p:nvPr/>
          </p:nvSpPr>
          <p:spPr>
            <a:xfrm>
              <a:off x="4057920" y="106668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89920" y="106668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09640" y="13712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14000" y="137304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09360" y="138240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95160" y="1382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09440" y="1245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12800" y="1245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72960" y="12459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05120" y="1363320"/>
              <a:ext cx="3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06120" y="1134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30640" y="11347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42640" y="11347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49480" y="113472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53000" y="1134720"/>
              <a:ext cx="36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608280" y="113472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47880" y="1134720"/>
              <a:ext cx="36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11280" y="1134720"/>
              <a:ext cx="3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228920" y="11336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120" y="11336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9200" y="1687680"/>
            <a:ext cx="588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ject 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84000" y="16876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9760" y="19303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686600" y="1827360"/>
            <a:ext cx="3900600" cy="441000"/>
            <a:chOff x="1686600" y="1827360"/>
            <a:chExt cx="3900600" cy="441000"/>
          </a:xfrm>
        </p:grpSpPr>
        <p:sp>
          <p:nvSpPr>
            <p:cNvPr id="165" name=""/>
            <p:cNvSpPr/>
            <p:nvPr/>
          </p:nvSpPr>
          <p:spPr>
            <a:xfrm>
              <a:off x="2421720" y="19080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64440" y="1908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20240" y="19080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23480" y="1908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88800" y="19080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78120" y="19080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59600" y="201780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83600" y="20178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39200" y="201780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17320" y="18939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67760" y="21463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91680" y="214632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32920" y="201780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86600" y="213660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87080" y="2127240"/>
              <a:ext cx="3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56760" y="1887480"/>
              <a:ext cx="8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95200" y="21351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70440" y="182736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32320" y="182736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82640" y="1887480"/>
              <a:ext cx="142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61760" y="1887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37280" y="1887480"/>
              <a:ext cx="12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27000" y="19080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22480" y="19080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95360" y="19080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6209640" y="1930320"/>
            <a:ext cx="152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Bundle constra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07000" y="19303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9760" y="23637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586160" y="2271600"/>
            <a:ext cx="2438640" cy="433440"/>
            <a:chOff x="1586160" y="2271600"/>
            <a:chExt cx="2438640" cy="433440"/>
          </a:xfrm>
        </p:grpSpPr>
        <p:sp>
          <p:nvSpPr>
            <p:cNvPr id="194" name=""/>
            <p:cNvSpPr/>
            <p:nvPr/>
          </p:nvSpPr>
          <p:spPr>
            <a:xfrm>
              <a:off x="2086920" y="2340000"/>
              <a:ext cx="57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78240" y="2340000"/>
              <a:ext cx="8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23640" y="234000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68640" y="245124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86160" y="258300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831680" y="258300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16640" y="2563920"/>
              <a:ext cx="3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28360" y="25718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92440" y="2271600"/>
              <a:ext cx="186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53760" y="2319480"/>
              <a:ext cx="142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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16960" y="2319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78120" y="2319480"/>
              <a:ext cx="12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77680" y="234000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G Time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5154120" y="2363760"/>
            <a:ext cx="273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Flow balance constra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913600" y="23637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9760" y="2797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634400" y="2751120"/>
            <a:ext cx="2910960" cy="253800"/>
            <a:chOff x="1634400" y="2751120"/>
            <a:chExt cx="2910960" cy="253800"/>
          </a:xfrm>
        </p:grpSpPr>
        <p:sp>
          <p:nvSpPr>
            <p:cNvPr id="211" name=""/>
            <p:cNvSpPr/>
            <p:nvPr/>
          </p:nvSpPr>
          <p:spPr>
            <a:xfrm>
              <a:off x="1634400" y="2771640"/>
              <a:ext cx="57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967480" y="277164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89480" y="277164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14640" y="2771640"/>
              <a:ext cx="8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444200" y="277164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24040" y="288288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p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51120" y="2757600"/>
              <a:ext cx="51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ffff"/>
                  </a:solidFill>
                  <a:latin typeface="CG Times"/>
                </a:rPr>
                <a:t>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83960" y="2751120"/>
              <a:ext cx="142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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97920" y="2751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54400" y="2751120"/>
              <a:ext cx="12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02280" y="2751120"/>
              <a:ext cx="12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228400" y="277164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G Times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86120" y="2771640"/>
              <a:ext cx="4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G Times"/>
                </a:rPr>
                <a:t>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4676400" y="2797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46280" y="2797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07080" y="2797200"/>
            <a:ext cx="134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Non-neg. constra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418240" y="2797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0" y="2976480"/>
          <a:ext cx="9083520" cy="388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976480"/>
                    <a:ext cx="9083520" cy="38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2057040" y="114300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inimiz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53EC-6605-4E52-9852-6AFD29E57A1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2E3C40-7B53-4A6B-B8AC-FC016726F392}" type="datetime1">
              <a:rPr lang="en-US"/>
              <a:t>07/28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dditional Not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arame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:  set of source nodes n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 for all commod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the set of all sub-networks originating at 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total cost of sub-network q originating at 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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= 1 if path p is contained in sub-network q; and = 0 otherwi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796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:  fraction of total quantity of the super commodity originating at s assigned to sub-network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9812-FC91-4D44-B7DD-7DB3271F0DCA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DA91A5-31A5-4AEE-A971-93CBFF71E16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57200" y="3200400"/>
          <a:ext cx="9753480" cy="48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200400"/>
                    <a:ext cx="97534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-360" y="799920"/>
            <a:ext cx="9448920" cy="60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ub-network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216080" y="990720"/>
            <a:ext cx="4967280" cy="520560"/>
            <a:chOff x="1216080" y="990720"/>
            <a:chExt cx="4967280" cy="520560"/>
          </a:xfrm>
        </p:grpSpPr>
        <p:sp>
          <p:nvSpPr>
            <p:cNvPr id="247" name=""/>
            <p:cNvSpPr/>
            <p:nvPr/>
          </p:nvSpPr>
          <p:spPr>
            <a:xfrm>
              <a:off x="6086520" y="1199880"/>
              <a:ext cx="96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41960" y="1346040"/>
              <a:ext cx="13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94480" y="13586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06920" y="1358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31200" y="119988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75080" y="13460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95080" y="134604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721760" y="135864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32400" y="1358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79200" y="10396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374440" y="1199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00840" y="11998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981760" y="107136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614560" y="10713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32360" y="10713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04640" y="1334880"/>
              <a:ext cx="3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818960" y="133488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490920" y="9907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69640" y="9907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97320" y="9907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85400" y="9907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07360" y="134460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295520" y="133164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31760" y="134460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876640" y="10713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02920" y="10713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358800" y="1071360"/>
              <a:ext cx="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50800" y="1071360"/>
              <a:ext cx="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114000" y="10713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06960" y="1071360"/>
              <a:ext cx="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94800" y="10713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16080" y="1071360"/>
              <a:ext cx="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242680" y="1047600"/>
              <a:ext cx="10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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5473440" y="10206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00840" y="1020600"/>
            <a:ext cx="183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1600" spc="-1" strike="noStrike" baseline="30000">
                <a:solidFill>
                  <a:srgbClr val="ffffff"/>
                </a:solidFill>
                <a:latin typeface="CG Times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20480" y="1574640"/>
            <a:ext cx="69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ject 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35440" y="1574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18399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240920" y="1733400"/>
            <a:ext cx="3960360" cy="522720"/>
            <a:chOff x="1240920" y="1733400"/>
            <a:chExt cx="3960360" cy="522720"/>
          </a:xfrm>
        </p:grpSpPr>
        <p:sp>
          <p:nvSpPr>
            <p:cNvPr id="286" name=""/>
            <p:cNvSpPr/>
            <p:nvPr/>
          </p:nvSpPr>
          <p:spPr>
            <a:xfrm>
              <a:off x="1240920" y="173340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586160" y="173340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76040" y="173340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329200" y="173340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869360" y="179064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194000" y="179064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739320" y="1790640"/>
              <a:ext cx="16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534320" y="208908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80360" y="207648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86000" y="208908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241640" y="2090880"/>
              <a:ext cx="4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026600" y="1943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11000" y="21034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446120" y="21034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47800" y="1798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39880" y="1943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86800" y="1943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62440" y="2090880"/>
              <a:ext cx="4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891800" y="209088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371680" y="210348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196000" y="21034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51280" y="17985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98720" y="1943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72640" y="1943280"/>
              <a:ext cx="5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077080" y="18144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632840" y="18144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415040" y="181440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929040" y="18144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167280" y="18144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562480" y="18144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715760" y="2077920"/>
              <a:ext cx="3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61680" y="207792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21040" y="18144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91720" y="1814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332960" y="18144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081240" y="18144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09720" y="18144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19480" y="1790640"/>
              <a:ext cx="488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 baseline="30000">
                  <a:solidFill>
                    <a:srgbClr val="ffffff"/>
                  </a:solidFill>
                  <a:latin typeface="CG Times"/>
                </a:rPr>
                <a:t> </a:t>
              </a:r>
              <a:r>
                <a:rPr b="0" i="1" lang="en-US" sz="1600" spc="-1" strike="noStrike" baseline="30000">
                  <a:solidFill>
                    <a:srgbClr val="ffffff"/>
                  </a:solidFill>
                  <a:latin typeface="CG Times"/>
                </a:rPr>
                <a:t>s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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04400" y="1790640"/>
              <a:ext cx="10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4943160" y="18399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196680" y="1839960"/>
            <a:ext cx="2180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Capacity Limits on Each Ar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507880" y="18399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33240" y="2362320"/>
            <a:ext cx="7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046880" y="2254320"/>
            <a:ext cx="2203200" cy="516240"/>
            <a:chOff x="1046880" y="2254320"/>
            <a:chExt cx="2203200" cy="516240"/>
          </a:xfrm>
        </p:grpSpPr>
        <p:sp>
          <p:nvSpPr>
            <p:cNvPr id="330" name=""/>
            <p:cNvSpPr/>
            <p:nvPr/>
          </p:nvSpPr>
          <p:spPr>
            <a:xfrm>
              <a:off x="1440000" y="2336760"/>
              <a:ext cx="22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R </a:t>
              </a:r>
              <a:r>
                <a:rPr b="0" i="1" lang="en-US" sz="1600" spc="-1" strike="noStrike" baseline="30000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705400" y="2336760"/>
              <a:ext cx="8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147120" y="23367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44040" y="2465280"/>
              <a:ext cx="20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   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046880" y="2617920"/>
              <a:ext cx="7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259640" y="26179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364760" y="2594160"/>
              <a:ext cx="38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73240" y="2603520"/>
              <a:ext cx="90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219320" y="2254320"/>
              <a:ext cx="221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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57880" y="2313000"/>
              <a:ext cx="36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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557440" y="231300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49480" y="231300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61360" y="233676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G Times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3276720" y="2362320"/>
            <a:ext cx="74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194880" y="2343240"/>
            <a:ext cx="213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Mass Balance Requirem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440560" y="23432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2846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1111680" y="2792520"/>
            <a:ext cx="2297880" cy="304920"/>
            <a:chOff x="1111680" y="2792520"/>
            <a:chExt cx="2297880" cy="304920"/>
          </a:xfrm>
        </p:grpSpPr>
        <p:sp>
          <p:nvSpPr>
            <p:cNvPr id="348" name=""/>
            <p:cNvSpPr/>
            <p:nvPr/>
          </p:nvSpPr>
          <p:spPr>
            <a:xfrm>
              <a:off x="1111680" y="2816280"/>
              <a:ext cx="22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R </a:t>
              </a:r>
              <a:r>
                <a:rPr b="0" i="1" lang="en-US" sz="1600" spc="-1" strike="noStrike" baseline="30000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215080" y="2816280"/>
              <a:ext cx="118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606760" y="28162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947680" y="2816280"/>
              <a:ext cx="8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306600" y="28162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259280" y="2944800"/>
              <a:ext cx="7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q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752200" y="2800440"/>
              <a:ext cx="55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CG Times"/>
                </a:rPr>
                <a:t>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55840" y="2792520"/>
              <a:ext cx="16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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083680" y="279252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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438280" y="279252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139560" y="2792520"/>
              <a:ext cx="1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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50240" y="281628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G Times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52640" y="2816280"/>
              <a:ext cx="5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G Times"/>
                </a:rPr>
                <a:t>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459600" y="2846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223320" y="2846520"/>
            <a:ext cx="2515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Nonnegative Path Flow Variab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867520" y="28465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0880" y="313380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42800" y="106668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inimiz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92360" y="1295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DDD5-7B93-4CB3-A8AB-EF8EC5D1094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FDE50B-64F6-47B4-943D-EC5F30AEDC70}" type="datetime1">
              <a:rPr lang="en-US"/>
              <a:t>07/28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113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inear MCF Problem Solu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480" y="1200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vious Sol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P Solv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fficul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blem Size:  (|N|=|Nodes|, |C|=|Commodities|, |A|=|Arcs|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ode-arc formulatio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nstraints:  |N|*|C| + |A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ariables:  |A|*|C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ath formulatio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nstraints:  |A| + |C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ariables:  |Paths for 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ALL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mmodities|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b-network formulatio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nstraints:  |A|+|Origins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328040" indent="-189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ariables:  |Combinations of Paths by Origin|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56F3-FA4B-4B55-BC57-D4906291A25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B55B9C-2240-4923-BE42-58BE789B984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.206J/16.77J/ESD.215J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irline Schedule Planning:  Multi-commodity Flow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Outl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blem defini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mul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olu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mputational resul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teger multi-commodity network flow probl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teger multi-commodity network flow solu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09440" indent="-212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ranch-and-price:  combination of branch-and-bound and column gener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sul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0D4D-1B54-46F1-B667-5220F2B5E6F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2F6E10-E917-4952-8DDE-64AF87DF933D}" type="datetime1">
              <a:rPr lang="en-US"/>
              <a:t>07/28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General MCF Solution Strategy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772400" cy="19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y to Decompose a Hard Problem Into a Set of Easy Proble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E0E3-FACA-405F-B2E8-551C786CBB5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0AB9B7-CBA5-4C65-A8B5-3D24FC1288F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Solution Procedures 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12880" y="2057400"/>
            <a:ext cx="77724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titioning Metho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loit Network Structure to  Speed Up Simplex Matrix Comput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ource-Directive Decompos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eat until Optima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locate Arc Capacity Among Commod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ind Optimal Flows Given Alloc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A2BA-020E-4609-8E06-F19F1476DFA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844100-5B77-404C-88BF-01D9B33D80A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Solution Procedures I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ce-Directive Decompos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eat until Optima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dify Flow Cost on Ar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gnore Bundle Constraints, Find Optimal Flow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38CA-AC60-43C5-8C87-FF6A1AA43C1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11A6D7-B6AF-4F64-8894-97A73DB4175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evisiting the Path Formulat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026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MINIMIZ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subject to: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u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ij  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= 1 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0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24J/ESD.204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F0F6-F37C-4D8C-B653-886A4DC06D7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46A990-8BC0-482C-A203-6600D4625C5C}" type="datetime5">
              <a:rPr lang="en-US"/>
              <a:t>Jul 28, 20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y-products of the Simplex Algorithm:  Dual Variable Valu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ual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: the dual variable associated with the bundle constraint for arc ij (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is non-negativ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:  the dual variable associated with the commodity constrai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conomic Interpret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: the value of an additional unit of capacity on arc i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: the minimal cost to send an additional unit of commodity k through the netw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"/>
          <p:cNvSpPr/>
          <p:nvPr/>
        </p:nvSpPr>
        <p:spPr>
          <a:xfrm>
            <a:off x="4932720" y="105393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668480" y="103950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3C2E-ED13-4209-8F97-BA49B5F7DB4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4E7529-96EA-42FF-9AF3-ECDA7C3F6BFA}" type="datetime1">
              <a:rPr lang="en-US"/>
              <a:t>07/28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odified Cos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finition: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Modified cost for arc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ij and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modity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k  =  c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1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finition: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Modified cost for path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p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d commodity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 k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=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1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"/>
          <p:cNvSpPr/>
          <p:nvPr/>
        </p:nvSpPr>
        <p:spPr>
          <a:xfrm>
            <a:off x="4932720" y="105393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668480" y="103950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8222-ABB8-4159-AA5C-D2FDD6209EC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7958E5-EA0E-47BF-882C-3AF980045A62}" type="datetime1">
              <a:rPr lang="en-US"/>
              <a:t>07/28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Optimality Conditions for the Path Formula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410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e optimal for all k and all ij iff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imal feasibility is satisfi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= 1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lementary slackness is satisfi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= 0,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– 1) = 0,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ual feasibility is satisfied (reduced cost is non-negative for a minimization problem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7200" indent="-293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.224J/ESD.204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B64A-2989-4074-9CD1-511585F7B22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13E68C-9A4E-491D-A391-B4268BA9B3F4}" type="datetime5">
              <a:rPr lang="en-US"/>
              <a:t>Jul 28, 20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ulti-commodity Flow Optimality Cond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8" name=""/>
          <p:cNvSpPr/>
          <p:nvPr/>
        </p:nvSpPr>
        <p:spPr>
          <a:xfrm>
            <a:off x="4365000" y="106236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3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30592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426600" indent="-426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price for an additional unit of capacity is 0 unless capacity is fully utiliz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36080" indent="-304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= 0,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 path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or commodity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s utilized only if its “modified cost” (that is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))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s minimal, for all paths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1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1520" indent="-365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Reduced Costs all non-negative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3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’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=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3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1520" indent="-365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(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) = 0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1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5D80-D518-448C-99B6-03957ADE582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46B7E7-1D80-42D0-BEAC-08D82441FC8A}" type="datetime1">
              <a:rPr lang="en-US"/>
              <a:t>07/28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lumn Generation- A Price Directive Decomposi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3" name=""/>
          <p:cNvSpPr/>
          <p:nvPr/>
        </p:nvSpPr>
        <p:spPr>
          <a:xfrm>
            <a:off x="1177920" y="2590920"/>
            <a:ext cx="1549440" cy="2842920"/>
          </a:xfrm>
          <a:prstGeom prst="rect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649600" y="2590920"/>
            <a:ext cx="2109600" cy="2842920"/>
          </a:xfrm>
          <a:prstGeom prst="rect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495680" y="2590920"/>
            <a:ext cx="4124520" cy="28429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6140000">
            <a:off x="-765360" y="3659400"/>
            <a:ext cx="2900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onstra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447920" y="1905120"/>
            <a:ext cx="4503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Millions/Billions of Vari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968360" y="4292640"/>
            <a:ext cx="2447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Book Antiqua"/>
              </a:rPr>
              <a:t>Never Consider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16080000">
            <a:off x="1551960" y="4603320"/>
            <a:ext cx="810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St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16140000">
            <a:off x="3225240" y="4622400"/>
            <a:ext cx="992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Add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676520" y="31240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tricted Master Problem (RM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6ADA-8FF0-4EA0-BE6A-7FF20C2303F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6E9107-1BBD-4203-A202-46551B8C091D}" type="datetime1">
              <a:rPr lang="en-US"/>
              <a:t>07/28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-2286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MP and Optimality Cond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"/>
          <p:cNvSpPr/>
          <p:nvPr/>
        </p:nvSpPr>
        <p:spPr>
          <a:xfrm>
            <a:off x="4365000" y="106236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dcr10"/>
              </a:rPr>
              <a:t>3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30592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378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ider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timal for RMP, th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imal feasibility is satisfi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= 1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lementary slackness is satisfi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u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= 0,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*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– 1) = 0,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ual feasibility is guaranteed (reduced cost is non-negative)  ONLY for a path p included in RM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-270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= 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)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E536-C8AA-46E6-A0E5-91F704C79DD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DDF72D-4DBF-4BFD-B956-D1014BD3556D}" type="datetime1">
              <a:rPr lang="en-US"/>
              <a:t>07/28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136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pplication 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1136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ckage flow problem (express package delivery operatio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ipments have specific origins and destinations and must be routed over a transportation netw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ach set of packages with a common origin-destination pair is called a commod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55440" indent="-20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ime windows (availability and delivery time) associated with packag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objective might be to minimize total costs, find a feasible flow, ..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13E9-FA1C-4825-A534-84D454BFE48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0BBD69-7524-47E8-B245-CF79E81CBDE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P Solution:  Column Gene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 1:  Solv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Restricted Master Problem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RMP) with subset of all variables (column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 2:  Solv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ricing Problem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determine if any variables when added to the RMP can improve the objective function value (that is, if any variables have negative reduced cos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 3:  If variables are identified in Step 2, add them to the RMP and return to Step 1; otherwise STO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DD2C-415A-41AA-874A-1F9E3F82C09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B48D5B-EEDD-42D1-93AA-58DE34F3540E}" type="datetime1">
              <a:rPr lang="en-US"/>
              <a:t>07/28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icing Problem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ven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non-negative) and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unrestricted), the optimal duals for the current restricted master problem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ricing problem, for eac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 k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d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)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Or, equivalently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in 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16000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 shortest path problem for commodity k (with modified arc cost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8C1E-A919-401E-A87D-7505A85EE19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E2C1F1-44A8-4A94-9A99-CCDA9EB562A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1708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xample- Iteration 1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0" y="1828800"/>
          <a:ext cx="13106520" cy="586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13106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A0BD-658A-4E7D-A4BE-9A3514A6E649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A268C5-58A6-44BD-BB07-E9F7E774B5AB}" type="datetime1">
              <a:rPr lang="en-US"/>
              <a:t>07/28/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1708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xample- Iteration 2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0" y="1828800"/>
          <a:ext cx="13106520" cy="586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13106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ABA4-FF51-49C8-B6F2-D7F7C2449F0E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D95573-9964-485E-9BE1-7A84A19F8DDC}" type="datetime1">
              <a:rPr lang="en-US"/>
              <a:t>07/28/26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Optimality Cond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200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94560" indent="-3945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eac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for eac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reduced cos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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(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+ 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(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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6200" indent="-281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her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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re the optimal duals for the current restricted master proble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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 each utilized path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mpl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6200" indent="-281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(d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+ d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r equivalently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6200" indent="-281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(c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o if,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in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(k)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(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*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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current solution to the restricted master problem is optimal for the original problem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440" indent="-338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in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(k)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=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(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p*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/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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dd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*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to restricted master proble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6EAF-2333-48CF-8C58-5FAD452601E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AC58F8-496D-43B5-91D5-6DC00C155B1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ata Se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ta S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traint Matrix Siz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1371600" y="1600200"/>
          <a:ext cx="6392880" cy="205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00200"/>
                    <a:ext cx="63928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685800" y="4419720"/>
          <a:ext cx="8102520" cy="1676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419720"/>
                    <a:ext cx="810252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8199-A260-4972-8840-E06659E335F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F6C9AF-FED8-423F-A138-7067B3C8BFA6}" type="datetime1">
              <a:rPr lang="en-US"/>
              <a:t>07/28/26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1136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mputational Result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11360" y="154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mber of Nodes: 8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mber of Links: 1,36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mber of Commodities: 17,53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utational Result (IBM RS6000, Model 370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th Model: 44 minu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b-network Model: &lt; 1 minu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DA0B-E71C-474B-A3B0-51804C43CBD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C40A57-8601-4413-B145-274036B50BD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P Computational Experimen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est effect of adding most negative reduced cost column for each commodity vs. adding several negative reduced cost columns for each commodi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B5E1-A80A-48A2-9D12-1D646AC5DAB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C3F02C-7027-4E09-9A0A-11B58A6D1A5A}" type="datetime1">
              <a:rPr lang="en-US"/>
              <a:t>07/28/26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Generating Several Columns Per Commodity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7772400" cy="412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any basic column (</a:t>
            </a:r>
            <a:r>
              <a:rPr b="0" i="1" lang="en-US" sz="40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40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has reduced cost = 0) for some pat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commodit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call it th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ey(k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simple paths representing symmetric difference between most negative reduced cost path 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ey(k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4A56-5832-4264-A0D7-37B71BF8D7C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3F2CB4-9FCE-4B89-BEC4-DD52CC82CDEA}" type="datetime1">
              <a:rPr lang="en-US"/>
              <a:t>07/28/26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95280" y="347400"/>
            <a:ext cx="777240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2" name=""/>
          <p:cNvSpPr/>
          <p:nvPr/>
        </p:nvSpPr>
        <p:spPr>
          <a:xfrm>
            <a:off x="996840" y="1911240"/>
            <a:ext cx="292320" cy="29232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597040" y="2063880"/>
            <a:ext cx="292320" cy="2919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807080" y="2139840"/>
            <a:ext cx="291960" cy="29232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711840" y="2139840"/>
            <a:ext cx="292320" cy="29232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295280" y="2057400"/>
            <a:ext cx="1295640" cy="152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895480" y="2209680"/>
            <a:ext cx="1905120" cy="763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105520" y="2286000"/>
            <a:ext cx="16002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295280" y="1486080"/>
            <a:ext cx="1347840" cy="572760"/>
          </a:xfrm>
          <a:custGeom>
            <a:avLst/>
            <a:gdLst/>
            <a:ahLst/>
            <a:rect l="l" t="t" r="r" b="b"/>
            <a:pathLst>
              <a:path w="849" h="361">
                <a:moveTo>
                  <a:pt x="0" y="360"/>
                </a:moveTo>
                <a:lnTo>
                  <a:pt x="8" y="296"/>
                </a:lnTo>
                <a:lnTo>
                  <a:pt x="24" y="232"/>
                </a:lnTo>
                <a:lnTo>
                  <a:pt x="32" y="200"/>
                </a:lnTo>
                <a:lnTo>
                  <a:pt x="40" y="176"/>
                </a:lnTo>
                <a:lnTo>
                  <a:pt x="40" y="152"/>
                </a:lnTo>
                <a:lnTo>
                  <a:pt x="56" y="128"/>
                </a:lnTo>
                <a:lnTo>
                  <a:pt x="64" y="104"/>
                </a:lnTo>
                <a:lnTo>
                  <a:pt x="80" y="80"/>
                </a:lnTo>
                <a:lnTo>
                  <a:pt x="128" y="72"/>
                </a:lnTo>
                <a:lnTo>
                  <a:pt x="152" y="64"/>
                </a:lnTo>
                <a:lnTo>
                  <a:pt x="184" y="56"/>
                </a:lnTo>
                <a:lnTo>
                  <a:pt x="208" y="48"/>
                </a:lnTo>
                <a:lnTo>
                  <a:pt x="240" y="48"/>
                </a:lnTo>
                <a:lnTo>
                  <a:pt x="304" y="40"/>
                </a:lnTo>
                <a:lnTo>
                  <a:pt x="368" y="32"/>
                </a:lnTo>
                <a:lnTo>
                  <a:pt x="392" y="16"/>
                </a:lnTo>
                <a:lnTo>
                  <a:pt x="440" y="16"/>
                </a:lnTo>
                <a:lnTo>
                  <a:pt x="472" y="8"/>
                </a:lnTo>
                <a:lnTo>
                  <a:pt x="552" y="0"/>
                </a:lnTo>
                <a:lnTo>
                  <a:pt x="600" y="0"/>
                </a:lnTo>
                <a:lnTo>
                  <a:pt x="712" y="0"/>
                </a:lnTo>
                <a:lnTo>
                  <a:pt x="736" y="0"/>
                </a:lnTo>
                <a:lnTo>
                  <a:pt x="752" y="24"/>
                </a:lnTo>
                <a:lnTo>
                  <a:pt x="776" y="48"/>
                </a:lnTo>
                <a:lnTo>
                  <a:pt x="784" y="72"/>
                </a:lnTo>
                <a:lnTo>
                  <a:pt x="792" y="96"/>
                </a:lnTo>
                <a:lnTo>
                  <a:pt x="800" y="144"/>
                </a:lnTo>
                <a:lnTo>
                  <a:pt x="808" y="192"/>
                </a:lnTo>
                <a:lnTo>
                  <a:pt x="816" y="224"/>
                </a:lnTo>
                <a:lnTo>
                  <a:pt x="824" y="248"/>
                </a:lnTo>
                <a:lnTo>
                  <a:pt x="832" y="272"/>
                </a:lnTo>
                <a:lnTo>
                  <a:pt x="840" y="296"/>
                </a:lnTo>
                <a:lnTo>
                  <a:pt x="840" y="320"/>
                </a:lnTo>
                <a:lnTo>
                  <a:pt x="848" y="352"/>
                </a:lnTo>
              </a:path>
            </a:pathLst>
          </a:custGeom>
          <a:noFill/>
          <a:ln cap="rnd" w="25560">
            <a:solidFill>
              <a:srgbClr val="ffffff"/>
            </a:solidFill>
            <a:custDash>
              <a:ds d="499000" sp="201000"/>
              <a:ds d="199000" sp="20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05520" y="1752480"/>
            <a:ext cx="1728720" cy="534960"/>
          </a:xfrm>
          <a:custGeom>
            <a:avLst/>
            <a:gdLst/>
            <a:ahLst/>
            <a:rect l="l" t="t" r="r" b="b"/>
            <a:pathLst>
              <a:path w="1089" h="337">
                <a:moveTo>
                  <a:pt x="0" y="336"/>
                </a:moveTo>
                <a:lnTo>
                  <a:pt x="16" y="264"/>
                </a:lnTo>
                <a:lnTo>
                  <a:pt x="32" y="216"/>
                </a:lnTo>
                <a:lnTo>
                  <a:pt x="48" y="168"/>
                </a:lnTo>
                <a:lnTo>
                  <a:pt x="80" y="136"/>
                </a:lnTo>
                <a:lnTo>
                  <a:pt x="104" y="104"/>
                </a:lnTo>
                <a:lnTo>
                  <a:pt x="136" y="72"/>
                </a:lnTo>
                <a:lnTo>
                  <a:pt x="200" y="56"/>
                </a:lnTo>
                <a:lnTo>
                  <a:pt x="264" y="40"/>
                </a:lnTo>
                <a:lnTo>
                  <a:pt x="312" y="24"/>
                </a:lnTo>
                <a:lnTo>
                  <a:pt x="392" y="16"/>
                </a:lnTo>
                <a:lnTo>
                  <a:pt x="456" y="8"/>
                </a:lnTo>
                <a:lnTo>
                  <a:pt x="520" y="8"/>
                </a:lnTo>
                <a:lnTo>
                  <a:pt x="584" y="0"/>
                </a:lnTo>
                <a:lnTo>
                  <a:pt x="648" y="0"/>
                </a:lnTo>
                <a:lnTo>
                  <a:pt x="696" y="0"/>
                </a:lnTo>
                <a:lnTo>
                  <a:pt x="752" y="0"/>
                </a:lnTo>
                <a:lnTo>
                  <a:pt x="784" y="0"/>
                </a:lnTo>
                <a:lnTo>
                  <a:pt x="864" y="24"/>
                </a:lnTo>
                <a:lnTo>
                  <a:pt x="928" y="40"/>
                </a:lnTo>
                <a:lnTo>
                  <a:pt x="952" y="56"/>
                </a:lnTo>
                <a:lnTo>
                  <a:pt x="976" y="80"/>
                </a:lnTo>
                <a:lnTo>
                  <a:pt x="1000" y="104"/>
                </a:lnTo>
                <a:lnTo>
                  <a:pt x="1016" y="128"/>
                </a:lnTo>
                <a:lnTo>
                  <a:pt x="1032" y="152"/>
                </a:lnTo>
                <a:lnTo>
                  <a:pt x="1048" y="176"/>
                </a:lnTo>
                <a:lnTo>
                  <a:pt x="1064" y="200"/>
                </a:lnTo>
                <a:lnTo>
                  <a:pt x="1080" y="224"/>
                </a:lnTo>
                <a:lnTo>
                  <a:pt x="1088" y="248"/>
                </a:lnTo>
              </a:path>
            </a:pathLst>
          </a:custGeom>
          <a:noFill/>
          <a:ln cap="rnd" w="25560">
            <a:solidFill>
              <a:srgbClr val="ffffff"/>
            </a:solidFill>
            <a:custDash>
              <a:ds d="499000" sp="201000"/>
              <a:ds d="199000" sp="20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196800" y="2424240"/>
            <a:ext cx="1018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key(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686680" y="1357200"/>
            <a:ext cx="623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1-  most negative reduced cost path for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96840" y="4044960"/>
            <a:ext cx="292320" cy="2919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597040" y="4197240"/>
            <a:ext cx="292320" cy="29232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807080" y="4273560"/>
            <a:ext cx="291960" cy="2919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711840" y="4273560"/>
            <a:ext cx="292320" cy="2919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95480" y="4343400"/>
            <a:ext cx="1905120" cy="763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19720"/>
            <a:ext cx="16002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95280" y="3619440"/>
            <a:ext cx="1347840" cy="573120"/>
          </a:xfrm>
          <a:custGeom>
            <a:avLst/>
            <a:gdLst/>
            <a:ahLst/>
            <a:rect l="l" t="t" r="r" b="b"/>
            <a:pathLst>
              <a:path w="849" h="361">
                <a:moveTo>
                  <a:pt x="0" y="360"/>
                </a:moveTo>
                <a:lnTo>
                  <a:pt x="8" y="296"/>
                </a:lnTo>
                <a:lnTo>
                  <a:pt x="24" y="232"/>
                </a:lnTo>
                <a:lnTo>
                  <a:pt x="32" y="200"/>
                </a:lnTo>
                <a:lnTo>
                  <a:pt x="40" y="176"/>
                </a:lnTo>
                <a:lnTo>
                  <a:pt x="40" y="152"/>
                </a:lnTo>
                <a:lnTo>
                  <a:pt x="56" y="128"/>
                </a:lnTo>
                <a:lnTo>
                  <a:pt x="64" y="104"/>
                </a:lnTo>
                <a:lnTo>
                  <a:pt x="80" y="80"/>
                </a:lnTo>
                <a:lnTo>
                  <a:pt x="128" y="72"/>
                </a:lnTo>
                <a:lnTo>
                  <a:pt x="152" y="64"/>
                </a:lnTo>
                <a:lnTo>
                  <a:pt x="184" y="56"/>
                </a:lnTo>
                <a:lnTo>
                  <a:pt x="208" y="48"/>
                </a:lnTo>
                <a:lnTo>
                  <a:pt x="240" y="48"/>
                </a:lnTo>
                <a:lnTo>
                  <a:pt x="304" y="40"/>
                </a:lnTo>
                <a:lnTo>
                  <a:pt x="368" y="32"/>
                </a:lnTo>
                <a:lnTo>
                  <a:pt x="392" y="16"/>
                </a:lnTo>
                <a:lnTo>
                  <a:pt x="440" y="16"/>
                </a:lnTo>
                <a:lnTo>
                  <a:pt x="472" y="8"/>
                </a:lnTo>
                <a:lnTo>
                  <a:pt x="552" y="0"/>
                </a:lnTo>
                <a:lnTo>
                  <a:pt x="600" y="0"/>
                </a:lnTo>
                <a:lnTo>
                  <a:pt x="712" y="0"/>
                </a:lnTo>
                <a:lnTo>
                  <a:pt x="736" y="0"/>
                </a:lnTo>
                <a:lnTo>
                  <a:pt x="752" y="24"/>
                </a:lnTo>
                <a:lnTo>
                  <a:pt x="776" y="48"/>
                </a:lnTo>
                <a:lnTo>
                  <a:pt x="784" y="72"/>
                </a:lnTo>
                <a:lnTo>
                  <a:pt x="792" y="96"/>
                </a:lnTo>
                <a:lnTo>
                  <a:pt x="800" y="144"/>
                </a:lnTo>
                <a:lnTo>
                  <a:pt x="808" y="192"/>
                </a:lnTo>
                <a:lnTo>
                  <a:pt x="816" y="224"/>
                </a:lnTo>
                <a:lnTo>
                  <a:pt x="824" y="248"/>
                </a:lnTo>
                <a:lnTo>
                  <a:pt x="832" y="272"/>
                </a:lnTo>
                <a:lnTo>
                  <a:pt x="840" y="296"/>
                </a:lnTo>
                <a:lnTo>
                  <a:pt x="840" y="320"/>
                </a:lnTo>
                <a:lnTo>
                  <a:pt x="848" y="352"/>
                </a:lnTo>
              </a:path>
            </a:pathLst>
          </a:custGeom>
          <a:noFill/>
          <a:ln cap="rnd" w="25560">
            <a:solidFill>
              <a:srgbClr val="ffffff"/>
            </a:solidFill>
            <a:custDash>
              <a:ds d="499000" sp="201000"/>
              <a:ds d="199000" sp="20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073160" y="5492880"/>
            <a:ext cx="291960" cy="2919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673360" y="5645160"/>
            <a:ext cx="291960" cy="2919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883040" y="5721480"/>
            <a:ext cx="292320" cy="2919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788160" y="5721480"/>
            <a:ext cx="291960" cy="2919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371600" y="5638680"/>
            <a:ext cx="1295280" cy="152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971800" y="5791320"/>
            <a:ext cx="1905120" cy="759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181480" y="5334120"/>
            <a:ext cx="1729080" cy="534960"/>
          </a:xfrm>
          <a:custGeom>
            <a:avLst/>
            <a:gdLst/>
            <a:ahLst/>
            <a:rect l="l" t="t" r="r" b="b"/>
            <a:pathLst>
              <a:path w="1089" h="337">
                <a:moveTo>
                  <a:pt x="0" y="336"/>
                </a:moveTo>
                <a:lnTo>
                  <a:pt x="16" y="264"/>
                </a:lnTo>
                <a:lnTo>
                  <a:pt x="32" y="216"/>
                </a:lnTo>
                <a:lnTo>
                  <a:pt x="48" y="168"/>
                </a:lnTo>
                <a:lnTo>
                  <a:pt x="80" y="136"/>
                </a:lnTo>
                <a:lnTo>
                  <a:pt x="104" y="104"/>
                </a:lnTo>
                <a:lnTo>
                  <a:pt x="136" y="72"/>
                </a:lnTo>
                <a:lnTo>
                  <a:pt x="200" y="56"/>
                </a:lnTo>
                <a:lnTo>
                  <a:pt x="264" y="40"/>
                </a:lnTo>
                <a:lnTo>
                  <a:pt x="312" y="24"/>
                </a:lnTo>
                <a:lnTo>
                  <a:pt x="392" y="16"/>
                </a:lnTo>
                <a:lnTo>
                  <a:pt x="456" y="8"/>
                </a:lnTo>
                <a:lnTo>
                  <a:pt x="520" y="8"/>
                </a:lnTo>
                <a:lnTo>
                  <a:pt x="584" y="0"/>
                </a:lnTo>
                <a:lnTo>
                  <a:pt x="648" y="0"/>
                </a:lnTo>
                <a:lnTo>
                  <a:pt x="696" y="0"/>
                </a:lnTo>
                <a:lnTo>
                  <a:pt x="752" y="0"/>
                </a:lnTo>
                <a:lnTo>
                  <a:pt x="784" y="0"/>
                </a:lnTo>
                <a:lnTo>
                  <a:pt x="864" y="24"/>
                </a:lnTo>
                <a:lnTo>
                  <a:pt x="928" y="40"/>
                </a:lnTo>
                <a:lnTo>
                  <a:pt x="952" y="56"/>
                </a:lnTo>
                <a:lnTo>
                  <a:pt x="976" y="80"/>
                </a:lnTo>
                <a:lnTo>
                  <a:pt x="1000" y="104"/>
                </a:lnTo>
                <a:lnTo>
                  <a:pt x="1016" y="128"/>
                </a:lnTo>
                <a:lnTo>
                  <a:pt x="1032" y="152"/>
                </a:lnTo>
                <a:lnTo>
                  <a:pt x="1048" y="176"/>
                </a:lnTo>
                <a:lnTo>
                  <a:pt x="1064" y="200"/>
                </a:lnTo>
                <a:lnTo>
                  <a:pt x="1080" y="224"/>
                </a:lnTo>
                <a:lnTo>
                  <a:pt x="1088" y="248"/>
                </a:lnTo>
              </a:path>
            </a:pathLst>
          </a:custGeom>
          <a:noFill/>
          <a:ln cap="rnd" w="25560">
            <a:solidFill>
              <a:srgbClr val="ffffff"/>
            </a:solidFill>
            <a:custDash>
              <a:ds d="499000" sp="201000"/>
              <a:ds d="199000" sp="20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42800" y="2881440"/>
            <a:ext cx="207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dd to LP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2803-7945-4326-9263-C41660BB1A0E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76009E-729D-4FFF-8F44-A868AB333C79}" type="datetime1">
              <a:rPr lang="en-US"/>
              <a:t>07/28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pplication I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971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Passenger mix proble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ven a fixed schedule of flights, a fixed fleet assignment and a set of customer demands for air travel service on this fleeted schedule, the airline's objective is to maximize revenues by accommodating as many high fare passengers as possi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some flights, demand exceeds seat supply and passengers must b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pilled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other itineraries of either the same or another airl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A6F4-4001-40E1-95DE-6692AAB20E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D39070-9CAB-424A-84F7-A3A068AF3EB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720" y="42840"/>
            <a:ext cx="7772400" cy="117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P Solution: 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One Path per Commodi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1865160" y="1371600"/>
          <a:ext cx="5416560" cy="41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5160" y="1371600"/>
                    <a:ext cx="5416560" cy="41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"/>
          <p:cNvSpPr/>
          <p:nvPr/>
        </p:nvSpPr>
        <p:spPr>
          <a:xfrm>
            <a:off x="1809360" y="5548320"/>
            <a:ext cx="5097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1 nodes, 497 arcs, 1320 commodi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s are on an IBM RS6000/59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ECCE-E0AC-4A43-9FBE-02760DD93EC9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D7CE19-0698-4754-A5C2-DE96C86DE8B0}" type="datetime1">
              <a:rPr lang="en-US"/>
              <a:t>07/28/26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90720" y="118800"/>
            <a:ext cx="777240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P Solution: 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ll Simple Paths for Each Commodi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1944720" y="1374840"/>
          <a:ext cx="5856120" cy="409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4720" y="1374840"/>
                    <a:ext cx="5856120" cy="40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"/>
          <p:cNvSpPr/>
          <p:nvPr/>
        </p:nvSpPr>
        <p:spPr>
          <a:xfrm>
            <a:off x="1733400" y="5548320"/>
            <a:ext cx="5097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1 nodes, 497 arcs, 1320 commodi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s are on an IBM RS6000/59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6345-03EE-46A1-96D2-017D2BC2BC45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256002-B969-4DC9-9FD8-29783BAA4708}" type="datetime1">
              <a:rPr lang="en-US"/>
              <a:t>07/28/26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Integer Multi-Commodity Network Flow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onsider the modified multi-commodity network flow problem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de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ntegrality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triction that each commodity must be assigned to exactly one pa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44280" indent="-198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(0.1),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olution procedure:   branch-and-bound, specialized to handle large-scale problem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BB9F-954B-4261-AF42-CBF6786440B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499E2C-DED3-4107-95F9-2EC3C0B2A2D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Integer Multicommodity Flows:  Problem Formul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9" name=""/>
          <p:cNvSpPr/>
          <p:nvPr/>
        </p:nvSpPr>
        <p:spPr>
          <a:xfrm>
            <a:off x="609480" y="1600200"/>
            <a:ext cx="8026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MINIMIZE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subject to: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4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 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p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u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ij  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ij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(k)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= 1 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(0,1)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k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EC47-90E4-440C-AF0C-842915606D06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1EEB61-96B1-484E-981B-9AF2FF85DAE2}" type="datetime1">
              <a:rPr lang="en-US"/>
              <a:t>07/28/26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-and-Bound:  A Solution Approach for Binary Integer Program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685800" y="4419720"/>
          <a:ext cx="7772400" cy="8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419720"/>
                    <a:ext cx="7772400" cy="8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"/>
          <p:cNvSpPr/>
          <p:nvPr/>
        </p:nvSpPr>
        <p:spPr>
          <a:xfrm flipH="1">
            <a:off x="3960360" y="2597040"/>
            <a:ext cx="870120" cy="400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811760" y="2597040"/>
            <a:ext cx="958680" cy="412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3249360" y="3006720"/>
            <a:ext cx="726840" cy="517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936960" y="3030480"/>
            <a:ext cx="450720" cy="528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5423040" y="3054240"/>
            <a:ext cx="404640" cy="49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808600" y="3043080"/>
            <a:ext cx="793800" cy="538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762280" y="3511440"/>
            <a:ext cx="503280" cy="549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225960" y="3533760"/>
            <a:ext cx="490320" cy="515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3919680" y="3544920"/>
            <a:ext cx="504720" cy="550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383000" y="3568680"/>
            <a:ext cx="492120" cy="51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6132600" y="3568680"/>
            <a:ext cx="503280" cy="549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595920" y="3591000"/>
            <a:ext cx="552600" cy="49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4976640" y="3556080"/>
            <a:ext cx="503280" cy="550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440320" y="3578400"/>
            <a:ext cx="490680" cy="515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44960" y="3498840"/>
            <a:ext cx="16488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324320" y="3522600"/>
            <a:ext cx="16524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340240" y="3522600"/>
            <a:ext cx="16524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497640" y="3522600"/>
            <a:ext cx="16524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878280" y="3019320"/>
            <a:ext cx="16524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27600" y="3008160"/>
            <a:ext cx="16524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710240" y="2540160"/>
            <a:ext cx="164880" cy="80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423600" y="2563920"/>
            <a:ext cx="704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=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711000" y="2232000"/>
            <a:ext cx="80262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6" name=""/>
          <p:cNvSpPr/>
          <p:nvPr/>
        </p:nvSpPr>
        <p:spPr>
          <a:xfrm>
            <a:off x="2140560" y="5051520"/>
            <a:ext cx="47883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ll possible solutions at lea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odes of tree (2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solutions, whe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 is the number of variabl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072320" y="3089160"/>
            <a:ext cx="81684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= 0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344320" y="3089160"/>
            <a:ext cx="704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=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93960" y="2517840"/>
            <a:ext cx="704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= 0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960440" y="3124080"/>
            <a:ext cx="704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=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306480" y="3146400"/>
            <a:ext cx="704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= 0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39400" y="3660840"/>
            <a:ext cx="704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=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941520" y="3581280"/>
            <a:ext cx="704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en-US" sz="1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= 0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DFF4-F586-4CAB-8176-8E8BEAC50CD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933753-0645-4287-AB5B-C655D817239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-and-Bound:  A Solution Approach for Binary Integer Program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09480" y="2114280"/>
            <a:ext cx="802656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anch-and-Bound is 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mar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enumeration strateg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 branching, all possible solutions (e.g.,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number of path for all commoditi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are enumera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 bounding, only a (usually) small subset of possible solutions are evaluated before a provably optimal solution is fou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E8F6-5707-4CBB-AC11-FB3B5607904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78C1AA-116D-49C8-AE2D-EBAE0635873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ounding: The Linear Programming (LP) Relax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262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ider the linear path-based MCF problem formu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bjective is to minimiz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LP relaxation replac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 0,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1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  f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z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L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*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resent the optimal LP solution and 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z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IP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*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resent the optimal IP sol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4" marL="1604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z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LP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*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 z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IP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P’s provide a bound on the lowest possible value of the optimal integer solu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9B98-2DD8-4CD2-B5A2-B2D12F3FDC9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BE3DD2-C34F-4BDF-BF24-CC19763B266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11000" y="1657080"/>
            <a:ext cx="802620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ider an IP with binary restrictions on all variables, denote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P(1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denote the linear programming relaxation of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1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d 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*(1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ote the optimal solution to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P(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f there is no variable with fractional value in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*(1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*(1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solves (is optimal for)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f there is at least one variable with fractional value in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*(1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call i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(1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then any optimal solution for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(1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has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(1)=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(1)=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ft branch: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*(1)=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ight branch: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*(1)=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C46E-F26F-44BB-B033-8A47F69656A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C9BDFC-5C9A-47BE-9EDC-5CE8B911591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 Pictorial View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"/>
          <p:cNvSpPr/>
          <p:nvPr/>
        </p:nvSpPr>
        <p:spPr>
          <a:xfrm>
            <a:off x="1828800" y="2514600"/>
            <a:ext cx="0" cy="33526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844640" y="5867280"/>
            <a:ext cx="5546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2422440" y="2955960"/>
            <a:ext cx="1128960" cy="128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422440" y="4206960"/>
            <a:ext cx="701640" cy="1035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3122640" y="4876920"/>
            <a:ext cx="2865240" cy="365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5987880" y="3565080"/>
            <a:ext cx="166680" cy="1295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 flipV="1">
            <a:off x="3534840" y="2987280"/>
            <a:ext cx="2606760" cy="593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2331720" y="2955960"/>
            <a:ext cx="152280" cy="23940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149560" y="4968720"/>
            <a:ext cx="2239920" cy="7765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3978360" y="4435560"/>
            <a:ext cx="3200400" cy="12952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18280" y="2179800"/>
            <a:ext cx="1707840" cy="271296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2209680" y="2482920"/>
            <a:ext cx="3581640" cy="7920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580560" y="3949560"/>
            <a:ext cx="1368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easible 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463440" y="4816440"/>
            <a:ext cx="1440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easible L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62520" y="2057400"/>
            <a:ext cx="3139920" cy="20732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401C-DC01-4DD0-AE0D-FC3AF3607111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774CCF-7681-4033-8A2A-6F9D260E7860}" type="datetime1">
              <a:rPr lang="en-US"/>
              <a:t>07/28/26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elationship between Bound and Tree Depth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*(1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be the optimal solution to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P(1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 at least one fractional variabl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(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the optimal solution value for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P(1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 denote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z*(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P(2) = LP(1) + [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(1) = 0 or 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*(1) = 1]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the optimal solution value for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P(2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 denote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z*(2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42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z*(1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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z*(2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B216-1A70-4608-BFBE-89466CA2736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A1AEC7-A946-4B95-9794-93CFF44B3DE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pplication II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essage routing proble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a telecommunications or computer network, requirements exist for transmission lines and message requests, or commoditi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roblem is to route the messages from their origins to their respective destinations at minimum c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6682-E52F-42B4-AA08-5374AB3632E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3D4A30-7171-4C97-804F-06B841C48E5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ree Prun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4737240" y="1371600"/>
            <a:ext cx="869760" cy="40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587920" y="1371600"/>
            <a:ext cx="959040" cy="412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4025880" y="1782720"/>
            <a:ext cx="728640" cy="515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713120" y="1805040"/>
            <a:ext cx="451080" cy="528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6199200" y="1828800"/>
            <a:ext cx="404640" cy="493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585120" y="1817640"/>
            <a:ext cx="793440" cy="538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3538080" y="2286000"/>
            <a:ext cx="505080" cy="550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002120" y="2308320"/>
            <a:ext cx="492120" cy="515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4697280" y="2320920"/>
            <a:ext cx="503280" cy="549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160960" y="2343240"/>
            <a:ext cx="490680" cy="515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6908760" y="2343240"/>
            <a:ext cx="503280" cy="550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372440" y="2365200"/>
            <a:ext cx="552240" cy="492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753160" y="2332080"/>
            <a:ext cx="503280" cy="549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16480" y="2354400"/>
            <a:ext cx="490680" cy="515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922560" y="2274840"/>
            <a:ext cx="16524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100480" y="2298600"/>
            <a:ext cx="16524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116760" y="2298600"/>
            <a:ext cx="16488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275600" y="2298600"/>
            <a:ext cx="16488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654440" y="1793880"/>
            <a:ext cx="16524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504120" y="1784520"/>
            <a:ext cx="164880" cy="80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486400" y="1314360"/>
            <a:ext cx="16524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326480" y="1339920"/>
            <a:ext cx="797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1 =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225840" y="1360440"/>
            <a:ext cx="627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1=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647520" y="1863720"/>
            <a:ext cx="627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2=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15360" y="1933560"/>
            <a:ext cx="627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2=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078320" y="1922400"/>
            <a:ext cx="627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2=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118320" y="2413080"/>
            <a:ext cx="627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3=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789320" y="2379600"/>
            <a:ext cx="627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3=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11000" y="1600200"/>
            <a:ext cx="802620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8" name=""/>
          <p:cNvSpPr/>
          <p:nvPr/>
        </p:nvSpPr>
        <p:spPr>
          <a:xfrm>
            <a:off x="228600" y="762120"/>
            <a:ext cx="284472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cumbent:  Current bes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easible (IP) solution value = z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133720" y="3714840"/>
            <a:ext cx="2412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914400" y="3029040"/>
            <a:ext cx="721368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f z*(LP(2))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IP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RUNE (FATHOM) tree at node 2 (solutions on the LHS of tree cannot be optimal.  1/2 of the solutions (nodes) do not need to be evaluated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702040" y="11224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4001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397120" y="22082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4001f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889160" y="1693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4001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717960" y="1693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4001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30840" y="22082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4001f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214520" y="21718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4001f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413400" y="22082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4001f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046120" y="1865160"/>
            <a:ext cx="627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2=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273920" y="2390760"/>
            <a:ext cx="627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3=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570360" y="2379600"/>
            <a:ext cx="627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x3=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015920" y="4514760"/>
            <a:ext cx="72136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f z*(LP(2)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integral, PRUNE tree at node 2 (solutions in sub-tree at node 2 cannot be better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015920" y="5429160"/>
            <a:ext cx="72136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f LP(2)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infeasible, PRUNE tree at node 2 (solutions in sub-tree at node 2 cannot be feasible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914400" y="4514760"/>
            <a:ext cx="7213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015920" y="5429160"/>
            <a:ext cx="7213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D35B-67A1-4BE4-88DA-CCD377680C3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AA3B21-5FD8-4BE4-B952-8A07F6B9810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-and-Bound Algorith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ginning with rootnode (minimization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und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olve the current LP with this and all restrictions along the (back) path to the rootnode enforc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un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optimal LP value is greater than or equal to the incumbent solution:  Pru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LP is infeasible: Pru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LP is integral: Prune and update incumbent solu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ranch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t some variable to an integer valu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eat until all nodes prun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AEF1-1772-45E3-B618-2297839AE46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D88033-6A3A-4F6E-9424-5AE38E06C26F}" type="datetime1">
              <a:rPr lang="en-US"/>
              <a:t>07/28/26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-and-Price Solution Approach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anch-and-bound tailored to solve large-scale integer progra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ound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lve LP using column generation at each node of the branch-and-bound tre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anch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w columns might have to be generated to find an optimal solution to the constrained probl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ant to design the branching decision so that the algorithm for the pricing is unchanged as the branch-and-bound tree is process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6962-7949-4AFE-BE46-A1FFDA2ABE7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B9EB89-C53E-4084-8E87-DEC2A3DAA54A}" type="datetime1">
              <a:rPr lang="en-US"/>
              <a:t>07/28/26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1136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117080" y="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Example Revisited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0" y="1828800"/>
          <a:ext cx="13106520" cy="586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131065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5079-9724-42D6-BE14-7258D75B3DAB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581432-4FF4-4F5A-86A0-4582C8020974}" type="datetime1">
              <a:rPr lang="en-US"/>
              <a:t>07/28/26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-22860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-and-Price:  Branching and Compatibility with the Pricing Proble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anching decision for commodit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= 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 pricing problem solution is necessa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 other variables for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removed from the mod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anching decision for commodit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= 0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solution to the pricing problem (a shortest path problem) CANNOT generate pa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 the shortest path, must instead find th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ext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ortest pa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general, at nodes of dep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 the branch-and-bound tree, the pricing problem must potentially generate th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ortest pa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94B8-3B1C-41A4-9F9A-28D00A8DDB9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89B3DD-EC0F-4765-8092-E8E56D31B22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n Alternative Branching Idea:  Branch on </a:t>
            </a:r>
            <a:r>
              <a:rPr b="0" i="1" lang="en-US" sz="4400" spc="-1" strike="noStrike">
                <a:solidFill>
                  <a:srgbClr val="ffffff"/>
                </a:solidFill>
                <a:latin typeface="Garamond"/>
              </a:rPr>
              <a:t>Small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cis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ider commodit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whose flow is spl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sum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akes 2 paths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be the divergence nod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1749600" y="3909960"/>
            <a:ext cx="6237000" cy="2023200"/>
            <a:chOff x="1749600" y="3909960"/>
            <a:chExt cx="6237000" cy="2023200"/>
          </a:xfrm>
        </p:grpSpPr>
        <p:sp>
          <p:nvSpPr>
            <p:cNvPr id="625" name=""/>
            <p:cNvSpPr/>
            <p:nvPr/>
          </p:nvSpPr>
          <p:spPr>
            <a:xfrm>
              <a:off x="3213000" y="3909960"/>
              <a:ext cx="2129040" cy="1436760"/>
            </a:xfrm>
            <a:custGeom>
              <a:avLst/>
              <a:gdLst/>
              <a:ahLst/>
              <a:rect l="l" t="t" r="r" b="b"/>
              <a:pathLst>
                <a:path w="1341" h="905">
                  <a:moveTo>
                    <a:pt x="7" y="904"/>
                  </a:moveTo>
                  <a:lnTo>
                    <a:pt x="13" y="862"/>
                  </a:lnTo>
                  <a:lnTo>
                    <a:pt x="13" y="826"/>
                  </a:lnTo>
                  <a:lnTo>
                    <a:pt x="0" y="789"/>
                  </a:lnTo>
                  <a:lnTo>
                    <a:pt x="0" y="753"/>
                  </a:lnTo>
                  <a:lnTo>
                    <a:pt x="0" y="716"/>
                  </a:lnTo>
                  <a:lnTo>
                    <a:pt x="13" y="680"/>
                  </a:lnTo>
                  <a:lnTo>
                    <a:pt x="53" y="643"/>
                  </a:lnTo>
                  <a:lnTo>
                    <a:pt x="80" y="607"/>
                  </a:lnTo>
                  <a:lnTo>
                    <a:pt x="120" y="583"/>
                  </a:lnTo>
                  <a:lnTo>
                    <a:pt x="172" y="559"/>
                  </a:lnTo>
                  <a:lnTo>
                    <a:pt x="212" y="559"/>
                  </a:lnTo>
                  <a:lnTo>
                    <a:pt x="265" y="546"/>
                  </a:lnTo>
                  <a:lnTo>
                    <a:pt x="318" y="535"/>
                  </a:lnTo>
                  <a:lnTo>
                    <a:pt x="358" y="535"/>
                  </a:lnTo>
                  <a:lnTo>
                    <a:pt x="398" y="522"/>
                  </a:lnTo>
                  <a:lnTo>
                    <a:pt x="438" y="510"/>
                  </a:lnTo>
                  <a:lnTo>
                    <a:pt x="478" y="473"/>
                  </a:lnTo>
                  <a:lnTo>
                    <a:pt x="504" y="437"/>
                  </a:lnTo>
                  <a:lnTo>
                    <a:pt x="544" y="401"/>
                  </a:lnTo>
                  <a:lnTo>
                    <a:pt x="544" y="364"/>
                  </a:lnTo>
                  <a:lnTo>
                    <a:pt x="557" y="328"/>
                  </a:lnTo>
                  <a:lnTo>
                    <a:pt x="570" y="291"/>
                  </a:lnTo>
                  <a:lnTo>
                    <a:pt x="597" y="255"/>
                  </a:lnTo>
                  <a:lnTo>
                    <a:pt x="610" y="218"/>
                  </a:lnTo>
                  <a:lnTo>
                    <a:pt x="624" y="182"/>
                  </a:lnTo>
                  <a:lnTo>
                    <a:pt x="636" y="145"/>
                  </a:lnTo>
                  <a:lnTo>
                    <a:pt x="664" y="109"/>
                  </a:lnTo>
                  <a:lnTo>
                    <a:pt x="690" y="48"/>
                  </a:lnTo>
                  <a:lnTo>
                    <a:pt x="716" y="12"/>
                  </a:lnTo>
                  <a:lnTo>
                    <a:pt x="756" y="0"/>
                  </a:lnTo>
                  <a:lnTo>
                    <a:pt x="796" y="0"/>
                  </a:lnTo>
                  <a:lnTo>
                    <a:pt x="836" y="0"/>
                  </a:lnTo>
                  <a:lnTo>
                    <a:pt x="876" y="0"/>
                  </a:lnTo>
                  <a:lnTo>
                    <a:pt x="916" y="24"/>
                  </a:lnTo>
                  <a:lnTo>
                    <a:pt x="955" y="61"/>
                  </a:lnTo>
                  <a:lnTo>
                    <a:pt x="1008" y="72"/>
                  </a:lnTo>
                  <a:lnTo>
                    <a:pt x="1048" y="97"/>
                  </a:lnTo>
                  <a:lnTo>
                    <a:pt x="1088" y="109"/>
                  </a:lnTo>
                  <a:lnTo>
                    <a:pt x="1128" y="121"/>
                  </a:lnTo>
                  <a:lnTo>
                    <a:pt x="1168" y="134"/>
                  </a:lnTo>
                  <a:lnTo>
                    <a:pt x="1208" y="145"/>
                  </a:lnTo>
                  <a:lnTo>
                    <a:pt x="1220" y="182"/>
                  </a:lnTo>
                  <a:lnTo>
                    <a:pt x="1260" y="206"/>
                  </a:lnTo>
                  <a:lnTo>
                    <a:pt x="1300" y="218"/>
                  </a:lnTo>
                  <a:lnTo>
                    <a:pt x="1340" y="242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755880" y="4124160"/>
              <a:ext cx="532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846440" y="4622760"/>
              <a:ext cx="212400" cy="26352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331040" y="4622760"/>
              <a:ext cx="212760" cy="26352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205240" y="4273560"/>
              <a:ext cx="214560" cy="26352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044800" y="4765680"/>
              <a:ext cx="1203120" cy="6444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403960" y="4416480"/>
              <a:ext cx="2103480" cy="4604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749600" y="4241880"/>
              <a:ext cx="753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o(k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232760" y="4917960"/>
              <a:ext cx="753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(k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346560" y="4454640"/>
              <a:ext cx="2022480" cy="892080"/>
            </a:xfrm>
            <a:custGeom>
              <a:avLst/>
              <a:gdLst/>
              <a:ahLst/>
              <a:rect l="l" t="t" r="r" b="b"/>
              <a:pathLst>
                <a:path w="1274" h="562">
                  <a:moveTo>
                    <a:pt x="0" y="504"/>
                  </a:moveTo>
                  <a:lnTo>
                    <a:pt x="53" y="496"/>
                  </a:lnTo>
                  <a:lnTo>
                    <a:pt x="95" y="496"/>
                  </a:lnTo>
                  <a:lnTo>
                    <a:pt x="136" y="496"/>
                  </a:lnTo>
                  <a:lnTo>
                    <a:pt x="190" y="518"/>
                  </a:lnTo>
                  <a:lnTo>
                    <a:pt x="231" y="540"/>
                  </a:lnTo>
                  <a:lnTo>
                    <a:pt x="273" y="561"/>
                  </a:lnTo>
                  <a:lnTo>
                    <a:pt x="314" y="561"/>
                  </a:lnTo>
                  <a:lnTo>
                    <a:pt x="355" y="561"/>
                  </a:lnTo>
                  <a:lnTo>
                    <a:pt x="396" y="561"/>
                  </a:lnTo>
                  <a:lnTo>
                    <a:pt x="451" y="561"/>
                  </a:lnTo>
                  <a:lnTo>
                    <a:pt x="492" y="561"/>
                  </a:lnTo>
                  <a:lnTo>
                    <a:pt x="533" y="561"/>
                  </a:lnTo>
                  <a:lnTo>
                    <a:pt x="574" y="540"/>
                  </a:lnTo>
                  <a:lnTo>
                    <a:pt x="601" y="507"/>
                  </a:lnTo>
                  <a:lnTo>
                    <a:pt x="615" y="475"/>
                  </a:lnTo>
                  <a:lnTo>
                    <a:pt x="643" y="442"/>
                  </a:lnTo>
                  <a:lnTo>
                    <a:pt x="657" y="410"/>
                  </a:lnTo>
                  <a:lnTo>
                    <a:pt x="698" y="377"/>
                  </a:lnTo>
                  <a:lnTo>
                    <a:pt x="752" y="346"/>
                  </a:lnTo>
                  <a:lnTo>
                    <a:pt x="807" y="324"/>
                  </a:lnTo>
                  <a:lnTo>
                    <a:pt x="849" y="313"/>
                  </a:lnTo>
                  <a:lnTo>
                    <a:pt x="917" y="291"/>
                  </a:lnTo>
                  <a:lnTo>
                    <a:pt x="958" y="291"/>
                  </a:lnTo>
                  <a:lnTo>
                    <a:pt x="999" y="281"/>
                  </a:lnTo>
                  <a:lnTo>
                    <a:pt x="1054" y="281"/>
                  </a:lnTo>
                  <a:lnTo>
                    <a:pt x="1095" y="270"/>
                  </a:lnTo>
                  <a:lnTo>
                    <a:pt x="1163" y="270"/>
                  </a:lnTo>
                  <a:lnTo>
                    <a:pt x="1205" y="270"/>
                  </a:lnTo>
                  <a:lnTo>
                    <a:pt x="1246" y="259"/>
                  </a:lnTo>
                  <a:lnTo>
                    <a:pt x="1246" y="227"/>
                  </a:lnTo>
                  <a:lnTo>
                    <a:pt x="1246" y="195"/>
                  </a:lnTo>
                  <a:lnTo>
                    <a:pt x="1246" y="162"/>
                  </a:lnTo>
                  <a:lnTo>
                    <a:pt x="1246" y="130"/>
                  </a:lnTo>
                  <a:lnTo>
                    <a:pt x="1246" y="97"/>
                  </a:lnTo>
                  <a:lnTo>
                    <a:pt x="1260" y="65"/>
                  </a:lnTo>
                  <a:lnTo>
                    <a:pt x="1260" y="32"/>
                  </a:lnTo>
                  <a:lnTo>
                    <a:pt x="1273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491000" y="4940280"/>
              <a:ext cx="53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121200" y="5478480"/>
              <a:ext cx="365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3147840" y="5121360"/>
            <a:ext cx="214560" cy="2649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EBED-8B4F-46AE-81BA-35544EE9155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137F43-7922-4638-9EA0-C1411682A585}" type="datetime1">
              <a:rPr lang="en-US"/>
              <a:t>07/28/26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Divergence Nod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be the arc out of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n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be the arc out of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n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(d)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{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1, a2, a3, a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,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(d,a1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{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1,a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,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(d, a2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{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2, a4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2133720" y="3278160"/>
            <a:ext cx="4572000" cy="2589120"/>
            <a:chOff x="2133720" y="3278160"/>
            <a:chExt cx="4572000" cy="2589120"/>
          </a:xfrm>
        </p:grpSpPr>
        <p:sp>
          <p:nvSpPr>
            <p:cNvPr id="641" name=""/>
            <p:cNvSpPr/>
            <p:nvPr/>
          </p:nvSpPr>
          <p:spPr>
            <a:xfrm>
              <a:off x="4273560" y="4370400"/>
              <a:ext cx="291960" cy="32076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176720" y="376704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2133720" y="4611600"/>
              <a:ext cx="2209680" cy="84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2286000" y="4696920"/>
              <a:ext cx="2133720" cy="91764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209680" y="3778200"/>
              <a:ext cx="2133720" cy="75240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4572000" y="3278160"/>
              <a:ext cx="1981080" cy="1168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4572000" y="4111560"/>
              <a:ext cx="2057400" cy="419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72000" y="4613400"/>
              <a:ext cx="2133720" cy="41724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495680" y="4697280"/>
              <a:ext cx="2133720" cy="117000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776560" y="3851280"/>
              <a:ext cx="46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852880" y="5103720"/>
              <a:ext cx="46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700240" y="3348000"/>
              <a:ext cx="46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928840" y="4519440"/>
              <a:ext cx="46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EFCB-A486-4EF6-9E70-DBF9668E6100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E27504-4DD0-4992-A368-2C38AA8A1AE4}" type="datetime1">
              <a:rPr lang="en-US"/>
              <a:t>07/28/2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ing Rul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two branches, one wher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the other wi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"/>
          <p:cNvSpPr/>
          <p:nvPr/>
        </p:nvSpPr>
        <p:spPr>
          <a:xfrm>
            <a:off x="2346480" y="2712960"/>
            <a:ext cx="425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2971800" y="2722680"/>
                <a:ext cx="312408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ÎA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3201840" y="4637160"/>
                <a:ext cx="3961080" cy="14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ÎA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C601-7FFA-420F-9EB9-8E3B3164B5A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2C2C1E-6EF6-4B62-BE89-6BE891FAF973}" type="datetime1">
              <a:rPr lang="en-US"/>
              <a:t>07/28/26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-and-Bound Results:  Conventional Branching Rul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ight telecommunications test problem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0 nodes, 130 arcs, 585 commod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utational experiment on an IBM RS6000/59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each of the eight test problems, run time of 3600 seco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 feasible solution was fou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55E4-A79F-4BEB-A872-F6F5A4FD8DE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B52D0A-976C-4FED-B248-E4EA4D6BE56F}" type="datetime1">
              <a:rPr lang="en-US"/>
              <a:t>07/28/26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ranch-and-Bound Results:  Our New Branching Rul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1066680" y="1601640"/>
          <a:ext cx="7766280" cy="41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01640"/>
                    <a:ext cx="776628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4" name=""/>
          <p:cNvSpPr/>
          <p:nvPr/>
        </p:nvSpPr>
        <p:spPr>
          <a:xfrm>
            <a:off x="738360" y="5472000"/>
            <a:ext cx="7626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test problems have 50 nodes, 130 arcs, 585 commodi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 times on an IBM RS6000/59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AD13-4CE3-4714-8435-7813220BB4E0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8C5620-85E9-4E97-A196-A8A596FFA9D1}" type="datetime1">
              <a:rPr lang="en-US"/>
              <a:t>07/28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Network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t of nod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ch node associated with the supply of or demand for commod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t of arc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st per unit commodity flow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acity limiting the </a:t>
            </a:r>
            <a:r>
              <a:rPr b="0" i="1" lang="en-US" sz="3200" spc="-1" strike="noStrike">
                <a:solidFill>
                  <a:srgbClr val="ff0000"/>
                </a:solidFill>
                <a:latin typeface="Garamond"/>
              </a:rPr>
              <a:t>total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ow of all commodities and/ or the flow of individual commoditi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1AFC-40A1-4D38-994A-74B666100E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3E90FF-909C-4012-88EC-AE8DF128B97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nclusions 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7960" y="1485720"/>
            <a:ext cx="802656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oose your formulation careful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de-off memory requirements and solution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b-network formulation can be effective when low level of congestion in the netw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blem size often mandates use of combined column and row gene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F690-1AB1-4F5C-A2C0-B7722D95DEA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1608ED-D051-4780-891A-01B13A8701B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nclusions I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lution time is affected dramatically b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complexity of the pricing probl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loitation of problem structure, pre-processing, LP solver selection, 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anching strategy should preserve the structure of the pricing probl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ranch on “small” decisions, not the variables in the column generation formu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DBC3-4C52-4AF5-901B-B9DF008F66B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53EC9D-9C08-44C3-A0A0-5B35B8B8471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Commodity Definition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ommodity may originate at a subset of nodes in the network and be destined for another subset of nod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ommodity may originate at a single node and be destined for a subset of the nod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ommodity may originate at a single node and be destined for a single no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08AB-B261-48B9-8EC5-B150700815E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2DE817-D953-4BF9-819F-1B5B8196032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Objectiv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1136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ow the commodities through the networks from their respective origins to their respective destinations at minimum c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ressed as distance, money, time, 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huja, Magnanti and Orlin (1993)-- survey of multi-commodity flow models and solution procedu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440E-D41A-4C96-8C1E-BD042327B80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AE36BA-F85C-4591-9E5E-6E3F7237EB7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MCF Problem Formulations -- Linear Program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06080" y="1771560"/>
            <a:ext cx="8026200" cy="422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twork flow problem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pacity constraints limit flow of individual commoditi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ervation of flow constraints ensure flow balance for individual commod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ow non-negativity constrai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side constrai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undle constraints restrict total flow of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LL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odities on an ar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1554-AA60-4623-B565-6B88B030DC9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0CA354-CE5D-4315-A822-7B869091A34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03:11:32Z</dcterms:created>
  <dc:creator>Andrew P. Armacost</dc:creator>
  <dc:description/>
  <dc:language>en-US</dc:language>
  <cp:lastModifiedBy>CEE</cp:lastModifiedBy>
  <cp:lastPrinted>2000-05-28T17:01:40Z</cp:lastPrinted>
  <dcterms:modified xsi:type="dcterms:W3CDTF">2004-01-15T22:52:52Z</dcterms:modified>
  <cp:revision>396</cp:revision>
  <dc:subject/>
  <dc:title>Thesis Proposal Meeting</dc:title>
</cp:coreProperties>
</file>