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4237E5-092A-4609-B179-A97040AE0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70F45-7719-4697-976B-EC56706A1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D83561-3F2C-49EC-86C2-35BDD146F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4AAA4D-C49B-4C7B-9DB5-0613F5AED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12D9B9-D847-49C6-9C89-D87DCDBD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0AB-6567-4E44-A7A0-AC8F94D9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8F0-C8FE-42B9-B2F5-D48FBA6F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E30-3F7C-4A83-BDC4-847F7440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A69-0169-426B-82E0-71E860A6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090-4CA2-4B8E-813E-76FA1B18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2C1-D1EE-498B-AF3A-E2528B7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16F-7B0C-47DE-BC80-3C516D35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1F2-504A-4E07-BF05-D6B5B7DA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B45-823E-46D3-8E76-34C8EE9A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388-B20B-4321-B603-0400D76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E2A-6A56-4288-A8C2-0D62144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A3C-6A05-4F1E-B50C-5E375225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D29-53B5-41B7-A925-829FACF9DF8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8C64-C53F-47C6-ADA1-0A934A482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Reduced cost for path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r,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Let modified cost for arc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2320" indent="-20232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ed cost is non-negative for all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ariables if the modified cost of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quals or exceeds the modified cost of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(k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s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/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2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92E-82AB-4AC5-A351-D5027BD900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71277-2F60-4FC2-A6BF-3854716F6A01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C36-4A74-4742-A6EE-CA0AC0CF4B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318EB-C179-4D34-B133-2BCA9129397F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6DB-E6FA-4E2D-9F5C-95BA6455E9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46558-A01B-4615-B0B8-A7F6392F3127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 and the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, letting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C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valentl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.  If min 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C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the original problem is solved, else add column corresponding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the master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2CF-685B-4AB0-BBFC-FDDA8C83BF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86B19-3920-4B70-A318-6361A4ED05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82880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86400"/>
            <a:ext cx="77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E:  Gray columns not included in keypath formulation; purple elements are initial keypath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82C-2C6A-4FE4-9833-D866A11781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F1469-F3E6-441C-AB10-3D36BA2D1E4C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752480"/>
          <a:ext cx="131065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131065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5105520"/>
            <a:ext cx="77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teration:  no columns price out, one constraint for commodity 3 is violated and added; and the problem is resolved– feasibility and optimality achie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0666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2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4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3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7;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4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8 (** denotes keypa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F8E1-398E-4B0E-909F-DA4EAF84E8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1842-F69D-445C-91DF-D58A372F2FC8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30380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90D-93DC-453F-9640-6994C03C0E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C6B7E-7275-4D50-BD1E-7DE538BBA1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4238640" cy="49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517-A091-4590-8DAF-5CF30579AF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CC6F1-F700-4CE5-BFBF-6AE3BC287F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2666880" cy="6095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228600"/>
            <a:ext cx="6138720" cy="63244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BDB-145D-4C15-9C1F-FF67472789F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56284-70E4-4B94-BB9C-0DF8A74E27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901-22D6-455D-851E-1E00E10F20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17612-3C17-4C8B-89C3-13E5BD82C1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Network Flows: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Key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ormulation for multi-commodity flow problems revisi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form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ypath solution algorith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0CE-4120-4A3A-A32E-5D7D1AA9E7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485B8-67B5-49F2-B496-C4435A6CFD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5E5-0EE4-4850-A92F-FDF0830544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9875F-40E6-43E2-94A7-9E59E731B2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6D1-66E4-4677-9EC4-734FBC6CA5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AF637-7772-450B-9DC2-1E3400BBAF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able redefini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relaxation of constraints and subsequent (limited) cut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alter the pricing problem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rtest paths with modified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problems with many commodities, as well as a large underlying network, to be solved with limited memory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324-4369-44B1-9A94-363B37A6D5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3D980-7565-4B8C-80A8-DA03FD39D0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02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arameter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= 1 if path p contains arc ij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B73-6878-4DDF-A92C-81069858EE5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83DA4-37F1-4214-846E-C238B23057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Revisited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E08-74A6-442F-A8EA-38996A3480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38905-C885-485B-8000-A63BB80E9676}" type="datetime5">
              <a:rPr lang="en-US"/>
              <a:t>Jul 28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ath formulation for MCF problems can be recast equivalently as follow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gn all flow of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 selected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eypath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ten the keypath is the minimum cost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sulting flow assignment is often infeasibl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85760" indent="-17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or more arc capacity constraints are viola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resulting flows are feasible and the keypaths are minimum cost, the flow assignment is optim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a linear programming formulation to minimize the cost of adjusting flows to achieve feasibi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25120" indent="-17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w adjustments involve removing flow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om its key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placing it on alternative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B8C-89FF-4DF7-ADB0-41000E9685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83704-1B7F-44F2-B6A8-E7907A3138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Keypath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eypath for commodit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tal initial (flow assigned to keypaths) on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j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; change in cost when one unit of commodity k is shift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(Note: typically non-negative i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has minimum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r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removed from key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(k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to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CD4-A94E-4846-845D-45EA9F2EB6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AEBC6-DF3C-43D8-B527-140538C0D9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0" y="1790640"/>
                <a:ext cx="9144000" cy="40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s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r</m:t>
                                              </m:r>
                                            </m:sup>
                                          </m:sSup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+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K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)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sSup>
                                <m:e>
                                  <m:r>
                                    <m:t xml:space="preserve">P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1</m:t>
                              </m:r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r>
                            <m:t xml:space="preserve">∀</m:t>
                          </m:r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K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F45-B273-43BE-8CF8-DCB9A7ADF4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F63D1-A908-4A17-8B51-6C9D7EC26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ociated Dual Variab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 the dual variable associated with the commodity constraints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05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remove an additional unit of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its keypath and place on another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870-58DD-48FB-8503-EB0ADDC3CB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018F3-0D87-4F23-BF4D-E31320C6D0DC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re optimal for all k and all ij if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B08-3008-48E2-8BB7-C4838D65BA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72847-C4C1-457B-B1C7-3991C8D400F3}" type="datetime5">
              <a:rPr lang="en-US"/>
              <a:t>Jul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5:25Z</dcterms:modified>
  <cp:revision>408</cp:revision>
  <dc:subject/>
  <dc:title>Thesis Proposal Meeting</dc:title>
</cp:coreProperties>
</file>