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5880" y="685440"/>
            <a:ext cx="45702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0D39F9-C86B-4CD6-8313-448E521EA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B TO DO:  Next time do algorithm on its own slide– see Amy’s topo ordering slide from textbook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1964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now present an overview of the airline schedule planning process.  It begins with schedule design, in which…  Next is fleet assignment, in which…. 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ircraft routing, in which…. And the last is crew scheduling, in which….  We will now move to our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ction, our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ook at the fleet assignment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2527092-94ED-48EE-9963-26B82922A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DF731C-6FD2-4FAB-BAE7-91B6666CE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CD24-43A8-4DBE-B7E7-0265D69F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A1B4-BC8D-4C32-BFCF-240A3342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DC46-73BA-4CBA-A14D-55D95510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8F57-CA94-492A-B979-1AF8E858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902C-4E05-409D-A4FE-78E072AF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4CE6-DC3C-4990-85EC-67E8BD14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DE7E-58C7-4F3B-84B3-BC0126AE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986-4163-48D2-99AF-DDFCEBD7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402-CC55-46BF-9BEC-695DE74D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927F-7259-4388-B2E2-22A28116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E4B2-A661-42C4-AD6C-5613000E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D8ED-3B8A-4B82-ABEF-3A452B05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74600" indent="-226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14440" indent="-226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753560" indent="-22608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591240"/>
            <a:ext cx="205740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CC92-EA86-44D6-9D8A-6F6C63A17DAB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01920" y="6590880"/>
            <a:ext cx="289584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590880"/>
            <a:ext cx="190476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FE63-8C31-4CF9-BA85-9C458D85CC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70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8120"/>
          </a:xfrm>
          <a:prstGeom prst="rect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.206J/16.77J/ESD.215J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54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ynthia Barnha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pring 2003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ime-Line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"/>
          <p:cNvSpPr/>
          <p:nvPr/>
        </p:nvSpPr>
        <p:spPr>
          <a:xfrm>
            <a:off x="457200" y="2514600"/>
            <a:ext cx="8077320" cy="3397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6462720" y="4627440"/>
            <a:ext cx="318960" cy="758880"/>
            <a:chOff x="6462720" y="4627440"/>
            <a:chExt cx="318960" cy="758880"/>
          </a:xfrm>
        </p:grpSpPr>
        <p:sp>
          <p:nvSpPr>
            <p:cNvPr id="527" name=""/>
            <p:cNvSpPr/>
            <p:nvPr/>
          </p:nvSpPr>
          <p:spPr>
            <a:xfrm>
              <a:off x="6462720" y="4627440"/>
              <a:ext cx="244440" cy="617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26160" y="520380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0" y="42"/>
                  </a:moveTo>
                  <a:lnTo>
                    <a:pt x="89" y="115"/>
                  </a:lnTo>
                  <a:lnTo>
                    <a:pt x="9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1601640" y="3133800"/>
            <a:ext cx="2132280" cy="6660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601640" y="5751360"/>
            <a:ext cx="6993000" cy="4604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811520" y="5837400"/>
            <a:ext cx="38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574000" y="5837400"/>
            <a:ext cx="54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2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33324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6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93920" y="5837400"/>
            <a:ext cx="657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0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610600" y="5837400"/>
            <a:ext cx="38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371640" y="5837400"/>
            <a:ext cx="54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2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13196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6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89084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0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601640" y="3168720"/>
            <a:ext cx="319320" cy="758880"/>
            <a:chOff x="1601640" y="3168720"/>
            <a:chExt cx="319320" cy="758880"/>
          </a:xfrm>
        </p:grpSpPr>
        <p:sp>
          <p:nvSpPr>
            <p:cNvPr id="540" name=""/>
            <p:cNvSpPr/>
            <p:nvPr/>
          </p:nvSpPr>
          <p:spPr>
            <a:xfrm>
              <a:off x="1601640" y="3168720"/>
              <a:ext cx="24300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63640" y="3746520"/>
              <a:ext cx="157320" cy="181080"/>
            </a:xfrm>
            <a:custGeom>
              <a:avLst/>
              <a:gdLst/>
              <a:ahLst/>
              <a:rect l="l" t="t" r="r" b="b"/>
              <a:pathLst>
                <a:path w="99" h="114">
                  <a:moveTo>
                    <a:pt x="0" y="41"/>
                  </a:moveTo>
                  <a:lnTo>
                    <a:pt x="89" y="114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2817720" y="4687920"/>
            <a:ext cx="319320" cy="758880"/>
            <a:chOff x="2817720" y="4687920"/>
            <a:chExt cx="319320" cy="758880"/>
          </a:xfrm>
        </p:grpSpPr>
        <p:sp>
          <p:nvSpPr>
            <p:cNvPr id="543" name=""/>
            <p:cNvSpPr/>
            <p:nvPr/>
          </p:nvSpPr>
          <p:spPr>
            <a:xfrm>
              <a:off x="2817720" y="4687920"/>
              <a:ext cx="24300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979720" y="526428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2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2209680" y="3927600"/>
            <a:ext cx="319320" cy="760320"/>
            <a:chOff x="2209680" y="3927600"/>
            <a:chExt cx="319320" cy="760320"/>
          </a:xfrm>
        </p:grpSpPr>
        <p:sp>
          <p:nvSpPr>
            <p:cNvPr id="546" name=""/>
            <p:cNvSpPr/>
            <p:nvPr/>
          </p:nvSpPr>
          <p:spPr>
            <a:xfrm>
              <a:off x="2209680" y="3927600"/>
              <a:ext cx="24300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371680" y="450540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1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5856120" y="3927600"/>
            <a:ext cx="319320" cy="760320"/>
            <a:chOff x="5856120" y="3927600"/>
            <a:chExt cx="319320" cy="760320"/>
          </a:xfrm>
        </p:grpSpPr>
        <p:sp>
          <p:nvSpPr>
            <p:cNvPr id="549" name=""/>
            <p:cNvSpPr/>
            <p:nvPr/>
          </p:nvSpPr>
          <p:spPr>
            <a:xfrm>
              <a:off x="5856120" y="3927600"/>
              <a:ext cx="24300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18120" y="450540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1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5248440" y="3168720"/>
            <a:ext cx="318960" cy="758880"/>
            <a:chOff x="5248440" y="3168720"/>
            <a:chExt cx="318960" cy="758880"/>
          </a:xfrm>
        </p:grpSpPr>
        <p:sp>
          <p:nvSpPr>
            <p:cNvPr id="552" name=""/>
            <p:cNvSpPr/>
            <p:nvPr/>
          </p:nvSpPr>
          <p:spPr>
            <a:xfrm>
              <a:off x="5248440" y="3168720"/>
              <a:ext cx="24264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410080" y="3746520"/>
              <a:ext cx="157320" cy="181080"/>
            </a:xfrm>
            <a:custGeom>
              <a:avLst/>
              <a:gdLst/>
              <a:ahLst/>
              <a:rect l="l" t="t" r="r" b="b"/>
              <a:pathLst>
                <a:path w="99" h="114">
                  <a:moveTo>
                    <a:pt x="0" y="41"/>
                  </a:moveTo>
                  <a:lnTo>
                    <a:pt x="89" y="114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424320" y="3168720"/>
            <a:ext cx="369720" cy="2277720"/>
            <a:chOff x="3424320" y="3168720"/>
            <a:chExt cx="369720" cy="2277720"/>
          </a:xfrm>
        </p:grpSpPr>
        <p:sp>
          <p:nvSpPr>
            <p:cNvPr id="555" name=""/>
            <p:cNvSpPr/>
            <p:nvPr/>
          </p:nvSpPr>
          <p:spPr>
            <a:xfrm flipV="1">
              <a:off x="3424320" y="3320640"/>
              <a:ext cx="284040" cy="212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627360" y="3168720"/>
              <a:ext cx="166680" cy="17136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105" y="108"/>
                  </a:moveTo>
                  <a:lnTo>
                    <a:pt x="64" y="0"/>
                  </a:lnTo>
                  <a:lnTo>
                    <a:pt x="0" y="96"/>
                  </a:lnTo>
                  <a:lnTo>
                    <a:pt x="10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7070760" y="3159000"/>
            <a:ext cx="369720" cy="2277720"/>
            <a:chOff x="7070760" y="3159000"/>
            <a:chExt cx="369720" cy="2277720"/>
          </a:xfrm>
        </p:grpSpPr>
        <p:sp>
          <p:nvSpPr>
            <p:cNvPr id="558" name=""/>
            <p:cNvSpPr/>
            <p:nvPr/>
          </p:nvSpPr>
          <p:spPr>
            <a:xfrm flipV="1">
              <a:off x="7070760" y="3309480"/>
              <a:ext cx="284040" cy="2127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273800" y="3159000"/>
              <a:ext cx="166680" cy="17172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105" y="108"/>
                  </a:moveTo>
                  <a:lnTo>
                    <a:pt x="64" y="0"/>
                  </a:lnTo>
                  <a:lnTo>
                    <a:pt x="0" y="95"/>
                  </a:lnTo>
                  <a:lnTo>
                    <a:pt x="10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538200" y="2865600"/>
            <a:ext cx="917640" cy="4600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37280" y="2951280"/>
            <a:ext cx="584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38200" y="3624120"/>
            <a:ext cx="917640" cy="4604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40880" y="3710160"/>
            <a:ext cx="57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B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38200" y="4383000"/>
            <a:ext cx="917640" cy="4618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40880" y="4459320"/>
            <a:ext cx="57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C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8200" y="5143680"/>
            <a:ext cx="917640" cy="4600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39800" y="5219640"/>
            <a:ext cx="584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2508120" y="4683240"/>
            <a:ext cx="309600" cy="187200"/>
            <a:chOff x="2508120" y="4683240"/>
            <a:chExt cx="309600" cy="187200"/>
          </a:xfrm>
        </p:grpSpPr>
        <p:sp>
          <p:nvSpPr>
            <p:cNvPr id="569" name=""/>
            <p:cNvSpPr/>
            <p:nvPr/>
          </p:nvSpPr>
          <p:spPr>
            <a:xfrm>
              <a:off x="2508120" y="468324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6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568600" y="476892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20" y="29"/>
                  </a:lnTo>
                  <a:lnTo>
                    <a:pt x="23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6" y="22"/>
                  </a:lnTo>
                  <a:lnTo>
                    <a:pt x="26" y="25"/>
                  </a:lnTo>
                  <a:lnTo>
                    <a:pt x="29" y="25"/>
                  </a:lnTo>
                  <a:lnTo>
                    <a:pt x="20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649600" y="480852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4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4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20" y="23"/>
                  </a:lnTo>
                  <a:lnTo>
                    <a:pt x="29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55720" y="468792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79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7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6762600" y="5432400"/>
            <a:ext cx="308160" cy="187200"/>
            <a:chOff x="6762600" y="5432400"/>
            <a:chExt cx="308160" cy="187200"/>
          </a:xfrm>
        </p:grpSpPr>
        <p:sp>
          <p:nvSpPr>
            <p:cNvPr id="574" name=""/>
            <p:cNvSpPr/>
            <p:nvPr/>
          </p:nvSpPr>
          <p:spPr>
            <a:xfrm>
              <a:off x="6762600" y="5432400"/>
              <a:ext cx="44640" cy="604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8" y="35"/>
                  </a:lnTo>
                  <a:lnTo>
                    <a:pt x="28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23080" y="5518080"/>
              <a:ext cx="55440" cy="558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5" y="22"/>
                  </a:lnTo>
                  <a:lnTo>
                    <a:pt x="25" y="25"/>
                  </a:lnTo>
                  <a:lnTo>
                    <a:pt x="29" y="25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904080" y="555768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6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9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908760" y="543708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6154560" y="4683240"/>
            <a:ext cx="308160" cy="187200"/>
            <a:chOff x="6154560" y="4683240"/>
            <a:chExt cx="308160" cy="187200"/>
          </a:xfrm>
        </p:grpSpPr>
        <p:sp>
          <p:nvSpPr>
            <p:cNvPr id="579" name=""/>
            <p:cNvSpPr/>
            <p:nvPr/>
          </p:nvSpPr>
          <p:spPr>
            <a:xfrm>
              <a:off x="6154560" y="468324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15040" y="476892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6" y="22"/>
                  </a:lnTo>
                  <a:lnTo>
                    <a:pt x="26" y="25"/>
                  </a:lnTo>
                  <a:lnTo>
                    <a:pt x="29" y="25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6040" y="480852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9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300720" y="468792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546880" y="3922560"/>
            <a:ext cx="309240" cy="187560"/>
            <a:chOff x="5546880" y="3922560"/>
            <a:chExt cx="309240" cy="187560"/>
          </a:xfrm>
        </p:grpSpPr>
        <p:sp>
          <p:nvSpPr>
            <p:cNvPr id="584" name=""/>
            <p:cNvSpPr/>
            <p:nvPr/>
          </p:nvSpPr>
          <p:spPr>
            <a:xfrm>
              <a:off x="5546880" y="3922560"/>
              <a:ext cx="45720" cy="619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6" y="39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607000" y="4008600"/>
              <a:ext cx="55440" cy="5688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0" y="4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3" y="32"/>
                  </a:lnTo>
                  <a:lnTo>
                    <a:pt x="29" y="36"/>
                  </a:lnTo>
                  <a:lnTo>
                    <a:pt x="32" y="36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6"/>
                  </a:lnTo>
                  <a:lnTo>
                    <a:pt x="26" y="23"/>
                  </a:lnTo>
                  <a:lnTo>
                    <a:pt x="26" y="26"/>
                  </a:lnTo>
                  <a:lnTo>
                    <a:pt x="29" y="26"/>
                  </a:lnTo>
                  <a:lnTo>
                    <a:pt x="19" y="13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688000" y="404964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4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10" y="26"/>
                  </a:lnTo>
                  <a:lnTo>
                    <a:pt x="16" y="22"/>
                  </a:lnTo>
                  <a:lnTo>
                    <a:pt x="20" y="22"/>
                  </a:lnTo>
                  <a:lnTo>
                    <a:pt x="29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694480" y="392760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79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7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3116160" y="5442120"/>
            <a:ext cx="308160" cy="187200"/>
            <a:chOff x="3116160" y="5442120"/>
            <a:chExt cx="308160" cy="187200"/>
          </a:xfrm>
        </p:grpSpPr>
        <p:sp>
          <p:nvSpPr>
            <p:cNvPr id="589" name=""/>
            <p:cNvSpPr/>
            <p:nvPr/>
          </p:nvSpPr>
          <p:spPr>
            <a:xfrm>
              <a:off x="3116160" y="544212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76640" y="552780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6"/>
                  </a:lnTo>
                  <a:lnTo>
                    <a:pt x="26" y="23"/>
                  </a:lnTo>
                  <a:lnTo>
                    <a:pt x="26" y="26"/>
                  </a:lnTo>
                  <a:lnTo>
                    <a:pt x="29" y="26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257640" y="556884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7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10" y="25"/>
                  </a:lnTo>
                  <a:lnTo>
                    <a:pt x="16" y="22"/>
                  </a:lnTo>
                  <a:lnTo>
                    <a:pt x="19" y="22"/>
                  </a:lnTo>
                  <a:lnTo>
                    <a:pt x="29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6" y="9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262320" y="544680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2209680" y="3467160"/>
            <a:ext cx="3276360" cy="418680"/>
            <a:chOff x="2209680" y="3467160"/>
            <a:chExt cx="3276360" cy="418680"/>
          </a:xfrm>
        </p:grpSpPr>
        <p:sp>
          <p:nvSpPr>
            <p:cNvPr id="594" name=""/>
            <p:cNvSpPr/>
            <p:nvPr/>
          </p:nvSpPr>
          <p:spPr>
            <a:xfrm>
              <a:off x="2209680" y="3854880"/>
              <a:ext cx="59040" cy="3096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293920" y="3832200"/>
              <a:ext cx="59040" cy="26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377800" y="3804120"/>
              <a:ext cx="59040" cy="2808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462040" y="3777120"/>
              <a:ext cx="6300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544840" y="3754440"/>
              <a:ext cx="6300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33040" y="3728160"/>
              <a:ext cx="59040" cy="2628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717280" y="3705480"/>
              <a:ext cx="626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801520" y="3682800"/>
              <a:ext cx="62640" cy="262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889360" y="3656160"/>
              <a:ext cx="59040" cy="26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973600" y="3637440"/>
              <a:ext cx="6300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057840" y="3615120"/>
              <a:ext cx="6264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45680" y="3593880"/>
              <a:ext cx="63000" cy="262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228840" y="3575520"/>
              <a:ext cx="6300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316680" y="3553200"/>
              <a:ext cx="6300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400920" y="3534840"/>
              <a:ext cx="62640" cy="262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89120" y="3520440"/>
              <a:ext cx="6300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577320" y="3507840"/>
              <a:ext cx="6264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65160" y="3493800"/>
              <a:ext cx="63000" cy="1800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753360" y="3485160"/>
              <a:ext cx="59040" cy="1800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37600" y="3471120"/>
              <a:ext cx="6264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25440" y="3467160"/>
              <a:ext cx="63000" cy="1800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014000" y="3467160"/>
              <a:ext cx="62640" cy="140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101840" y="3467160"/>
              <a:ext cx="63000" cy="140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189680" y="3467160"/>
              <a:ext cx="63000" cy="1800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277880" y="3471120"/>
              <a:ext cx="6300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66080" y="3485160"/>
              <a:ext cx="63000" cy="1800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54280" y="3493800"/>
              <a:ext cx="6300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542120" y="3512160"/>
              <a:ext cx="59040" cy="2268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5" y="13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626720" y="3530160"/>
              <a:ext cx="626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714560" y="3553200"/>
              <a:ext cx="57600" cy="266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798800" y="3579840"/>
              <a:ext cx="57600" cy="262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881600" y="3606480"/>
              <a:ext cx="59040" cy="3096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965480" y="3637440"/>
              <a:ext cx="59040" cy="3240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045760" y="3670200"/>
              <a:ext cx="63000" cy="3492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130000" y="3705480"/>
              <a:ext cx="57600" cy="3672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08840" y="3742200"/>
              <a:ext cx="59040" cy="3492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2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89120" y="3777120"/>
              <a:ext cx="57600" cy="3672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335200" y="3750480"/>
              <a:ext cx="150840" cy="13536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2819520" y="4216320"/>
            <a:ext cx="3352320" cy="431640"/>
            <a:chOff x="2819520" y="4216320"/>
            <a:chExt cx="3352320" cy="431640"/>
          </a:xfrm>
        </p:grpSpPr>
        <p:sp>
          <p:nvSpPr>
            <p:cNvPr id="633" name=""/>
            <p:cNvSpPr/>
            <p:nvPr/>
          </p:nvSpPr>
          <p:spPr>
            <a:xfrm>
              <a:off x="2819520" y="4616280"/>
              <a:ext cx="60480" cy="316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905560" y="4592880"/>
              <a:ext cx="60120" cy="2736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991960" y="4563720"/>
              <a:ext cx="59040" cy="28800"/>
            </a:xfrm>
            <a:custGeom>
              <a:avLst/>
              <a:gdLst/>
              <a:ahLst/>
              <a:rect l="l" t="t" r="r" b="b"/>
              <a:pathLst>
                <a:path w="44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76560" y="4536000"/>
              <a:ext cx="6408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62600" y="4512960"/>
              <a:ext cx="6444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252600" y="4485240"/>
              <a:ext cx="60480" cy="2736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39000" y="4461840"/>
              <a:ext cx="6408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425040" y="4438800"/>
              <a:ext cx="6408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15040" y="4411080"/>
              <a:ext cx="60480" cy="2736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601440" y="4392360"/>
              <a:ext cx="64440" cy="2304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686040" y="4368960"/>
              <a:ext cx="64440" cy="234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776400" y="4347000"/>
              <a:ext cx="6408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62440" y="4328280"/>
              <a:ext cx="64440" cy="2304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952440" y="4304880"/>
              <a:ext cx="6444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038840" y="4286160"/>
              <a:ext cx="64080" cy="2736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128840" y="4272840"/>
              <a:ext cx="64440" cy="2160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219200" y="4258440"/>
              <a:ext cx="64440" cy="234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309200" y="4243680"/>
              <a:ext cx="64440" cy="187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399560" y="4235400"/>
              <a:ext cx="60480" cy="187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1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485960" y="4220280"/>
              <a:ext cx="64080" cy="234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575960" y="4216320"/>
              <a:ext cx="64440" cy="190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66320" y="4216320"/>
              <a:ext cx="64080" cy="1440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756320" y="4216320"/>
              <a:ext cx="64440" cy="1440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846320" y="4216320"/>
              <a:ext cx="64440" cy="190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936680" y="4220280"/>
              <a:ext cx="64440" cy="234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26680" y="4235400"/>
              <a:ext cx="64440" cy="187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17040" y="4243680"/>
              <a:ext cx="64080" cy="234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07040" y="4262760"/>
              <a:ext cx="59040" cy="2340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4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293080" y="4281840"/>
              <a:ext cx="63360" cy="2736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7" y="16"/>
                  </a:lnTo>
                  <a:lnTo>
                    <a:pt x="47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82000" y="4304880"/>
              <a:ext cx="60480" cy="2736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9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3"/>
                  </a:lnTo>
                  <a:lnTo>
                    <a:pt x="4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68400" y="4332600"/>
              <a:ext cx="60120" cy="2736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3"/>
                  </a:lnTo>
                  <a:lnTo>
                    <a:pt x="42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54440" y="4360320"/>
              <a:ext cx="60120" cy="316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8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640480" y="4392360"/>
              <a:ext cx="60480" cy="331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1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722560" y="4425480"/>
              <a:ext cx="63000" cy="3600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807520" y="4461840"/>
              <a:ext cx="60120" cy="378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9" y="26"/>
                  </a:lnTo>
                  <a:lnTo>
                    <a:pt x="42" y="26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889600" y="4499640"/>
              <a:ext cx="60120" cy="360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1" y="16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71680" y="4536000"/>
              <a:ext cx="59040" cy="378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018480" y="4508640"/>
              <a:ext cx="153360" cy="139320"/>
            </a:xfrm>
            <a:custGeom>
              <a:avLst/>
              <a:gdLst/>
              <a:ahLst/>
              <a:rect l="l" t="t" r="r" b="b"/>
              <a:pathLst>
                <a:path w="114" h="96">
                  <a:moveTo>
                    <a:pt x="0" y="96"/>
                  </a:moveTo>
                  <a:lnTo>
                    <a:pt x="114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3429000" y="4986360"/>
            <a:ext cx="3276720" cy="423360"/>
            <a:chOff x="3429000" y="4986360"/>
            <a:chExt cx="3276720" cy="423360"/>
          </a:xfrm>
        </p:grpSpPr>
        <p:sp>
          <p:nvSpPr>
            <p:cNvPr id="672" name=""/>
            <p:cNvSpPr/>
            <p:nvPr/>
          </p:nvSpPr>
          <p:spPr>
            <a:xfrm>
              <a:off x="3429000" y="5376960"/>
              <a:ext cx="59040" cy="327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23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513240" y="5354280"/>
              <a:ext cx="57600" cy="266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596040" y="5327280"/>
              <a:ext cx="59040" cy="2700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680280" y="5299920"/>
              <a:ext cx="62640" cy="2700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764520" y="5277240"/>
              <a:ext cx="626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52360" y="5250240"/>
              <a:ext cx="59040" cy="2700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936600" y="5227200"/>
              <a:ext cx="63000" cy="2700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020840" y="5204520"/>
              <a:ext cx="626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09040" y="5177520"/>
              <a:ext cx="57600" cy="2700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191840" y="5158800"/>
              <a:ext cx="6300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276080" y="5136120"/>
              <a:ext cx="6300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64280" y="5113080"/>
              <a:ext cx="62640" cy="2700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448520" y="5095800"/>
              <a:ext cx="62640" cy="2160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536360" y="5073120"/>
              <a:ext cx="63000" cy="2700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20600" y="5054760"/>
              <a:ext cx="6300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32" y="13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29" y="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708800" y="5040360"/>
              <a:ext cx="6300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96640" y="5027760"/>
              <a:ext cx="6300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85200" y="5013360"/>
              <a:ext cx="63000" cy="183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73040" y="5004720"/>
              <a:ext cx="57600" cy="1872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57640" y="4990320"/>
              <a:ext cx="61560" cy="2268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4" y="10"/>
                  </a:lnTo>
                  <a:lnTo>
                    <a:pt x="47" y="7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8" y="3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145480" y="4986360"/>
              <a:ext cx="61560" cy="1836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233680" y="4986360"/>
              <a:ext cx="61920" cy="14040"/>
            </a:xfrm>
            <a:custGeom>
              <a:avLst/>
              <a:gdLst/>
              <a:ahLst/>
              <a:rect l="l" t="t" r="r" b="b"/>
              <a:pathLst>
                <a:path w="47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321880" y="4986360"/>
              <a:ext cx="61560" cy="14040"/>
            </a:xfrm>
            <a:custGeom>
              <a:avLst/>
              <a:gdLst/>
              <a:ahLst/>
              <a:rect l="l" t="t" r="r" b="b"/>
              <a:pathLst>
                <a:path w="47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409720" y="4986360"/>
              <a:ext cx="61920" cy="1836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497920" y="4990320"/>
              <a:ext cx="61560" cy="2268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3"/>
                  </a:lnTo>
                  <a:lnTo>
                    <a:pt x="47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86120" y="5004720"/>
              <a:ext cx="61560" cy="187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74320" y="5013360"/>
              <a:ext cx="61560" cy="2232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3"/>
                  </a:lnTo>
                  <a:lnTo>
                    <a:pt x="47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762520" y="5031720"/>
              <a:ext cx="57600" cy="2268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4" y="13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845320" y="5050080"/>
              <a:ext cx="63000" cy="2700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19"/>
                  </a:lnTo>
                  <a:lnTo>
                    <a:pt x="45" y="19"/>
                  </a:lnTo>
                  <a:lnTo>
                    <a:pt x="48" y="16"/>
                  </a:lnTo>
                  <a:lnTo>
                    <a:pt x="48" y="12"/>
                  </a:lnTo>
                  <a:lnTo>
                    <a:pt x="45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933160" y="5073120"/>
              <a:ext cx="59040" cy="2700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2"/>
                  </a:lnTo>
                  <a:lnTo>
                    <a:pt x="4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017760" y="5100480"/>
              <a:ext cx="59040" cy="2700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2"/>
                  </a:lnTo>
                  <a:lnTo>
                    <a:pt x="42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102000" y="5127480"/>
              <a:ext cx="59040" cy="313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2" y="19"/>
                  </a:lnTo>
                  <a:lnTo>
                    <a:pt x="38" y="22"/>
                  </a:lnTo>
                  <a:lnTo>
                    <a:pt x="41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1" y="13"/>
                  </a:lnTo>
                  <a:lnTo>
                    <a:pt x="3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185880" y="5158800"/>
              <a:ext cx="57600" cy="3240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4" y="19"/>
                  </a:lnTo>
                  <a:lnTo>
                    <a:pt x="44" y="16"/>
                  </a:lnTo>
                  <a:lnTo>
                    <a:pt x="41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65080" y="5191560"/>
              <a:ext cx="62640" cy="3528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3" y="15"/>
                  </a:lnTo>
                  <a:lnTo>
                    <a:pt x="42" y="25"/>
                  </a:lnTo>
                  <a:lnTo>
                    <a:pt x="45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2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48960" y="5227200"/>
              <a:ext cx="59040" cy="3708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2" y="26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429240" y="5264280"/>
              <a:ext cx="57600" cy="352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4" y="22"/>
                  </a:lnTo>
                  <a:lnTo>
                    <a:pt x="44" y="19"/>
                  </a:lnTo>
                  <a:lnTo>
                    <a:pt x="41" y="15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508080" y="5299920"/>
              <a:ext cx="59040" cy="3708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10"/>
                  </a:lnTo>
                  <a:lnTo>
                    <a:pt x="39" y="26"/>
                  </a:lnTo>
                  <a:lnTo>
                    <a:pt x="42" y="26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554520" y="5272920"/>
              <a:ext cx="151200" cy="13680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5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724200" y="2860560"/>
            <a:ext cx="1524240" cy="317520"/>
            <a:chOff x="3724200" y="2860560"/>
            <a:chExt cx="1524240" cy="317520"/>
          </a:xfrm>
        </p:grpSpPr>
        <p:sp>
          <p:nvSpPr>
            <p:cNvPr id="711" name=""/>
            <p:cNvSpPr/>
            <p:nvPr/>
          </p:nvSpPr>
          <p:spPr>
            <a:xfrm>
              <a:off x="3724200" y="3138480"/>
              <a:ext cx="65160" cy="3960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5"/>
                  </a:lnTo>
                  <a:lnTo>
                    <a:pt x="38" y="9"/>
                  </a:lnTo>
                  <a:lnTo>
                    <a:pt x="41" y="6"/>
                  </a:lnTo>
                  <a:lnTo>
                    <a:pt x="41" y="3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19600" y="309240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7" y="26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916440" y="304812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5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013280" y="300672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108320" y="2965320"/>
              <a:ext cx="76320" cy="4140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3" y="16"/>
                  </a:moveTo>
                  <a:lnTo>
                    <a:pt x="0" y="20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210200" y="29304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311720" y="2900520"/>
              <a:ext cx="69840" cy="29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2" y="19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9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413240" y="2874960"/>
              <a:ext cx="74520" cy="3024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5" y="16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12" y="6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19440" y="2860560"/>
              <a:ext cx="74880" cy="23760"/>
            </a:xfrm>
            <a:custGeom>
              <a:avLst/>
              <a:gdLst/>
              <a:ahLst/>
              <a:rect l="l" t="t" r="r" b="b"/>
              <a:pathLst>
                <a:path w="47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15" y="12"/>
                  </a:lnTo>
                  <a:lnTo>
                    <a:pt x="15" y="6"/>
                  </a:lnTo>
                  <a:lnTo>
                    <a:pt x="12" y="12"/>
                  </a:lnTo>
                  <a:lnTo>
                    <a:pt x="41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624560" y="2860560"/>
              <a:ext cx="71280" cy="14400"/>
            </a:xfrm>
            <a:custGeom>
              <a:avLst/>
              <a:gdLst/>
              <a:ahLst/>
              <a:rect l="l" t="t" r="r" b="b"/>
              <a:pathLst>
                <a:path w="45" h="9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9"/>
                  </a:lnTo>
                  <a:lnTo>
                    <a:pt x="10" y="9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1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26080" y="286560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9" y="16"/>
                  </a:lnTo>
                  <a:lnTo>
                    <a:pt x="42" y="19"/>
                  </a:lnTo>
                  <a:lnTo>
                    <a:pt x="45" y="19"/>
                  </a:lnTo>
                  <a:lnTo>
                    <a:pt x="48" y="16"/>
                  </a:lnTo>
                  <a:lnTo>
                    <a:pt x="48" y="12"/>
                  </a:lnTo>
                  <a:lnTo>
                    <a:pt x="45" y="9"/>
                  </a:lnTo>
                  <a:lnTo>
                    <a:pt x="32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832280" y="289080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" y="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929120" y="2930400"/>
              <a:ext cx="65160" cy="46080"/>
            </a:xfrm>
            <a:custGeom>
              <a:avLst/>
              <a:gdLst/>
              <a:ahLst/>
              <a:rect l="l" t="t" r="r" b="b"/>
              <a:pathLst>
                <a:path w="41" h="2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16" y="1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6"/>
                  </a:lnTo>
                  <a:lnTo>
                    <a:pt x="41" y="22"/>
                  </a:lnTo>
                  <a:lnTo>
                    <a:pt x="38" y="19"/>
                  </a:lnTo>
                  <a:lnTo>
                    <a:pt x="19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019840" y="2986200"/>
              <a:ext cx="66600" cy="5076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10"/>
                  </a:lnTo>
                  <a:lnTo>
                    <a:pt x="35" y="32"/>
                  </a:lnTo>
                  <a:lnTo>
                    <a:pt x="39" y="32"/>
                  </a:lnTo>
                  <a:lnTo>
                    <a:pt x="42" y="29"/>
                  </a:lnTo>
                  <a:lnTo>
                    <a:pt x="42" y="26"/>
                  </a:lnTo>
                  <a:lnTo>
                    <a:pt x="39" y="2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106960" y="304812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9" y="15"/>
                  </a:lnTo>
                  <a:lnTo>
                    <a:pt x="9" y="12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070600" y="3002040"/>
              <a:ext cx="177840" cy="16668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0" y="80"/>
                  </a:moveTo>
                  <a:lnTo>
                    <a:pt x="112" y="105"/>
                  </a:lnTo>
                  <a:lnTo>
                    <a:pt x="67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7369200" y="2824200"/>
            <a:ext cx="1074600" cy="344520"/>
            <a:chOff x="7369200" y="2824200"/>
            <a:chExt cx="1074600" cy="344520"/>
          </a:xfrm>
        </p:grpSpPr>
        <p:sp>
          <p:nvSpPr>
            <p:cNvPr id="728" name=""/>
            <p:cNvSpPr/>
            <p:nvPr/>
          </p:nvSpPr>
          <p:spPr>
            <a:xfrm>
              <a:off x="7369200" y="312912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5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7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466040" y="308304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562880" y="304164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2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19" y="1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58280" y="300204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26" y="16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3" y="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759800" y="296064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6" y="16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2" y="7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856640" y="292104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25" y="16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22" y="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956720" y="2884320"/>
              <a:ext cx="7128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4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16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13" y="1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058240" y="28494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159760" y="2828880"/>
              <a:ext cx="7128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26" y="1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2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261280" y="28242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6" y="10"/>
                  </a:lnTo>
                  <a:lnTo>
                    <a:pt x="22" y="10"/>
                  </a:lnTo>
                  <a:lnTo>
                    <a:pt x="22" y="7"/>
                  </a:lnTo>
                  <a:lnTo>
                    <a:pt x="19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367840" y="283536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16" y="12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19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5867280" y="3452760"/>
            <a:ext cx="2727000" cy="433080"/>
            <a:chOff x="5867280" y="3452760"/>
            <a:chExt cx="2727000" cy="433080"/>
          </a:xfrm>
        </p:grpSpPr>
        <p:sp>
          <p:nvSpPr>
            <p:cNvPr id="740" name=""/>
            <p:cNvSpPr/>
            <p:nvPr/>
          </p:nvSpPr>
          <p:spPr>
            <a:xfrm>
              <a:off x="5867280" y="3859200"/>
              <a:ext cx="63720" cy="26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958000" y="3836160"/>
              <a:ext cx="6768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048720" y="3813840"/>
              <a:ext cx="680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143760" y="3791160"/>
              <a:ext cx="62280" cy="266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233400" y="3768480"/>
              <a:ext cx="680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328800" y="3745800"/>
              <a:ext cx="63720" cy="26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419520" y="3723120"/>
              <a:ext cx="680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510600" y="3700440"/>
              <a:ext cx="680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605640" y="3682080"/>
              <a:ext cx="6768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696720" y="3659400"/>
              <a:ext cx="68040" cy="280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791760" y="3636720"/>
              <a:ext cx="68040" cy="2844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882840" y="3619440"/>
              <a:ext cx="66600" cy="2268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977880" y="3597120"/>
              <a:ext cx="66600" cy="2664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067520" y="3578760"/>
              <a:ext cx="6768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62560" y="3560040"/>
              <a:ext cx="6804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2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3" y="3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253280" y="3541680"/>
              <a:ext cx="6804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348680" y="3524760"/>
              <a:ext cx="68040" cy="2268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443720" y="3506400"/>
              <a:ext cx="6804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534800" y="3492360"/>
              <a:ext cx="6768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629840" y="3479400"/>
              <a:ext cx="68040" cy="1800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724880" y="3465360"/>
              <a:ext cx="6804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820280" y="3456720"/>
              <a:ext cx="68040" cy="183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915320" y="3452760"/>
              <a:ext cx="68040" cy="1692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41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010720" y="3452760"/>
              <a:ext cx="68040" cy="126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3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22" y="9"/>
                  </a:lnTo>
                  <a:lnTo>
                    <a:pt x="22" y="3"/>
                  </a:lnTo>
                  <a:lnTo>
                    <a:pt x="19" y="9"/>
                  </a:lnTo>
                  <a:lnTo>
                    <a:pt x="41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105760" y="3452760"/>
              <a:ext cx="68040" cy="1692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5" y="12"/>
                  </a:lnTo>
                  <a:lnTo>
                    <a:pt x="48" y="9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41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201160" y="3461400"/>
              <a:ext cx="67680" cy="2232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9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6"/>
                  </a:lnTo>
                  <a:lnTo>
                    <a:pt x="1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291880" y="3479400"/>
              <a:ext cx="68040" cy="266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12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1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386920" y="3502080"/>
              <a:ext cx="62280" cy="3564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" y="12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4" y="22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472240" y="3537720"/>
              <a:ext cx="63720" cy="4104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9" y="29"/>
                  </a:lnTo>
                  <a:lnTo>
                    <a:pt x="42" y="29"/>
                  </a:lnTo>
                  <a:lnTo>
                    <a:pt x="45" y="26"/>
                  </a:lnTo>
                  <a:lnTo>
                    <a:pt x="45" y="23"/>
                  </a:lnTo>
                  <a:lnTo>
                    <a:pt x="42" y="1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559000" y="3583080"/>
              <a:ext cx="35280" cy="3096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22" y="22"/>
                  </a:lnTo>
                  <a:lnTo>
                    <a:pt x="22" y="19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6477120" y="4114800"/>
            <a:ext cx="1904400" cy="515880"/>
            <a:chOff x="6477120" y="4114800"/>
            <a:chExt cx="1904400" cy="515880"/>
          </a:xfrm>
        </p:grpSpPr>
        <p:sp>
          <p:nvSpPr>
            <p:cNvPr id="771" name=""/>
            <p:cNvSpPr/>
            <p:nvPr/>
          </p:nvSpPr>
          <p:spPr>
            <a:xfrm>
              <a:off x="6477120" y="4589280"/>
              <a:ext cx="5580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6" y="26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551280" y="4549680"/>
              <a:ext cx="5580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4" y="25"/>
                  </a:lnTo>
                  <a:lnTo>
                    <a:pt x="7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630840" y="4513320"/>
              <a:ext cx="55800" cy="363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06440" y="4473360"/>
              <a:ext cx="5580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85640" y="4438440"/>
              <a:ext cx="5436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60160" y="4397400"/>
              <a:ext cx="59400" cy="3492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2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939360" y="4362480"/>
              <a:ext cx="5580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018920" y="4325760"/>
              <a:ext cx="5544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1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13" y="1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098120" y="4295520"/>
              <a:ext cx="5436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176240" y="4260600"/>
              <a:ext cx="554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4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7" y="22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55440" y="4230720"/>
              <a:ext cx="554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39" y="13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5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334640" y="4205160"/>
              <a:ext cx="5940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413840" y="4179960"/>
              <a:ext cx="5940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3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9" y="6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497000" y="4159080"/>
              <a:ext cx="5544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576200" y="4138560"/>
              <a:ext cx="5940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659360" y="4128840"/>
              <a:ext cx="59400" cy="208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42520" y="4119480"/>
              <a:ext cx="59040" cy="1908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28" y="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25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25320" y="4114800"/>
              <a:ext cx="58320" cy="1404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3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908480" y="4114800"/>
              <a:ext cx="57960" cy="1404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991280" y="4114800"/>
              <a:ext cx="5796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2"/>
                  </a:lnTo>
                  <a:lnTo>
                    <a:pt x="44" y="12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074440" y="4119480"/>
              <a:ext cx="5796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9" y="9"/>
                  </a:lnTo>
                  <a:lnTo>
                    <a:pt x="41" y="12"/>
                  </a:lnTo>
                  <a:lnTo>
                    <a:pt x="44" y="12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157600" y="4128840"/>
              <a:ext cx="57960" cy="2088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22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2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240760" y="4138560"/>
              <a:ext cx="5796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7"/>
                  </a:lnTo>
                  <a:lnTo>
                    <a:pt x="44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323560" y="4149720"/>
              <a:ext cx="5796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7010280" y="4930920"/>
            <a:ext cx="1584000" cy="555120"/>
            <a:chOff x="7010280" y="4930920"/>
            <a:chExt cx="1584000" cy="555120"/>
          </a:xfrm>
        </p:grpSpPr>
        <p:sp>
          <p:nvSpPr>
            <p:cNvPr id="796" name=""/>
            <p:cNvSpPr/>
            <p:nvPr/>
          </p:nvSpPr>
          <p:spPr>
            <a:xfrm>
              <a:off x="7010280" y="5443560"/>
              <a:ext cx="60120" cy="424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5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92720" y="5398920"/>
              <a:ext cx="61560" cy="3888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176240" y="5356440"/>
              <a:ext cx="61560" cy="3744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264080" y="5311800"/>
              <a:ext cx="60120" cy="3744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35" y="13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2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346520" y="5268960"/>
              <a:ext cx="61560" cy="3744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34360" y="5224680"/>
              <a:ext cx="61560" cy="3744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13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10" y="1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18240" y="5181840"/>
              <a:ext cx="60120" cy="424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604640" y="5142240"/>
              <a:ext cx="61560" cy="3924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4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88520" y="5104800"/>
              <a:ext cx="65520" cy="374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26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2" y="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776360" y="5067360"/>
              <a:ext cx="61560" cy="3744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864200" y="5028120"/>
              <a:ext cx="60120" cy="3888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952040" y="4995360"/>
              <a:ext cx="60480" cy="3240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9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6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038440" y="4968360"/>
              <a:ext cx="65880" cy="320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23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19" y="7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130600" y="4945680"/>
              <a:ext cx="61560" cy="273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23" y="1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19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218440" y="4930920"/>
              <a:ext cx="65880" cy="270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1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13" y="3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310240" y="4930920"/>
              <a:ext cx="65880" cy="1476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402400" y="4930920"/>
              <a:ext cx="65880" cy="270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3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2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494200" y="4952880"/>
              <a:ext cx="65880" cy="270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582400" y="4973400"/>
              <a:ext cx="11880" cy="219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ound ar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"/>
          <p:cNvSpPr/>
          <p:nvPr/>
        </p:nvSpPr>
        <p:spPr>
          <a:xfrm>
            <a:off x="5257800" y="3124080"/>
            <a:ext cx="2131920" cy="6696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1905120" y="3962520"/>
            <a:ext cx="309240" cy="186840"/>
            <a:chOff x="1905120" y="3962520"/>
            <a:chExt cx="309240" cy="186840"/>
          </a:xfrm>
        </p:grpSpPr>
        <p:sp>
          <p:nvSpPr>
            <p:cNvPr id="818" name=""/>
            <p:cNvSpPr/>
            <p:nvPr/>
          </p:nvSpPr>
          <p:spPr>
            <a:xfrm>
              <a:off x="1905120" y="3962520"/>
              <a:ext cx="45720" cy="6156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6" y="39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965240" y="4048200"/>
              <a:ext cx="55440" cy="5652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0" y="4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3" y="32"/>
                  </a:lnTo>
                  <a:lnTo>
                    <a:pt x="29" y="36"/>
                  </a:lnTo>
                  <a:lnTo>
                    <a:pt x="32" y="36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6"/>
                  </a:lnTo>
                  <a:lnTo>
                    <a:pt x="26" y="23"/>
                  </a:lnTo>
                  <a:lnTo>
                    <a:pt x="26" y="26"/>
                  </a:lnTo>
                  <a:lnTo>
                    <a:pt x="29" y="26"/>
                  </a:lnTo>
                  <a:lnTo>
                    <a:pt x="19" y="13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046240" y="4089240"/>
              <a:ext cx="71280" cy="4104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4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10" y="26"/>
                  </a:lnTo>
                  <a:lnTo>
                    <a:pt x="16" y="22"/>
                  </a:lnTo>
                  <a:lnTo>
                    <a:pt x="20" y="22"/>
                  </a:lnTo>
                  <a:lnTo>
                    <a:pt x="29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052720" y="3967200"/>
              <a:ext cx="161640" cy="18216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79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7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600200" y="5029200"/>
            <a:ext cx="1447920" cy="304920"/>
            <a:chOff x="1600200" y="5029200"/>
            <a:chExt cx="1447920" cy="304920"/>
          </a:xfrm>
        </p:grpSpPr>
        <p:sp>
          <p:nvSpPr>
            <p:cNvPr id="823" name=""/>
            <p:cNvSpPr/>
            <p:nvPr/>
          </p:nvSpPr>
          <p:spPr>
            <a:xfrm>
              <a:off x="1600200" y="5311440"/>
              <a:ext cx="25920" cy="223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637280" y="5294880"/>
              <a:ext cx="25920" cy="194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674360" y="5274360"/>
              <a:ext cx="25920" cy="2016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711800" y="5254920"/>
              <a:ext cx="2772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748160" y="5238360"/>
              <a:ext cx="2772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787040" y="5218920"/>
              <a:ext cx="25920" cy="1908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824480" y="5202360"/>
              <a:ext cx="2772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61560" y="5186160"/>
              <a:ext cx="2772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900440" y="5166720"/>
              <a:ext cx="25920" cy="194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937520" y="515304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974960" y="513684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013840" y="5121360"/>
              <a:ext cx="2772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50560" y="510804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089440" y="5091480"/>
              <a:ext cx="2772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126520" y="5078520"/>
              <a:ext cx="2772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165400" y="506808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04640" y="505872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243520" y="5048640"/>
              <a:ext cx="2772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282400" y="5042160"/>
              <a:ext cx="25920" cy="1296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319480" y="503208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358360" y="5029200"/>
              <a:ext cx="2772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397600" y="5029200"/>
              <a:ext cx="27720" cy="1008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36480" y="5029200"/>
              <a:ext cx="27720" cy="1008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475360" y="5029200"/>
              <a:ext cx="2772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514240" y="503208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553120" y="5042160"/>
              <a:ext cx="2772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592000" y="5048640"/>
              <a:ext cx="2772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30880" y="5061960"/>
              <a:ext cx="25920" cy="1620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5" y="13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668320" y="5075280"/>
              <a:ext cx="2772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707200" y="5091480"/>
              <a:ext cx="25560" cy="194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744280" y="5111280"/>
              <a:ext cx="25560" cy="190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81000" y="5130720"/>
              <a:ext cx="25920" cy="223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18080" y="5153040"/>
              <a:ext cx="25920" cy="2340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853360" y="5176800"/>
              <a:ext cx="27720" cy="2556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890800" y="5202360"/>
              <a:ext cx="25560" cy="26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925720" y="5229360"/>
              <a:ext cx="25920" cy="255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2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961000" y="5254920"/>
              <a:ext cx="25560" cy="26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81520" y="5235480"/>
              <a:ext cx="66600" cy="9864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1371600" y="4343400"/>
            <a:ext cx="1143000" cy="304920"/>
            <a:chOff x="1371600" y="4343400"/>
            <a:chExt cx="1143000" cy="304920"/>
          </a:xfrm>
        </p:grpSpPr>
        <p:sp>
          <p:nvSpPr>
            <p:cNvPr id="862" name=""/>
            <p:cNvSpPr/>
            <p:nvPr/>
          </p:nvSpPr>
          <p:spPr>
            <a:xfrm>
              <a:off x="1371600" y="4625640"/>
              <a:ext cx="20520" cy="223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400760" y="4609080"/>
              <a:ext cx="20520" cy="194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430280" y="4588560"/>
              <a:ext cx="20520" cy="2016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459440" y="4569120"/>
              <a:ext cx="2196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488600" y="4552560"/>
              <a:ext cx="2196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519200" y="4533120"/>
              <a:ext cx="20520" cy="1908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548720" y="4516560"/>
              <a:ext cx="2160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577880" y="4500360"/>
              <a:ext cx="2160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608480" y="4480920"/>
              <a:ext cx="20520" cy="194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638000" y="4467240"/>
              <a:ext cx="2196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667520" y="4451040"/>
              <a:ext cx="2160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698120" y="4435560"/>
              <a:ext cx="2196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726920" y="4422240"/>
              <a:ext cx="2196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757880" y="4405680"/>
              <a:ext cx="2196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87040" y="4392720"/>
              <a:ext cx="21600" cy="190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818000" y="4382280"/>
              <a:ext cx="2196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848600" y="4372920"/>
              <a:ext cx="2160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879200" y="4362840"/>
              <a:ext cx="2196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10160" y="4356360"/>
              <a:ext cx="20520" cy="1296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9320" y="4346280"/>
              <a:ext cx="2160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70280" y="4343400"/>
              <a:ext cx="2196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00880" y="4343400"/>
              <a:ext cx="21600" cy="1008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031480" y="4343400"/>
              <a:ext cx="21960" cy="1008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62440" y="4343400"/>
              <a:ext cx="2196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093040" y="4346280"/>
              <a:ext cx="2196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23640" y="4356360"/>
              <a:ext cx="21960" cy="1296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154600" y="4362840"/>
              <a:ext cx="21960" cy="16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185200" y="4376160"/>
              <a:ext cx="20520" cy="1620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5" y="13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214720" y="4389480"/>
              <a:ext cx="21600" cy="194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245320" y="4405680"/>
              <a:ext cx="20160" cy="194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274840" y="4425480"/>
              <a:ext cx="20160" cy="190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303640" y="4444920"/>
              <a:ext cx="20520" cy="223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333160" y="4467240"/>
              <a:ext cx="20520" cy="2340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360880" y="4491000"/>
              <a:ext cx="21960" cy="2556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90400" y="4516560"/>
              <a:ext cx="20160" cy="26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17760" y="4543560"/>
              <a:ext cx="20520" cy="255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2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445840" y="4569120"/>
              <a:ext cx="20160" cy="2664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462040" y="4549680"/>
              <a:ext cx="52560" cy="9864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1601640" y="313380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828800" y="388620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828800" y="464832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52480" y="5410080"/>
            <a:ext cx="6988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EC8C-3FE2-4F58-836D-AD087D1B098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528F6-600D-4976-A776-460CA8C3D1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nection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5" name=""/>
          <p:cNvSpPr/>
          <p:nvPr/>
        </p:nvSpPr>
        <p:spPr>
          <a:xfrm>
            <a:off x="533520" y="2514600"/>
            <a:ext cx="8076960" cy="3397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462720" y="4627440"/>
            <a:ext cx="318960" cy="758880"/>
            <a:chOff x="6462720" y="4627440"/>
            <a:chExt cx="318960" cy="758880"/>
          </a:xfrm>
        </p:grpSpPr>
        <p:sp>
          <p:nvSpPr>
            <p:cNvPr id="907" name=""/>
            <p:cNvSpPr/>
            <p:nvPr/>
          </p:nvSpPr>
          <p:spPr>
            <a:xfrm>
              <a:off x="6462720" y="4627440"/>
              <a:ext cx="244440" cy="617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626160" y="520380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0" y="42"/>
                  </a:moveTo>
                  <a:lnTo>
                    <a:pt x="89" y="115"/>
                  </a:lnTo>
                  <a:lnTo>
                    <a:pt x="9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1601640" y="313380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601640" y="389268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601640" y="465300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601640" y="5411880"/>
            <a:ext cx="6988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601640" y="5751360"/>
            <a:ext cx="6993000" cy="4604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811520" y="5837400"/>
            <a:ext cx="38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574000" y="5837400"/>
            <a:ext cx="54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2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33324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6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093920" y="5837400"/>
            <a:ext cx="657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0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610600" y="5837400"/>
            <a:ext cx="38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8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371640" y="5837400"/>
            <a:ext cx="54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2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13196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6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890840" y="5837400"/>
            <a:ext cx="60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0: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1601640" y="3168720"/>
            <a:ext cx="319320" cy="758880"/>
            <a:chOff x="1601640" y="3168720"/>
            <a:chExt cx="319320" cy="758880"/>
          </a:xfrm>
        </p:grpSpPr>
        <p:sp>
          <p:nvSpPr>
            <p:cNvPr id="923" name=""/>
            <p:cNvSpPr/>
            <p:nvPr/>
          </p:nvSpPr>
          <p:spPr>
            <a:xfrm>
              <a:off x="1601640" y="3168720"/>
              <a:ext cx="24300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763640" y="3746520"/>
              <a:ext cx="157320" cy="181080"/>
            </a:xfrm>
            <a:custGeom>
              <a:avLst/>
              <a:gdLst/>
              <a:ahLst/>
              <a:rect l="l" t="t" r="r" b="b"/>
              <a:pathLst>
                <a:path w="99" h="114">
                  <a:moveTo>
                    <a:pt x="0" y="41"/>
                  </a:moveTo>
                  <a:lnTo>
                    <a:pt x="89" y="114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2817720" y="4687920"/>
            <a:ext cx="319320" cy="758880"/>
            <a:chOff x="2817720" y="4687920"/>
            <a:chExt cx="319320" cy="758880"/>
          </a:xfrm>
        </p:grpSpPr>
        <p:sp>
          <p:nvSpPr>
            <p:cNvPr id="926" name=""/>
            <p:cNvSpPr/>
            <p:nvPr/>
          </p:nvSpPr>
          <p:spPr>
            <a:xfrm>
              <a:off x="2817720" y="4687920"/>
              <a:ext cx="24300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979720" y="526428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2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2209680" y="3927600"/>
            <a:ext cx="319320" cy="760320"/>
            <a:chOff x="2209680" y="3927600"/>
            <a:chExt cx="319320" cy="760320"/>
          </a:xfrm>
        </p:grpSpPr>
        <p:sp>
          <p:nvSpPr>
            <p:cNvPr id="929" name=""/>
            <p:cNvSpPr/>
            <p:nvPr/>
          </p:nvSpPr>
          <p:spPr>
            <a:xfrm>
              <a:off x="2209680" y="3927600"/>
              <a:ext cx="24300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71680" y="450540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1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5856120" y="3927600"/>
            <a:ext cx="319320" cy="760320"/>
            <a:chOff x="5856120" y="3927600"/>
            <a:chExt cx="319320" cy="760320"/>
          </a:xfrm>
        </p:grpSpPr>
        <p:sp>
          <p:nvSpPr>
            <p:cNvPr id="932" name=""/>
            <p:cNvSpPr/>
            <p:nvPr/>
          </p:nvSpPr>
          <p:spPr>
            <a:xfrm>
              <a:off x="5856120" y="3927600"/>
              <a:ext cx="243000" cy="61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018120" y="450540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41"/>
                  </a:moveTo>
                  <a:lnTo>
                    <a:pt x="89" y="115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248440" y="3168720"/>
            <a:ext cx="318960" cy="758880"/>
            <a:chOff x="5248440" y="3168720"/>
            <a:chExt cx="318960" cy="758880"/>
          </a:xfrm>
        </p:grpSpPr>
        <p:sp>
          <p:nvSpPr>
            <p:cNvPr id="935" name=""/>
            <p:cNvSpPr/>
            <p:nvPr/>
          </p:nvSpPr>
          <p:spPr>
            <a:xfrm>
              <a:off x="5248440" y="3168720"/>
              <a:ext cx="242640" cy="617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410080" y="3746520"/>
              <a:ext cx="157320" cy="181080"/>
            </a:xfrm>
            <a:custGeom>
              <a:avLst/>
              <a:gdLst/>
              <a:ahLst/>
              <a:rect l="l" t="t" r="r" b="b"/>
              <a:pathLst>
                <a:path w="99" h="114">
                  <a:moveTo>
                    <a:pt x="0" y="41"/>
                  </a:moveTo>
                  <a:lnTo>
                    <a:pt x="89" y="114"/>
                  </a:lnTo>
                  <a:lnTo>
                    <a:pt x="99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3424320" y="3168720"/>
            <a:ext cx="369720" cy="2277720"/>
            <a:chOff x="3424320" y="3168720"/>
            <a:chExt cx="369720" cy="2277720"/>
          </a:xfrm>
        </p:grpSpPr>
        <p:sp>
          <p:nvSpPr>
            <p:cNvPr id="938" name=""/>
            <p:cNvSpPr/>
            <p:nvPr/>
          </p:nvSpPr>
          <p:spPr>
            <a:xfrm flipV="1">
              <a:off x="3424320" y="3320640"/>
              <a:ext cx="284040" cy="212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627360" y="3168720"/>
              <a:ext cx="166680" cy="17136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105" y="108"/>
                  </a:moveTo>
                  <a:lnTo>
                    <a:pt x="64" y="0"/>
                  </a:lnTo>
                  <a:lnTo>
                    <a:pt x="0" y="96"/>
                  </a:lnTo>
                  <a:lnTo>
                    <a:pt x="10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7070760" y="3159000"/>
            <a:ext cx="369720" cy="2277720"/>
            <a:chOff x="7070760" y="3159000"/>
            <a:chExt cx="369720" cy="2277720"/>
          </a:xfrm>
        </p:grpSpPr>
        <p:sp>
          <p:nvSpPr>
            <p:cNvPr id="941" name=""/>
            <p:cNvSpPr/>
            <p:nvPr/>
          </p:nvSpPr>
          <p:spPr>
            <a:xfrm flipV="1">
              <a:off x="7070760" y="3309480"/>
              <a:ext cx="284040" cy="2127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273800" y="3159000"/>
              <a:ext cx="166680" cy="17172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105" y="108"/>
                  </a:moveTo>
                  <a:lnTo>
                    <a:pt x="64" y="0"/>
                  </a:lnTo>
                  <a:lnTo>
                    <a:pt x="0" y="95"/>
                  </a:lnTo>
                  <a:lnTo>
                    <a:pt x="10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538200" y="2865600"/>
            <a:ext cx="917640" cy="4600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37280" y="2951280"/>
            <a:ext cx="584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8200" y="3624120"/>
            <a:ext cx="917640" cy="4604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40880" y="3710160"/>
            <a:ext cx="57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B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38200" y="4383000"/>
            <a:ext cx="917640" cy="4618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40880" y="4459320"/>
            <a:ext cx="57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C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8200" y="5143680"/>
            <a:ext cx="917640" cy="4600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39800" y="5219640"/>
            <a:ext cx="584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ity 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1900080" y="3922560"/>
            <a:ext cx="309600" cy="187560"/>
            <a:chOff x="1900080" y="3922560"/>
            <a:chExt cx="309600" cy="187560"/>
          </a:xfrm>
        </p:grpSpPr>
        <p:sp>
          <p:nvSpPr>
            <p:cNvPr id="952" name=""/>
            <p:cNvSpPr/>
            <p:nvPr/>
          </p:nvSpPr>
          <p:spPr>
            <a:xfrm>
              <a:off x="1900080" y="3922560"/>
              <a:ext cx="46080" cy="619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9" y="35"/>
                  </a:lnTo>
                  <a:lnTo>
                    <a:pt x="23" y="39"/>
                  </a:lnTo>
                  <a:lnTo>
                    <a:pt x="26" y="39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962000" y="4008600"/>
              <a:ext cx="55800" cy="5688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9" y="4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9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8" y="36"/>
                  </a:lnTo>
                  <a:lnTo>
                    <a:pt x="31" y="36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1" y="26"/>
                  </a:lnTo>
                  <a:lnTo>
                    <a:pt x="25" y="23"/>
                  </a:lnTo>
                  <a:lnTo>
                    <a:pt x="25" y="26"/>
                  </a:lnTo>
                  <a:lnTo>
                    <a:pt x="28" y="26"/>
                  </a:lnTo>
                  <a:lnTo>
                    <a:pt x="19" y="13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043000" y="404964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9" y="26"/>
                  </a:lnTo>
                  <a:lnTo>
                    <a:pt x="16" y="22"/>
                  </a:lnTo>
                  <a:lnTo>
                    <a:pt x="19" y="22"/>
                  </a:lnTo>
                  <a:lnTo>
                    <a:pt x="28" y="19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25" y="10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19" y="13"/>
                  </a:lnTo>
                  <a:lnTo>
                    <a:pt x="12" y="16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48040" y="392760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2508120" y="4683240"/>
            <a:ext cx="309600" cy="187200"/>
            <a:chOff x="2508120" y="4683240"/>
            <a:chExt cx="309600" cy="187200"/>
          </a:xfrm>
        </p:grpSpPr>
        <p:sp>
          <p:nvSpPr>
            <p:cNvPr id="957" name=""/>
            <p:cNvSpPr/>
            <p:nvPr/>
          </p:nvSpPr>
          <p:spPr>
            <a:xfrm>
              <a:off x="2508120" y="468324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6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568600" y="476892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20" y="29"/>
                  </a:lnTo>
                  <a:lnTo>
                    <a:pt x="23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6" y="22"/>
                  </a:lnTo>
                  <a:lnTo>
                    <a:pt x="26" y="25"/>
                  </a:lnTo>
                  <a:lnTo>
                    <a:pt x="29" y="25"/>
                  </a:lnTo>
                  <a:lnTo>
                    <a:pt x="20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649600" y="480852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4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4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20" y="23"/>
                  </a:lnTo>
                  <a:lnTo>
                    <a:pt x="29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655720" y="468792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79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7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6762600" y="5432400"/>
            <a:ext cx="308160" cy="187200"/>
            <a:chOff x="6762600" y="5432400"/>
            <a:chExt cx="308160" cy="187200"/>
          </a:xfrm>
        </p:grpSpPr>
        <p:sp>
          <p:nvSpPr>
            <p:cNvPr id="962" name=""/>
            <p:cNvSpPr/>
            <p:nvPr/>
          </p:nvSpPr>
          <p:spPr>
            <a:xfrm>
              <a:off x="6762600" y="5432400"/>
              <a:ext cx="44640" cy="604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8" y="35"/>
                  </a:lnTo>
                  <a:lnTo>
                    <a:pt x="28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823080" y="5518080"/>
              <a:ext cx="55440" cy="558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6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5" y="22"/>
                  </a:lnTo>
                  <a:lnTo>
                    <a:pt x="25" y="25"/>
                  </a:lnTo>
                  <a:lnTo>
                    <a:pt x="29" y="25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904080" y="555768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6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9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08760" y="543708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154560" y="4683240"/>
            <a:ext cx="308160" cy="187200"/>
            <a:chOff x="6154560" y="4683240"/>
            <a:chExt cx="308160" cy="187200"/>
          </a:xfrm>
        </p:grpSpPr>
        <p:sp>
          <p:nvSpPr>
            <p:cNvPr id="967" name=""/>
            <p:cNvSpPr/>
            <p:nvPr/>
          </p:nvSpPr>
          <p:spPr>
            <a:xfrm>
              <a:off x="6154560" y="468324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215040" y="476892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5"/>
                  </a:lnTo>
                  <a:lnTo>
                    <a:pt x="26" y="22"/>
                  </a:lnTo>
                  <a:lnTo>
                    <a:pt x="26" y="25"/>
                  </a:lnTo>
                  <a:lnTo>
                    <a:pt x="29" y="25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296040" y="480852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10" y="26"/>
                  </a:lnTo>
                  <a:lnTo>
                    <a:pt x="16" y="23"/>
                  </a:lnTo>
                  <a:lnTo>
                    <a:pt x="19" y="23"/>
                  </a:lnTo>
                  <a:lnTo>
                    <a:pt x="29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20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300720" y="468792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5546880" y="3922560"/>
            <a:ext cx="309240" cy="187560"/>
            <a:chOff x="5546880" y="3922560"/>
            <a:chExt cx="309240" cy="187560"/>
          </a:xfrm>
        </p:grpSpPr>
        <p:sp>
          <p:nvSpPr>
            <p:cNvPr id="972" name=""/>
            <p:cNvSpPr/>
            <p:nvPr/>
          </p:nvSpPr>
          <p:spPr>
            <a:xfrm>
              <a:off x="5546880" y="3922560"/>
              <a:ext cx="45720" cy="619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10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6" y="39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607000" y="4008600"/>
              <a:ext cx="55440" cy="5688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0" y="4"/>
                  </a:move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3" y="32"/>
                  </a:lnTo>
                  <a:lnTo>
                    <a:pt x="29" y="36"/>
                  </a:lnTo>
                  <a:lnTo>
                    <a:pt x="32" y="36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6"/>
                  </a:lnTo>
                  <a:lnTo>
                    <a:pt x="26" y="23"/>
                  </a:lnTo>
                  <a:lnTo>
                    <a:pt x="26" y="26"/>
                  </a:lnTo>
                  <a:lnTo>
                    <a:pt x="29" y="26"/>
                  </a:lnTo>
                  <a:lnTo>
                    <a:pt x="19" y="13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688000" y="404964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13"/>
                  </a:moveTo>
                  <a:lnTo>
                    <a:pt x="4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10" y="26"/>
                  </a:lnTo>
                  <a:lnTo>
                    <a:pt x="16" y="22"/>
                  </a:lnTo>
                  <a:lnTo>
                    <a:pt x="20" y="22"/>
                  </a:lnTo>
                  <a:lnTo>
                    <a:pt x="29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6" y="10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20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694480" y="3927600"/>
              <a:ext cx="16164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79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79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3116160" y="5442120"/>
            <a:ext cx="308160" cy="187200"/>
            <a:chOff x="3116160" y="5442120"/>
            <a:chExt cx="308160" cy="187200"/>
          </a:xfrm>
        </p:grpSpPr>
        <p:sp>
          <p:nvSpPr>
            <p:cNvPr id="977" name=""/>
            <p:cNvSpPr/>
            <p:nvPr/>
          </p:nvSpPr>
          <p:spPr>
            <a:xfrm>
              <a:off x="3116160" y="5442120"/>
              <a:ext cx="46080" cy="601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9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19" y="35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9" y="35"/>
                  </a:lnTo>
                  <a:lnTo>
                    <a:pt x="29" y="3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176640" y="552780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10" y="3"/>
                  </a:move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10" y="16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9" y="35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5" y="29"/>
                  </a:lnTo>
                  <a:lnTo>
                    <a:pt x="32" y="26"/>
                  </a:lnTo>
                  <a:lnTo>
                    <a:pt x="26" y="23"/>
                  </a:lnTo>
                  <a:lnTo>
                    <a:pt x="26" y="26"/>
                  </a:lnTo>
                  <a:lnTo>
                    <a:pt x="29" y="26"/>
                  </a:lnTo>
                  <a:lnTo>
                    <a:pt x="19" y="1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257640" y="556884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7" y="13"/>
                  </a:moveTo>
                  <a:lnTo>
                    <a:pt x="3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10" y="25"/>
                  </a:lnTo>
                  <a:lnTo>
                    <a:pt x="16" y="22"/>
                  </a:lnTo>
                  <a:lnTo>
                    <a:pt x="19" y="22"/>
                  </a:lnTo>
                  <a:lnTo>
                    <a:pt x="29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6" y="9"/>
                  </a:lnTo>
                  <a:lnTo>
                    <a:pt x="16" y="13"/>
                  </a:lnTo>
                  <a:lnTo>
                    <a:pt x="16" y="19"/>
                  </a:lnTo>
                  <a:lnTo>
                    <a:pt x="19" y="13"/>
                  </a:lnTo>
                  <a:lnTo>
                    <a:pt x="13" y="16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262320" y="544680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80" y="115"/>
                  </a:moveTo>
                  <a:lnTo>
                    <a:pt x="102" y="0"/>
                  </a:lnTo>
                  <a:lnTo>
                    <a:pt x="0" y="48"/>
                  </a:lnTo>
                  <a:lnTo>
                    <a:pt x="8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1900080" y="3467160"/>
            <a:ext cx="3956040" cy="471600"/>
            <a:chOff x="1900080" y="3467160"/>
            <a:chExt cx="3956040" cy="471600"/>
          </a:xfrm>
        </p:grpSpPr>
        <p:sp>
          <p:nvSpPr>
            <p:cNvPr id="982" name=""/>
            <p:cNvSpPr/>
            <p:nvPr/>
          </p:nvSpPr>
          <p:spPr>
            <a:xfrm>
              <a:off x="1900080" y="390384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01960" y="387828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103480" y="3846600"/>
              <a:ext cx="71280" cy="3168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205000" y="38163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305080" y="379080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411280" y="3760920"/>
              <a:ext cx="71640" cy="2988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513160" y="37353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614680" y="371016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720880" y="367992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22400" y="365904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4280" y="363384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030480" y="361008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130560" y="358920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236760" y="356400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338640" y="354348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444840" y="352728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551400" y="351324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657600" y="34974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763800" y="3487680"/>
              <a:ext cx="71640" cy="205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865680" y="3471840"/>
              <a:ext cx="7596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971880" y="346716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78440" y="3467160"/>
              <a:ext cx="75960" cy="158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184640" y="3467160"/>
              <a:ext cx="76320" cy="158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290840" y="346716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397400" y="347184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503600" y="348768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610160" y="349740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716360" y="3517920"/>
              <a:ext cx="7164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5" y="13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818240" y="353844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924440" y="3564000"/>
              <a:ext cx="6984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025960" y="3594240"/>
              <a:ext cx="69840" cy="29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4" y="16"/>
                  </a:lnTo>
                  <a:lnTo>
                    <a:pt x="44" y="13"/>
                  </a:lnTo>
                  <a:lnTo>
                    <a:pt x="41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126040" y="362412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27560" y="3659040"/>
              <a:ext cx="7164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24400" y="3695760"/>
              <a:ext cx="76320" cy="3960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425920" y="373536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521320" y="377676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2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1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618160" y="381636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673600" y="3786120"/>
              <a:ext cx="182520" cy="15264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2508120" y="4216320"/>
            <a:ext cx="3954600" cy="471600"/>
            <a:chOff x="2508120" y="4216320"/>
            <a:chExt cx="3954600" cy="471600"/>
          </a:xfrm>
        </p:grpSpPr>
        <p:sp>
          <p:nvSpPr>
            <p:cNvPr id="1021" name=""/>
            <p:cNvSpPr/>
            <p:nvPr/>
          </p:nvSpPr>
          <p:spPr>
            <a:xfrm>
              <a:off x="2508120" y="465300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3" y="19"/>
                  </a:lnTo>
                  <a:lnTo>
                    <a:pt x="6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0000" y="462744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711520" y="4595760"/>
              <a:ext cx="69840" cy="31680"/>
            </a:xfrm>
            <a:custGeom>
              <a:avLst/>
              <a:gdLst/>
              <a:ahLst/>
              <a:rect l="l" t="t" r="r" b="b"/>
              <a:pathLst>
                <a:path w="44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11600" y="456552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13120" y="454032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19320" y="451008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121200" y="448452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222720" y="445932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328920" y="442908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430440" y="440856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530520" y="438300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637080" y="435924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738600" y="433872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844800" y="43131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946680" y="429264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32" y="13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9" y="3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052880" y="4278240"/>
              <a:ext cx="76320" cy="2376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159080" y="426240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65640" y="424656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4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371840" y="4237200"/>
              <a:ext cx="71640" cy="205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1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473720" y="4221000"/>
              <a:ext cx="7596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8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579920" y="4216320"/>
              <a:ext cx="76320" cy="208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86480" y="4216320"/>
              <a:ext cx="75960" cy="158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792680" y="4216320"/>
              <a:ext cx="76320" cy="1584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898880" y="4216320"/>
              <a:ext cx="76320" cy="208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005440" y="422100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111640" y="42372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8" y="10"/>
                  </a:lnTo>
                  <a:lnTo>
                    <a:pt x="48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18200" y="4246560"/>
              <a:ext cx="7596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24400" y="4267080"/>
              <a:ext cx="6984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4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425920" y="4287960"/>
              <a:ext cx="74880" cy="2988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7" y="16"/>
                  </a:lnTo>
                  <a:lnTo>
                    <a:pt x="47" y="13"/>
                  </a:lnTo>
                  <a:lnTo>
                    <a:pt x="44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530680" y="431316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9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3"/>
                  </a:lnTo>
                  <a:lnTo>
                    <a:pt x="4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632560" y="434340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3"/>
                  </a:lnTo>
                  <a:lnTo>
                    <a:pt x="42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734080" y="437364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2" y="19"/>
                  </a:lnTo>
                  <a:lnTo>
                    <a:pt x="38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3"/>
                  </a:lnTo>
                  <a:lnTo>
                    <a:pt x="3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835600" y="4408560"/>
              <a:ext cx="71640" cy="363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5" y="20"/>
                  </a:lnTo>
                  <a:lnTo>
                    <a:pt x="45" y="16"/>
                  </a:lnTo>
                  <a:lnTo>
                    <a:pt x="41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932440" y="4444920"/>
              <a:ext cx="74520" cy="3960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6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44" y="16"/>
                  </a:lnTo>
                  <a:lnTo>
                    <a:pt x="2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032520" y="448452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9" y="26"/>
                  </a:lnTo>
                  <a:lnTo>
                    <a:pt x="42" y="26"/>
                  </a:lnTo>
                  <a:lnTo>
                    <a:pt x="45" y="23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129360" y="452592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1" y="16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226200" y="456552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4" y="23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281640" y="4535640"/>
              <a:ext cx="181080" cy="152280"/>
            </a:xfrm>
            <a:custGeom>
              <a:avLst/>
              <a:gdLst/>
              <a:ahLst/>
              <a:rect l="l" t="t" r="r" b="b"/>
              <a:pathLst>
                <a:path w="114" h="96">
                  <a:moveTo>
                    <a:pt x="0" y="96"/>
                  </a:moveTo>
                  <a:lnTo>
                    <a:pt x="114" y="89"/>
                  </a:lnTo>
                  <a:lnTo>
                    <a:pt x="44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3116160" y="4986360"/>
            <a:ext cx="3954600" cy="471600"/>
            <a:chOff x="3116160" y="4986360"/>
            <a:chExt cx="3954600" cy="471600"/>
          </a:xfrm>
        </p:grpSpPr>
        <p:sp>
          <p:nvSpPr>
            <p:cNvPr id="1060" name=""/>
            <p:cNvSpPr/>
            <p:nvPr/>
          </p:nvSpPr>
          <p:spPr>
            <a:xfrm>
              <a:off x="3116160" y="5421240"/>
              <a:ext cx="7164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23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18040" y="5396040"/>
              <a:ext cx="69840" cy="29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17760" y="536580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419640" y="53355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521160" y="531036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627360" y="528012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728880" y="52545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830760" y="522936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936960" y="5199120"/>
              <a:ext cx="6984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037040" y="517860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138560" y="515304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245120" y="512748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346640" y="5108400"/>
              <a:ext cx="75960" cy="2412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452840" y="508320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554360" y="506268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32" y="13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29" y="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660920" y="504684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767120" y="503244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873680" y="50166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979880" y="5006880"/>
              <a:ext cx="69840" cy="2088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081760" y="4991040"/>
              <a:ext cx="74520" cy="255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3"/>
                  </a:lnTo>
                  <a:lnTo>
                    <a:pt x="44" y="10"/>
                  </a:lnTo>
                  <a:lnTo>
                    <a:pt x="47" y="7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8" y="3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187960" y="4986360"/>
              <a:ext cx="7452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294160" y="4986360"/>
              <a:ext cx="74880" cy="15840"/>
            </a:xfrm>
            <a:custGeom>
              <a:avLst/>
              <a:gdLst/>
              <a:ahLst/>
              <a:rect l="l" t="t" r="r" b="b"/>
              <a:pathLst>
                <a:path w="47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400720" y="4986360"/>
              <a:ext cx="74520" cy="15840"/>
            </a:xfrm>
            <a:custGeom>
              <a:avLst/>
              <a:gdLst/>
              <a:ahLst/>
              <a:rect l="l" t="t" r="r" b="b"/>
              <a:pathLst>
                <a:path w="47" h="10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506920" y="4986360"/>
              <a:ext cx="7488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613480" y="4991040"/>
              <a:ext cx="74520" cy="255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3"/>
                  </a:lnTo>
                  <a:lnTo>
                    <a:pt x="47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719680" y="5006880"/>
              <a:ext cx="74520" cy="2088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826240" y="5016600"/>
              <a:ext cx="74520" cy="2520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3"/>
                  </a:lnTo>
                  <a:lnTo>
                    <a:pt x="47" y="10"/>
                  </a:lnTo>
                  <a:lnTo>
                    <a:pt x="4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932440" y="5037120"/>
              <a:ext cx="6984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6"/>
                  </a:lnTo>
                  <a:lnTo>
                    <a:pt x="41" y="16"/>
                  </a:lnTo>
                  <a:lnTo>
                    <a:pt x="44" y="13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032520" y="505764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19"/>
                  </a:lnTo>
                  <a:lnTo>
                    <a:pt x="45" y="19"/>
                  </a:lnTo>
                  <a:lnTo>
                    <a:pt x="48" y="16"/>
                  </a:lnTo>
                  <a:lnTo>
                    <a:pt x="48" y="12"/>
                  </a:lnTo>
                  <a:lnTo>
                    <a:pt x="45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138720" y="5083200"/>
              <a:ext cx="7164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2"/>
                  </a:lnTo>
                  <a:lnTo>
                    <a:pt x="4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240600" y="511344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9"/>
                  </a:lnTo>
                  <a:lnTo>
                    <a:pt x="42" y="19"/>
                  </a:lnTo>
                  <a:lnTo>
                    <a:pt x="45" y="16"/>
                  </a:lnTo>
                  <a:lnTo>
                    <a:pt x="45" y="12"/>
                  </a:lnTo>
                  <a:lnTo>
                    <a:pt x="42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342120" y="514368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2" y="19"/>
                  </a:lnTo>
                  <a:lnTo>
                    <a:pt x="38" y="22"/>
                  </a:lnTo>
                  <a:lnTo>
                    <a:pt x="41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1" y="13"/>
                  </a:lnTo>
                  <a:lnTo>
                    <a:pt x="3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443640" y="5178600"/>
              <a:ext cx="69840" cy="363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4" y="19"/>
                  </a:lnTo>
                  <a:lnTo>
                    <a:pt x="44" y="16"/>
                  </a:lnTo>
                  <a:lnTo>
                    <a:pt x="41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539040" y="5214960"/>
              <a:ext cx="75960" cy="3960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3" y="15"/>
                  </a:lnTo>
                  <a:lnTo>
                    <a:pt x="42" y="25"/>
                  </a:lnTo>
                  <a:lnTo>
                    <a:pt x="45" y="25"/>
                  </a:lnTo>
                  <a:lnTo>
                    <a:pt x="48" y="22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26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640560" y="525456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38" y="26"/>
                  </a:lnTo>
                  <a:lnTo>
                    <a:pt x="42" y="26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737400" y="529596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4" y="22"/>
                  </a:lnTo>
                  <a:lnTo>
                    <a:pt x="44" y="19"/>
                  </a:lnTo>
                  <a:lnTo>
                    <a:pt x="41" y="15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832440" y="5335560"/>
              <a:ext cx="7164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10"/>
                  </a:lnTo>
                  <a:lnTo>
                    <a:pt x="39" y="26"/>
                  </a:lnTo>
                  <a:lnTo>
                    <a:pt x="42" y="26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42" y="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888240" y="5305320"/>
              <a:ext cx="182520" cy="15264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0" y="96"/>
                  </a:moveTo>
                  <a:lnTo>
                    <a:pt x="115" y="89"/>
                  </a:lnTo>
                  <a:lnTo>
                    <a:pt x="45" y="0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3724200" y="2860560"/>
            <a:ext cx="1524240" cy="317520"/>
            <a:chOff x="3724200" y="2860560"/>
            <a:chExt cx="1524240" cy="317520"/>
          </a:xfrm>
        </p:grpSpPr>
        <p:sp>
          <p:nvSpPr>
            <p:cNvPr id="1099" name=""/>
            <p:cNvSpPr/>
            <p:nvPr/>
          </p:nvSpPr>
          <p:spPr>
            <a:xfrm>
              <a:off x="3724200" y="3138480"/>
              <a:ext cx="65160" cy="3960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5"/>
                  </a:lnTo>
                  <a:lnTo>
                    <a:pt x="38" y="9"/>
                  </a:lnTo>
                  <a:lnTo>
                    <a:pt x="41" y="6"/>
                  </a:lnTo>
                  <a:lnTo>
                    <a:pt x="41" y="3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819600" y="309240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7" y="26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916440" y="304812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5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38" y="1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3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13280" y="300672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108320" y="2965320"/>
              <a:ext cx="76320" cy="4140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3" y="16"/>
                  </a:moveTo>
                  <a:lnTo>
                    <a:pt x="0" y="20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210200" y="29304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311720" y="2900520"/>
              <a:ext cx="69840" cy="2988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2" y="19"/>
                  </a:lnTo>
                  <a:lnTo>
                    <a:pt x="41" y="10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9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413240" y="2874960"/>
              <a:ext cx="74520" cy="3024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5" y="16"/>
                  </a:lnTo>
                  <a:lnTo>
                    <a:pt x="44" y="10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12" y="6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519440" y="2860560"/>
              <a:ext cx="74880" cy="23760"/>
            </a:xfrm>
            <a:custGeom>
              <a:avLst/>
              <a:gdLst/>
              <a:ahLst/>
              <a:rect l="l" t="t" r="r" b="b"/>
              <a:pathLst>
                <a:path w="47" h="15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15" y="12"/>
                  </a:lnTo>
                  <a:lnTo>
                    <a:pt x="15" y="6"/>
                  </a:lnTo>
                  <a:lnTo>
                    <a:pt x="12" y="12"/>
                  </a:lnTo>
                  <a:lnTo>
                    <a:pt x="41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624560" y="2860560"/>
              <a:ext cx="71280" cy="14400"/>
            </a:xfrm>
            <a:custGeom>
              <a:avLst/>
              <a:gdLst/>
              <a:ahLst/>
              <a:rect l="l" t="t" r="r" b="b"/>
              <a:pathLst>
                <a:path w="45" h="9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4" y="9"/>
                  </a:lnTo>
                  <a:lnTo>
                    <a:pt x="10" y="9"/>
                  </a:lnTo>
                  <a:lnTo>
                    <a:pt x="39" y="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1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726080" y="286560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9" y="16"/>
                  </a:lnTo>
                  <a:lnTo>
                    <a:pt x="42" y="19"/>
                  </a:lnTo>
                  <a:lnTo>
                    <a:pt x="45" y="19"/>
                  </a:lnTo>
                  <a:lnTo>
                    <a:pt x="48" y="16"/>
                  </a:lnTo>
                  <a:lnTo>
                    <a:pt x="48" y="12"/>
                  </a:lnTo>
                  <a:lnTo>
                    <a:pt x="45" y="9"/>
                  </a:lnTo>
                  <a:lnTo>
                    <a:pt x="32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832280" y="289080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" y="9"/>
                  </a:lnTo>
                  <a:lnTo>
                    <a:pt x="39" y="22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2" y="1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929120" y="2930400"/>
              <a:ext cx="65160" cy="46080"/>
            </a:xfrm>
            <a:custGeom>
              <a:avLst/>
              <a:gdLst/>
              <a:ahLst/>
              <a:rect l="l" t="t" r="r" b="b"/>
              <a:pathLst>
                <a:path w="41" h="2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16" y="19"/>
                  </a:lnTo>
                  <a:lnTo>
                    <a:pt x="35" y="29"/>
                  </a:lnTo>
                  <a:lnTo>
                    <a:pt x="38" y="29"/>
                  </a:lnTo>
                  <a:lnTo>
                    <a:pt x="41" y="26"/>
                  </a:lnTo>
                  <a:lnTo>
                    <a:pt x="41" y="22"/>
                  </a:lnTo>
                  <a:lnTo>
                    <a:pt x="38" y="19"/>
                  </a:lnTo>
                  <a:lnTo>
                    <a:pt x="19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019840" y="2986200"/>
              <a:ext cx="66600" cy="5076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10"/>
                  </a:lnTo>
                  <a:lnTo>
                    <a:pt x="35" y="32"/>
                  </a:lnTo>
                  <a:lnTo>
                    <a:pt x="39" y="32"/>
                  </a:lnTo>
                  <a:lnTo>
                    <a:pt x="42" y="29"/>
                  </a:lnTo>
                  <a:lnTo>
                    <a:pt x="42" y="26"/>
                  </a:lnTo>
                  <a:lnTo>
                    <a:pt x="39" y="2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106960" y="304812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9" y="15"/>
                  </a:lnTo>
                  <a:lnTo>
                    <a:pt x="9" y="12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070600" y="3002040"/>
              <a:ext cx="177840" cy="16668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0" y="80"/>
                  </a:moveTo>
                  <a:lnTo>
                    <a:pt x="112" y="105"/>
                  </a:lnTo>
                  <a:lnTo>
                    <a:pt x="67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7369200" y="2824200"/>
            <a:ext cx="1074600" cy="344520"/>
            <a:chOff x="7369200" y="2824200"/>
            <a:chExt cx="1074600" cy="344520"/>
          </a:xfrm>
        </p:grpSpPr>
        <p:sp>
          <p:nvSpPr>
            <p:cNvPr id="1116" name=""/>
            <p:cNvSpPr/>
            <p:nvPr/>
          </p:nvSpPr>
          <p:spPr>
            <a:xfrm>
              <a:off x="7369200" y="312912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5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7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466040" y="308304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562880" y="3041640"/>
              <a:ext cx="69840" cy="41400"/>
            </a:xfrm>
            <a:custGeom>
              <a:avLst/>
              <a:gdLst/>
              <a:ahLst/>
              <a:rect l="l" t="t" r="r" b="b"/>
              <a:pathLst>
                <a:path w="44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2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19" y="1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658280" y="300204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26" y="16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23" y="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59800" y="2960640"/>
              <a:ext cx="7128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6" y="26"/>
                  </a:lnTo>
                  <a:lnTo>
                    <a:pt x="26" y="16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2" y="7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856640" y="292104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25" y="16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22" y="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956720" y="2884320"/>
              <a:ext cx="7128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4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16" y="20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13" y="1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058240" y="28494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159760" y="2828880"/>
              <a:ext cx="7128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26" y="1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2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261280" y="28242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6" y="10"/>
                  </a:lnTo>
                  <a:lnTo>
                    <a:pt x="22" y="10"/>
                  </a:lnTo>
                  <a:lnTo>
                    <a:pt x="22" y="7"/>
                  </a:lnTo>
                  <a:lnTo>
                    <a:pt x="19" y="10"/>
                  </a:lnTo>
                  <a:lnTo>
                    <a:pt x="41" y="13"/>
                  </a:lnTo>
                  <a:lnTo>
                    <a:pt x="45" y="13"/>
                  </a:lnTo>
                  <a:lnTo>
                    <a:pt x="48" y="10"/>
                  </a:lnTo>
                  <a:lnTo>
                    <a:pt x="48" y="7"/>
                  </a:lnTo>
                  <a:lnTo>
                    <a:pt x="45" y="3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367840" y="283536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16" y="12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19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5546880" y="3452760"/>
            <a:ext cx="3047760" cy="486000"/>
            <a:chOff x="5546880" y="3452760"/>
            <a:chExt cx="3047760" cy="486000"/>
          </a:xfrm>
        </p:grpSpPr>
        <p:sp>
          <p:nvSpPr>
            <p:cNvPr id="1128" name=""/>
            <p:cNvSpPr/>
            <p:nvPr/>
          </p:nvSpPr>
          <p:spPr>
            <a:xfrm>
              <a:off x="5546880" y="390852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3" y="9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9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648400" y="38829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749920" y="385776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856120" y="3832200"/>
              <a:ext cx="6984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956200" y="380700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9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062760" y="3781440"/>
              <a:ext cx="71280" cy="302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164280" y="375588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265800" y="373068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372360" y="371016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473880" y="3684600"/>
              <a:ext cx="7632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580080" y="3659040"/>
              <a:ext cx="76320" cy="3204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20"/>
                  </a:lnTo>
                  <a:lnTo>
                    <a:pt x="6" y="20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681960" y="3639960"/>
              <a:ext cx="74520" cy="25560"/>
            </a:xfrm>
            <a:custGeom>
              <a:avLst/>
              <a:gdLst/>
              <a:ahLst/>
              <a:rect l="l" t="t" r="r" b="b"/>
              <a:pathLst>
                <a:path w="47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788160" y="3614760"/>
              <a:ext cx="74520" cy="30240"/>
            </a:xfrm>
            <a:custGeom>
              <a:avLst/>
              <a:gdLst/>
              <a:ahLst/>
              <a:rect l="l" t="t" r="r" b="b"/>
              <a:pathLst>
                <a:path w="47" h="19">
                  <a:moveTo>
                    <a:pt x="3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888240" y="3594240"/>
              <a:ext cx="7596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4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4" y="19"/>
                  </a:lnTo>
                  <a:lnTo>
                    <a:pt x="7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994440" y="357336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4" y="16"/>
                  </a:lnTo>
                  <a:lnTo>
                    <a:pt x="7" y="16"/>
                  </a:lnTo>
                  <a:lnTo>
                    <a:pt x="26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3" y="3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095960" y="355284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202520" y="3533760"/>
              <a:ext cx="76320" cy="255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308720" y="351324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410600" y="349740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516800" y="3483000"/>
              <a:ext cx="76320" cy="2052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623000" y="346716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729560" y="3457440"/>
              <a:ext cx="76320" cy="208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835760" y="3452760"/>
              <a:ext cx="76320" cy="1908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41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942320" y="3452760"/>
              <a:ext cx="76320" cy="144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3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22" y="9"/>
                  </a:lnTo>
                  <a:lnTo>
                    <a:pt x="22" y="3"/>
                  </a:lnTo>
                  <a:lnTo>
                    <a:pt x="19" y="9"/>
                  </a:lnTo>
                  <a:lnTo>
                    <a:pt x="41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048520" y="3452760"/>
              <a:ext cx="76320" cy="1908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5" y="12"/>
                  </a:lnTo>
                  <a:lnTo>
                    <a:pt x="48" y="9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41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155080" y="3462480"/>
              <a:ext cx="7596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9" y="10"/>
                  </a:lnTo>
                  <a:lnTo>
                    <a:pt x="41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10"/>
                  </a:lnTo>
                  <a:lnTo>
                    <a:pt x="45" y="6"/>
                  </a:lnTo>
                  <a:lnTo>
                    <a:pt x="1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256600" y="348300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12" y="9"/>
                  </a:lnTo>
                  <a:lnTo>
                    <a:pt x="41" y="19"/>
                  </a:lnTo>
                  <a:lnTo>
                    <a:pt x="44" y="19"/>
                  </a:lnTo>
                  <a:lnTo>
                    <a:pt x="48" y="16"/>
                  </a:lnTo>
                  <a:lnTo>
                    <a:pt x="48" y="13"/>
                  </a:lnTo>
                  <a:lnTo>
                    <a:pt x="44" y="9"/>
                  </a:lnTo>
                  <a:lnTo>
                    <a:pt x="1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362800" y="3508200"/>
              <a:ext cx="69840" cy="3996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3" y="12"/>
                  </a:lnTo>
                  <a:lnTo>
                    <a:pt x="38" y="25"/>
                  </a:lnTo>
                  <a:lnTo>
                    <a:pt x="41" y="25"/>
                  </a:lnTo>
                  <a:lnTo>
                    <a:pt x="44" y="22"/>
                  </a:lnTo>
                  <a:lnTo>
                    <a:pt x="44" y="19"/>
                  </a:lnTo>
                  <a:lnTo>
                    <a:pt x="41" y="16"/>
                  </a:lnTo>
                  <a:lnTo>
                    <a:pt x="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458200" y="3548160"/>
              <a:ext cx="71280" cy="46080"/>
            </a:xfrm>
            <a:custGeom>
              <a:avLst/>
              <a:gdLst/>
              <a:ahLst/>
              <a:rect l="l" t="t" r="r" b="b"/>
              <a:pathLst>
                <a:path w="45" h="29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39" y="29"/>
                  </a:lnTo>
                  <a:lnTo>
                    <a:pt x="42" y="29"/>
                  </a:lnTo>
                  <a:lnTo>
                    <a:pt x="45" y="26"/>
                  </a:lnTo>
                  <a:lnTo>
                    <a:pt x="45" y="23"/>
                  </a:lnTo>
                  <a:lnTo>
                    <a:pt x="42" y="1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555040" y="359892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3" y="10"/>
                  </a:lnTo>
                  <a:lnTo>
                    <a:pt x="22" y="22"/>
                  </a:lnTo>
                  <a:lnTo>
                    <a:pt x="22" y="19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6154560" y="4172040"/>
            <a:ext cx="2440080" cy="515880"/>
            <a:chOff x="6154560" y="4172040"/>
            <a:chExt cx="2440080" cy="515880"/>
          </a:xfrm>
        </p:grpSpPr>
        <p:sp>
          <p:nvSpPr>
            <p:cNvPr id="1159" name=""/>
            <p:cNvSpPr/>
            <p:nvPr/>
          </p:nvSpPr>
          <p:spPr>
            <a:xfrm>
              <a:off x="6154560" y="4646520"/>
              <a:ext cx="71640" cy="414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6" y="26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249960" y="4606920"/>
              <a:ext cx="7164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4" y="25"/>
                  </a:lnTo>
                  <a:lnTo>
                    <a:pt x="7" y="25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351480" y="4570560"/>
              <a:ext cx="71640" cy="363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448320" y="453060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550200" y="449568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645240" y="4454640"/>
              <a:ext cx="76320" cy="3492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2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746760" y="441972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848640" y="4383000"/>
              <a:ext cx="7128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16" y="20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13" y="1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950160" y="4352760"/>
              <a:ext cx="6984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050240" y="431784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4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4" y="22"/>
                  </a:lnTo>
                  <a:lnTo>
                    <a:pt x="7" y="22"/>
                  </a:lnTo>
                  <a:lnTo>
                    <a:pt x="42" y="10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151760" y="428796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39" y="13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5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253280" y="426240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354800" y="423720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13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9" y="6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461360" y="4216320"/>
              <a:ext cx="7128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562880" y="419580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44" y="10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669080" y="4186080"/>
              <a:ext cx="76320" cy="20880"/>
            </a:xfrm>
            <a:custGeom>
              <a:avLst/>
              <a:gdLst/>
              <a:ahLst/>
              <a:rect l="l" t="t" r="r" b="b"/>
              <a:pathLst>
                <a:path w="48" h="13">
                  <a:moveTo>
                    <a:pt x="3" y="3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3" y="13"/>
                  </a:lnTo>
                  <a:lnTo>
                    <a:pt x="6" y="13"/>
                  </a:lnTo>
                  <a:lnTo>
                    <a:pt x="44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775640" y="4176720"/>
              <a:ext cx="75960" cy="19080"/>
            </a:xfrm>
            <a:custGeom>
              <a:avLst/>
              <a:gdLst/>
              <a:ahLst/>
              <a:rect l="l" t="t" r="r" b="b"/>
              <a:pathLst>
                <a:path w="48" h="12">
                  <a:moveTo>
                    <a:pt x="3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28" y="9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25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881840" y="4172040"/>
              <a:ext cx="74880" cy="1404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3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6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988400" y="4172040"/>
              <a:ext cx="74520" cy="14040"/>
            </a:xfrm>
            <a:custGeom>
              <a:avLst/>
              <a:gdLst/>
              <a:ahLst/>
              <a:rect l="l" t="t" r="r" b="b"/>
              <a:pathLst>
                <a:path w="47" h="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9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094600" y="4172040"/>
              <a:ext cx="7452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2"/>
                  </a:lnTo>
                  <a:lnTo>
                    <a:pt x="44" y="12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201160" y="4176720"/>
              <a:ext cx="7452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9" y="9"/>
                  </a:lnTo>
                  <a:lnTo>
                    <a:pt x="41" y="12"/>
                  </a:lnTo>
                  <a:lnTo>
                    <a:pt x="44" y="12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307360" y="4186080"/>
              <a:ext cx="74520" cy="2088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22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2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413920" y="4195800"/>
              <a:ext cx="7452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10"/>
                  </a:lnTo>
                  <a:lnTo>
                    <a:pt x="47" y="7"/>
                  </a:lnTo>
                  <a:lnTo>
                    <a:pt x="44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8520120" y="4206960"/>
              <a:ext cx="74520" cy="20520"/>
            </a:xfrm>
            <a:custGeom>
              <a:avLst/>
              <a:gdLst/>
              <a:ahLst/>
              <a:rect l="l" t="t" r="r" b="b"/>
              <a:pathLst>
                <a:path w="47" h="13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1" y="13"/>
                  </a:lnTo>
                  <a:lnTo>
                    <a:pt x="44" y="13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3" name=""/>
          <p:cNvGrpSpPr/>
          <p:nvPr/>
        </p:nvGrpSpPr>
        <p:grpSpPr>
          <a:xfrm>
            <a:off x="6762600" y="4930920"/>
            <a:ext cx="1832040" cy="515880"/>
            <a:chOff x="6762600" y="4930920"/>
            <a:chExt cx="1832040" cy="515880"/>
          </a:xfrm>
        </p:grpSpPr>
        <p:sp>
          <p:nvSpPr>
            <p:cNvPr id="1184" name=""/>
            <p:cNvSpPr/>
            <p:nvPr/>
          </p:nvSpPr>
          <p:spPr>
            <a:xfrm>
              <a:off x="6762600" y="540720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5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858000" y="5365800"/>
              <a:ext cx="71280" cy="363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954840" y="53262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056360" y="52848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35" y="13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2" y="3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151760" y="52452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7" y="22"/>
                  </a:lnTo>
                  <a:lnTo>
                    <a:pt x="42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253280" y="520380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13" y="19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10" y="1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350120" y="516420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3" y="16"/>
                  </a:move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5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450200" y="5127480"/>
              <a:ext cx="71280" cy="3672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4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547040" y="5092560"/>
              <a:ext cx="75960" cy="3492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26" y="16"/>
                  </a:lnTo>
                  <a:lnTo>
                    <a:pt x="45" y="10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22" y="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648560" y="505764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" y="12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750080" y="5021280"/>
              <a:ext cx="69840" cy="363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3" y="13"/>
                  </a:moveTo>
                  <a:lnTo>
                    <a:pt x="0" y="16"/>
                  </a:lnTo>
                  <a:lnTo>
                    <a:pt x="0" y="19"/>
                  </a:lnTo>
                  <a:lnTo>
                    <a:pt x="3" y="23"/>
                  </a:lnTo>
                  <a:lnTo>
                    <a:pt x="6" y="23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851600" y="4991040"/>
              <a:ext cx="7020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6" y="19"/>
                  </a:lnTo>
                  <a:lnTo>
                    <a:pt x="9" y="19"/>
                  </a:lnTo>
                  <a:lnTo>
                    <a:pt x="41" y="10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6" y="10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951680" y="4965840"/>
              <a:ext cx="76320" cy="2988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3" y="10"/>
                  </a:moveTo>
                  <a:lnTo>
                    <a:pt x="0" y="13"/>
                  </a:lnTo>
                  <a:lnTo>
                    <a:pt x="0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23" y="16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19" y="7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058240" y="4944960"/>
              <a:ext cx="71280" cy="25560"/>
            </a:xfrm>
            <a:custGeom>
              <a:avLst/>
              <a:gdLst/>
              <a:ahLst/>
              <a:rect l="l" t="t" r="r" b="b"/>
              <a:pathLst>
                <a:path w="45" h="16">
                  <a:moveTo>
                    <a:pt x="3" y="7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23" y="13"/>
                  </a:lnTo>
                  <a:lnTo>
                    <a:pt x="42" y="10"/>
                  </a:lnTo>
                  <a:lnTo>
                    <a:pt x="45" y="7"/>
                  </a:lnTo>
                  <a:lnTo>
                    <a:pt x="45" y="4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19" y="4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159760" y="493092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3" y="6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16" y="13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13" y="3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265960" y="4930920"/>
              <a:ext cx="76320" cy="1404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8372520" y="493092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22" y="13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3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26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478720" y="4951440"/>
              <a:ext cx="76320" cy="2520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6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9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8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8580600" y="4970520"/>
              <a:ext cx="1404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6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0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nection ar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F90D-955B-4DD1-A858-84DDB90523F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4235A-36A1-47E1-81C0-2B994D77BB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ime-Line vs. Connection Flight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large-scale problems, time-line network has fewer ground arcs than connection arcs in the connection net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urther reduction in network size possible through “node consolidation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nection network allows more complex relations among fligh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a flight to connect wi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only a subset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 later fligh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C182-AE12-4579-A52C-BD8DEBF5D8D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C2B41-4CA7-49B4-9404-42DA92D5E5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ime-Line Net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7" name=""/>
          <p:cNvSpPr/>
          <p:nvPr/>
        </p:nvSpPr>
        <p:spPr>
          <a:xfrm>
            <a:off x="304920" y="2743200"/>
            <a:ext cx="8534160" cy="19652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4562640" y="3898800"/>
            <a:ext cx="1012680" cy="7495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514840" y="3843360"/>
            <a:ext cx="136800" cy="123840"/>
          </a:xfrm>
          <a:custGeom>
            <a:avLst/>
            <a:gdLst/>
            <a:ahLst/>
            <a:rect l="l" t="t" r="r" b="b"/>
            <a:pathLst>
              <a:path w="86" h="78">
                <a:moveTo>
                  <a:pt x="0" y="15"/>
                </a:moveTo>
                <a:lnTo>
                  <a:pt x="86" y="0"/>
                </a:lnTo>
                <a:lnTo>
                  <a:pt x="47" y="78"/>
                </a:lnTo>
                <a:lnTo>
                  <a:pt x="45" y="73"/>
                </a:lnTo>
                <a:lnTo>
                  <a:pt x="44" y="69"/>
                </a:lnTo>
                <a:lnTo>
                  <a:pt x="43" y="64"/>
                </a:lnTo>
                <a:lnTo>
                  <a:pt x="42" y="59"/>
                </a:lnTo>
                <a:lnTo>
                  <a:pt x="39" y="56"/>
                </a:lnTo>
                <a:lnTo>
                  <a:pt x="37" y="52"/>
                </a:lnTo>
                <a:lnTo>
                  <a:pt x="34" y="47"/>
                </a:lnTo>
                <a:lnTo>
                  <a:pt x="32" y="43"/>
                </a:lnTo>
                <a:lnTo>
                  <a:pt x="29" y="39"/>
                </a:lnTo>
                <a:lnTo>
                  <a:pt x="27" y="35"/>
                </a:lnTo>
                <a:lnTo>
                  <a:pt x="23" y="32"/>
                </a:lnTo>
                <a:lnTo>
                  <a:pt x="19" y="29"/>
                </a:lnTo>
                <a:lnTo>
                  <a:pt x="15" y="25"/>
                </a:lnTo>
                <a:lnTo>
                  <a:pt x="13" y="23"/>
                </a:lnTo>
                <a:lnTo>
                  <a:pt x="8" y="20"/>
                </a:lnTo>
                <a:lnTo>
                  <a:pt x="4" y="18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4562640" y="37353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600440" y="370512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4640400" y="36781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4678200" y="36482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4716360" y="361944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4757760" y="3588840"/>
            <a:ext cx="17280" cy="176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4794120" y="356220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4832280" y="353376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4870440" y="350352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4911840" y="347652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4948200" y="34466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4986360" y="34178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5024520" y="339048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5062680" y="336060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5103720" y="3332160"/>
            <a:ext cx="1764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5140440" y="330192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5178600" y="3274920"/>
            <a:ext cx="20520" cy="12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5216400" y="324648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5254560" y="321624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5294160" y="318888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5332320" y="315900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5370480" y="31305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5408640" y="310176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5446800" y="3073320"/>
            <a:ext cx="20520" cy="12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5486400" y="30448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5524560" y="30146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5562720" y="298584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V="1">
            <a:off x="5600880" y="295884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5638680" y="292896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5678640" y="2900160"/>
            <a:ext cx="187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645160" y="2851200"/>
            <a:ext cx="117360" cy="108000"/>
          </a:xfrm>
          <a:custGeom>
            <a:avLst/>
            <a:gdLst/>
            <a:ahLst/>
            <a:rect l="l" t="t" r="r" b="b"/>
            <a:pathLst>
              <a:path w="74" h="68">
                <a:moveTo>
                  <a:pt x="0" y="14"/>
                </a:moveTo>
                <a:lnTo>
                  <a:pt x="74" y="0"/>
                </a:lnTo>
                <a:lnTo>
                  <a:pt x="40" y="68"/>
                </a:lnTo>
                <a:lnTo>
                  <a:pt x="40" y="64"/>
                </a:lnTo>
                <a:lnTo>
                  <a:pt x="39" y="60"/>
                </a:lnTo>
                <a:lnTo>
                  <a:pt x="38" y="57"/>
                </a:lnTo>
                <a:lnTo>
                  <a:pt x="36" y="53"/>
                </a:lnTo>
                <a:lnTo>
                  <a:pt x="34" y="49"/>
                </a:lnTo>
                <a:lnTo>
                  <a:pt x="33" y="45"/>
                </a:lnTo>
                <a:lnTo>
                  <a:pt x="30" y="41"/>
                </a:lnTo>
                <a:lnTo>
                  <a:pt x="28" y="38"/>
                </a:lnTo>
                <a:lnTo>
                  <a:pt x="25" y="34"/>
                </a:lnTo>
                <a:lnTo>
                  <a:pt x="23" y="31"/>
                </a:lnTo>
                <a:lnTo>
                  <a:pt x="20" y="29"/>
                </a:lnTo>
                <a:lnTo>
                  <a:pt x="18" y="25"/>
                </a:lnTo>
                <a:lnTo>
                  <a:pt x="14" y="23"/>
                </a:lnTo>
                <a:lnTo>
                  <a:pt x="10" y="20"/>
                </a:lnTo>
                <a:lnTo>
                  <a:pt x="7" y="18"/>
                </a:lnTo>
                <a:lnTo>
                  <a:pt x="4" y="16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3962520" y="2906640"/>
            <a:ext cx="1123920" cy="8431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027760" y="2851200"/>
            <a:ext cx="134640" cy="123840"/>
          </a:xfrm>
          <a:custGeom>
            <a:avLst/>
            <a:gdLst/>
            <a:ahLst/>
            <a:rect l="l" t="t" r="r" b="b"/>
            <a:pathLst>
              <a:path w="85" h="78">
                <a:moveTo>
                  <a:pt x="0" y="16"/>
                </a:moveTo>
                <a:lnTo>
                  <a:pt x="85" y="0"/>
                </a:lnTo>
                <a:lnTo>
                  <a:pt x="46" y="78"/>
                </a:lnTo>
                <a:lnTo>
                  <a:pt x="46" y="73"/>
                </a:lnTo>
                <a:lnTo>
                  <a:pt x="45" y="69"/>
                </a:lnTo>
                <a:lnTo>
                  <a:pt x="42" y="64"/>
                </a:lnTo>
                <a:lnTo>
                  <a:pt x="41" y="60"/>
                </a:lnTo>
                <a:lnTo>
                  <a:pt x="40" y="55"/>
                </a:lnTo>
                <a:lnTo>
                  <a:pt x="37" y="52"/>
                </a:lnTo>
                <a:lnTo>
                  <a:pt x="35" y="48"/>
                </a:lnTo>
                <a:lnTo>
                  <a:pt x="32" y="44"/>
                </a:lnTo>
                <a:lnTo>
                  <a:pt x="29" y="39"/>
                </a:lnTo>
                <a:lnTo>
                  <a:pt x="26" y="36"/>
                </a:lnTo>
                <a:lnTo>
                  <a:pt x="22" y="33"/>
                </a:lnTo>
                <a:lnTo>
                  <a:pt x="20" y="29"/>
                </a:lnTo>
                <a:lnTo>
                  <a:pt x="16" y="26"/>
                </a:lnTo>
                <a:lnTo>
                  <a:pt x="12" y="23"/>
                </a:lnTo>
                <a:lnTo>
                  <a:pt x="8" y="20"/>
                </a:lnTo>
                <a:lnTo>
                  <a:pt x="5" y="18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2162160" y="463392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2200320" y="460512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2241720" y="457668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2279520" y="4546080"/>
            <a:ext cx="17640" cy="162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2316240" y="451800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2354400" y="448920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2395440" y="4460760"/>
            <a:ext cx="1764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2433600" y="4430880"/>
            <a:ext cx="1764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2470320" y="440352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2508120" y="4373280"/>
            <a:ext cx="208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2549520" y="4344840"/>
            <a:ext cx="1764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2587680" y="4314960"/>
            <a:ext cx="172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2624040" y="4287600"/>
            <a:ext cx="208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2662200" y="425736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2703600" y="4228920"/>
            <a:ext cx="172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2741760" y="4199040"/>
            <a:ext cx="172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2778120" y="417168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2816280" y="414144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2857680" y="4113000"/>
            <a:ext cx="172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2895480" y="4083120"/>
            <a:ext cx="1764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2933640" y="405576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2970360" y="40273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V="1">
            <a:off x="3008160" y="39974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3046320" y="396864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3084480" y="39416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3122640" y="391140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3162240" y="3893760"/>
            <a:ext cx="468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112920" y="3843360"/>
            <a:ext cx="119160" cy="108000"/>
          </a:xfrm>
          <a:custGeom>
            <a:avLst/>
            <a:gdLst/>
            <a:ahLst/>
            <a:rect l="l" t="t" r="r" b="b"/>
            <a:pathLst>
              <a:path w="75" h="68">
                <a:moveTo>
                  <a:pt x="0" y="14"/>
                </a:moveTo>
                <a:lnTo>
                  <a:pt x="75" y="0"/>
                </a:lnTo>
                <a:lnTo>
                  <a:pt x="41" y="68"/>
                </a:lnTo>
                <a:lnTo>
                  <a:pt x="40" y="64"/>
                </a:lnTo>
                <a:lnTo>
                  <a:pt x="39" y="61"/>
                </a:lnTo>
                <a:lnTo>
                  <a:pt x="38" y="57"/>
                </a:lnTo>
                <a:lnTo>
                  <a:pt x="36" y="53"/>
                </a:lnTo>
                <a:lnTo>
                  <a:pt x="35" y="49"/>
                </a:lnTo>
                <a:lnTo>
                  <a:pt x="33" y="46"/>
                </a:lnTo>
                <a:lnTo>
                  <a:pt x="31" y="42"/>
                </a:lnTo>
                <a:lnTo>
                  <a:pt x="29" y="38"/>
                </a:lnTo>
                <a:lnTo>
                  <a:pt x="26" y="34"/>
                </a:lnTo>
                <a:lnTo>
                  <a:pt x="24" y="32"/>
                </a:lnTo>
                <a:lnTo>
                  <a:pt x="20" y="29"/>
                </a:lnTo>
                <a:lnTo>
                  <a:pt x="18" y="25"/>
                </a:lnTo>
                <a:lnTo>
                  <a:pt x="14" y="23"/>
                </a:lnTo>
                <a:lnTo>
                  <a:pt x="11" y="20"/>
                </a:lnTo>
                <a:lnTo>
                  <a:pt x="7" y="18"/>
                </a:lnTo>
                <a:lnTo>
                  <a:pt x="4" y="17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1562040" y="3898800"/>
            <a:ext cx="1013040" cy="7495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514600" y="3843360"/>
            <a:ext cx="136440" cy="123840"/>
          </a:xfrm>
          <a:custGeom>
            <a:avLst/>
            <a:gdLst/>
            <a:ahLst/>
            <a:rect l="l" t="t" r="r" b="b"/>
            <a:pathLst>
              <a:path w="86" h="78">
                <a:moveTo>
                  <a:pt x="0" y="15"/>
                </a:moveTo>
                <a:lnTo>
                  <a:pt x="86" y="0"/>
                </a:lnTo>
                <a:lnTo>
                  <a:pt x="47" y="78"/>
                </a:lnTo>
                <a:lnTo>
                  <a:pt x="46" y="73"/>
                </a:lnTo>
                <a:lnTo>
                  <a:pt x="44" y="69"/>
                </a:lnTo>
                <a:lnTo>
                  <a:pt x="43" y="64"/>
                </a:lnTo>
                <a:lnTo>
                  <a:pt x="42" y="59"/>
                </a:lnTo>
                <a:lnTo>
                  <a:pt x="39" y="56"/>
                </a:lnTo>
                <a:lnTo>
                  <a:pt x="37" y="52"/>
                </a:lnTo>
                <a:lnTo>
                  <a:pt x="34" y="47"/>
                </a:lnTo>
                <a:lnTo>
                  <a:pt x="32" y="43"/>
                </a:lnTo>
                <a:lnTo>
                  <a:pt x="29" y="39"/>
                </a:lnTo>
                <a:lnTo>
                  <a:pt x="27" y="35"/>
                </a:lnTo>
                <a:lnTo>
                  <a:pt x="23" y="32"/>
                </a:lnTo>
                <a:lnTo>
                  <a:pt x="19" y="29"/>
                </a:lnTo>
                <a:lnTo>
                  <a:pt x="15" y="25"/>
                </a:lnTo>
                <a:lnTo>
                  <a:pt x="13" y="23"/>
                </a:lnTo>
                <a:lnTo>
                  <a:pt x="8" y="20"/>
                </a:lnTo>
                <a:lnTo>
                  <a:pt x="4" y="18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963720" y="46339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1003320" y="460692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1041480" y="4578120"/>
            <a:ext cx="190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1079640" y="455112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1119240" y="452268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1157400" y="449424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1195560" y="4467240"/>
            <a:ext cx="187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V="1">
            <a:off x="1235160" y="4438440"/>
            <a:ext cx="172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V="1">
            <a:off x="1273320" y="441144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1311120" y="438300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1351080" y="435456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1389240" y="4327560"/>
            <a:ext cx="187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1427040" y="4298760"/>
            <a:ext cx="190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1467000" y="4270320"/>
            <a:ext cx="172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1504800" y="424332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1542960" y="42148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V="1">
            <a:off x="1582560" y="4187520"/>
            <a:ext cx="208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flipV="1">
            <a:off x="1620720" y="415908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1660680" y="4130640"/>
            <a:ext cx="187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1698480" y="410364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1736640" y="4074840"/>
            <a:ext cx="208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V="1">
            <a:off x="1776240" y="404784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1814400" y="401940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1852560" y="39909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V="1">
            <a:off x="1892160" y="396396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1930320" y="3935160"/>
            <a:ext cx="208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1968480" y="3909600"/>
            <a:ext cx="15840" cy="111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933560" y="3862440"/>
            <a:ext cx="117360" cy="106200"/>
          </a:xfrm>
          <a:custGeom>
            <a:avLst/>
            <a:gdLst/>
            <a:ahLst/>
            <a:rect l="l" t="t" r="r" b="b"/>
            <a:pathLst>
              <a:path w="74" h="67">
                <a:moveTo>
                  <a:pt x="0" y="12"/>
                </a:moveTo>
                <a:lnTo>
                  <a:pt x="74" y="0"/>
                </a:lnTo>
                <a:lnTo>
                  <a:pt x="39" y="67"/>
                </a:lnTo>
                <a:lnTo>
                  <a:pt x="39" y="64"/>
                </a:lnTo>
                <a:lnTo>
                  <a:pt x="37" y="60"/>
                </a:lnTo>
                <a:lnTo>
                  <a:pt x="36" y="55"/>
                </a:lnTo>
                <a:lnTo>
                  <a:pt x="35" y="51"/>
                </a:lnTo>
                <a:lnTo>
                  <a:pt x="32" y="47"/>
                </a:lnTo>
                <a:lnTo>
                  <a:pt x="31" y="44"/>
                </a:lnTo>
                <a:lnTo>
                  <a:pt x="29" y="40"/>
                </a:lnTo>
                <a:lnTo>
                  <a:pt x="26" y="37"/>
                </a:lnTo>
                <a:lnTo>
                  <a:pt x="25" y="34"/>
                </a:lnTo>
                <a:lnTo>
                  <a:pt x="21" y="30"/>
                </a:lnTo>
                <a:lnTo>
                  <a:pt x="18" y="27"/>
                </a:lnTo>
                <a:lnTo>
                  <a:pt x="16" y="25"/>
                </a:lnTo>
                <a:lnTo>
                  <a:pt x="12" y="22"/>
                </a:lnTo>
                <a:lnTo>
                  <a:pt x="10" y="18"/>
                </a:lnTo>
                <a:lnTo>
                  <a:pt x="6" y="17"/>
                </a:lnTo>
                <a:lnTo>
                  <a:pt x="2" y="15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363600" y="3917520"/>
            <a:ext cx="1011240" cy="73044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314360" y="3862440"/>
            <a:ext cx="136440" cy="123840"/>
          </a:xfrm>
          <a:custGeom>
            <a:avLst/>
            <a:gdLst/>
            <a:ahLst/>
            <a:rect l="l" t="t" r="r" b="b"/>
            <a:pathLst>
              <a:path w="86" h="78">
                <a:moveTo>
                  <a:pt x="0" y="15"/>
                </a:moveTo>
                <a:lnTo>
                  <a:pt x="86" y="0"/>
                </a:lnTo>
                <a:lnTo>
                  <a:pt x="46" y="78"/>
                </a:lnTo>
                <a:lnTo>
                  <a:pt x="44" y="73"/>
                </a:lnTo>
                <a:lnTo>
                  <a:pt x="43" y="69"/>
                </a:lnTo>
                <a:lnTo>
                  <a:pt x="42" y="64"/>
                </a:lnTo>
                <a:lnTo>
                  <a:pt x="41" y="59"/>
                </a:lnTo>
                <a:lnTo>
                  <a:pt x="39" y="55"/>
                </a:lnTo>
                <a:lnTo>
                  <a:pt x="37" y="51"/>
                </a:lnTo>
                <a:lnTo>
                  <a:pt x="34" y="46"/>
                </a:lnTo>
                <a:lnTo>
                  <a:pt x="32" y="42"/>
                </a:lnTo>
                <a:lnTo>
                  <a:pt x="29" y="39"/>
                </a:lnTo>
                <a:lnTo>
                  <a:pt x="25" y="35"/>
                </a:lnTo>
                <a:lnTo>
                  <a:pt x="23" y="31"/>
                </a:lnTo>
                <a:lnTo>
                  <a:pt x="19" y="28"/>
                </a:lnTo>
                <a:lnTo>
                  <a:pt x="15" y="25"/>
                </a:lnTo>
                <a:lnTo>
                  <a:pt x="12" y="22"/>
                </a:lnTo>
                <a:lnTo>
                  <a:pt x="8" y="20"/>
                </a:lnTo>
                <a:lnTo>
                  <a:pt x="4" y="17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7562880" y="37353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V="1">
            <a:off x="7601040" y="370512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flipV="1">
            <a:off x="7640640" y="36781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7678800" y="36482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7716960" y="36194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7756560" y="3588840"/>
            <a:ext cx="19080" cy="176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7794720" y="356220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V="1">
            <a:off x="7832880" y="35337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7870680" y="350352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7910640" y="34765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7948440" y="34466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7986600" y="341784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8024760" y="339048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8062920" y="336060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8102520" y="333216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8140680" y="330192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8178840" y="3274920"/>
            <a:ext cx="20520" cy="12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8217000" y="324648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8255160" y="32162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8294760" y="318888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V="1">
            <a:off x="8332920" y="315900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8370720" y="313056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V="1">
            <a:off x="8408880" y="3101760"/>
            <a:ext cx="208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V="1">
            <a:off x="8447040" y="3073320"/>
            <a:ext cx="20520" cy="12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8486640" y="30448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8524800" y="3014640"/>
            <a:ext cx="19080" cy="15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8562960" y="298584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8601120" y="295884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8639280" y="29289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V="1">
            <a:off x="8678880" y="2900160"/>
            <a:ext cx="190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8645400" y="2851200"/>
            <a:ext cx="117720" cy="108000"/>
          </a:xfrm>
          <a:custGeom>
            <a:avLst/>
            <a:gdLst/>
            <a:ahLst/>
            <a:rect l="l" t="t" r="r" b="b"/>
            <a:pathLst>
              <a:path w="74" h="68">
                <a:moveTo>
                  <a:pt x="0" y="14"/>
                </a:moveTo>
                <a:lnTo>
                  <a:pt x="74" y="0"/>
                </a:lnTo>
                <a:lnTo>
                  <a:pt x="40" y="68"/>
                </a:lnTo>
                <a:lnTo>
                  <a:pt x="40" y="64"/>
                </a:lnTo>
                <a:lnTo>
                  <a:pt x="39" y="60"/>
                </a:lnTo>
                <a:lnTo>
                  <a:pt x="38" y="57"/>
                </a:lnTo>
                <a:lnTo>
                  <a:pt x="36" y="53"/>
                </a:lnTo>
                <a:lnTo>
                  <a:pt x="34" y="49"/>
                </a:lnTo>
                <a:lnTo>
                  <a:pt x="33" y="45"/>
                </a:lnTo>
                <a:lnTo>
                  <a:pt x="30" y="41"/>
                </a:lnTo>
                <a:lnTo>
                  <a:pt x="28" y="38"/>
                </a:lnTo>
                <a:lnTo>
                  <a:pt x="25" y="34"/>
                </a:lnTo>
                <a:lnTo>
                  <a:pt x="22" y="31"/>
                </a:lnTo>
                <a:lnTo>
                  <a:pt x="20" y="29"/>
                </a:lnTo>
                <a:lnTo>
                  <a:pt x="17" y="25"/>
                </a:lnTo>
                <a:lnTo>
                  <a:pt x="14" y="23"/>
                </a:lnTo>
                <a:lnTo>
                  <a:pt x="10" y="20"/>
                </a:lnTo>
                <a:lnTo>
                  <a:pt x="7" y="18"/>
                </a:lnTo>
                <a:lnTo>
                  <a:pt x="4" y="16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6962760" y="2906640"/>
            <a:ext cx="1123920" cy="8431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8026560" y="2851200"/>
            <a:ext cx="136440" cy="123840"/>
          </a:xfrm>
          <a:custGeom>
            <a:avLst/>
            <a:gdLst/>
            <a:ahLst/>
            <a:rect l="l" t="t" r="r" b="b"/>
            <a:pathLst>
              <a:path w="86" h="78">
                <a:moveTo>
                  <a:pt x="0" y="16"/>
                </a:moveTo>
                <a:lnTo>
                  <a:pt x="86" y="0"/>
                </a:lnTo>
                <a:lnTo>
                  <a:pt x="47" y="78"/>
                </a:lnTo>
                <a:lnTo>
                  <a:pt x="47" y="73"/>
                </a:lnTo>
                <a:lnTo>
                  <a:pt x="46" y="69"/>
                </a:lnTo>
                <a:lnTo>
                  <a:pt x="43" y="64"/>
                </a:lnTo>
                <a:lnTo>
                  <a:pt x="42" y="60"/>
                </a:lnTo>
                <a:lnTo>
                  <a:pt x="41" y="55"/>
                </a:lnTo>
                <a:lnTo>
                  <a:pt x="38" y="52"/>
                </a:lnTo>
                <a:lnTo>
                  <a:pt x="36" y="48"/>
                </a:lnTo>
                <a:lnTo>
                  <a:pt x="33" y="44"/>
                </a:lnTo>
                <a:lnTo>
                  <a:pt x="29" y="39"/>
                </a:lnTo>
                <a:lnTo>
                  <a:pt x="27" y="36"/>
                </a:lnTo>
                <a:lnTo>
                  <a:pt x="23" y="33"/>
                </a:lnTo>
                <a:lnTo>
                  <a:pt x="21" y="29"/>
                </a:lnTo>
                <a:lnTo>
                  <a:pt x="17" y="26"/>
                </a:lnTo>
                <a:lnTo>
                  <a:pt x="13" y="23"/>
                </a:lnTo>
                <a:lnTo>
                  <a:pt x="9" y="20"/>
                </a:lnTo>
                <a:lnTo>
                  <a:pt x="6" y="18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5162400" y="463392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5200560" y="4606920"/>
            <a:ext cx="208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5238720" y="457812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5276880" y="45482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5316480" y="452124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5354640" y="449244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5392800" y="446220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5432400" y="443520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5470560" y="4406760"/>
            <a:ext cx="2052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5508720" y="4376520"/>
            <a:ext cx="2052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5548320" y="434952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5586480" y="431928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5627520" y="429084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5665680" y="426240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5702400" y="4233600"/>
            <a:ext cx="2052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5743440" y="420516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5781600" y="41767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5819760" y="41464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5859360" y="41194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5897520" y="409104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5935680" y="406080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5975280" y="403380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6013440" y="4005000"/>
            <a:ext cx="19080" cy="140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6051600" y="397512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6091200" y="3947760"/>
            <a:ext cx="19080" cy="126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6129360" y="3917880"/>
            <a:ext cx="1908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6168960" y="3890880"/>
            <a:ext cx="15840" cy="12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132600" y="3843360"/>
            <a:ext cx="118800" cy="108000"/>
          </a:xfrm>
          <a:custGeom>
            <a:avLst/>
            <a:gdLst/>
            <a:ahLst/>
            <a:rect l="l" t="t" r="r" b="b"/>
            <a:pathLst>
              <a:path w="75" h="68">
                <a:moveTo>
                  <a:pt x="0" y="14"/>
                </a:moveTo>
                <a:lnTo>
                  <a:pt x="75" y="0"/>
                </a:lnTo>
                <a:lnTo>
                  <a:pt x="41" y="68"/>
                </a:lnTo>
                <a:lnTo>
                  <a:pt x="39" y="64"/>
                </a:lnTo>
                <a:lnTo>
                  <a:pt x="38" y="59"/>
                </a:lnTo>
                <a:lnTo>
                  <a:pt x="37" y="56"/>
                </a:lnTo>
                <a:lnTo>
                  <a:pt x="36" y="52"/>
                </a:lnTo>
                <a:lnTo>
                  <a:pt x="34" y="48"/>
                </a:lnTo>
                <a:lnTo>
                  <a:pt x="32" y="44"/>
                </a:lnTo>
                <a:lnTo>
                  <a:pt x="31" y="40"/>
                </a:lnTo>
                <a:lnTo>
                  <a:pt x="28" y="38"/>
                </a:lnTo>
                <a:lnTo>
                  <a:pt x="26" y="34"/>
                </a:lnTo>
                <a:lnTo>
                  <a:pt x="23" y="32"/>
                </a:lnTo>
                <a:lnTo>
                  <a:pt x="21" y="28"/>
                </a:lnTo>
                <a:lnTo>
                  <a:pt x="17" y="25"/>
                </a:lnTo>
                <a:lnTo>
                  <a:pt x="14" y="23"/>
                </a:lnTo>
                <a:lnTo>
                  <a:pt x="10" y="20"/>
                </a:lnTo>
                <a:lnTo>
                  <a:pt x="7" y="18"/>
                </a:lnTo>
                <a:lnTo>
                  <a:pt x="4" y="15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562040" y="3749760"/>
            <a:ext cx="45108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95912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52244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6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7" y="41"/>
                </a:lnTo>
                <a:lnTo>
                  <a:pt x="4" y="39"/>
                </a:lnTo>
                <a:lnTo>
                  <a:pt x="3" y="36"/>
                </a:lnTo>
                <a:lnTo>
                  <a:pt x="2" y="34"/>
                </a:lnTo>
                <a:lnTo>
                  <a:pt x="2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2" y="20"/>
                </a:lnTo>
                <a:lnTo>
                  <a:pt x="2" y="16"/>
                </a:lnTo>
                <a:lnTo>
                  <a:pt x="3" y="14"/>
                </a:lnTo>
                <a:lnTo>
                  <a:pt x="4" y="11"/>
                </a:lnTo>
                <a:lnTo>
                  <a:pt x="7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6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162160" y="3749760"/>
            <a:ext cx="450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55888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12256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6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7" y="41"/>
                </a:lnTo>
                <a:lnTo>
                  <a:pt x="4" y="39"/>
                </a:lnTo>
                <a:lnTo>
                  <a:pt x="3" y="36"/>
                </a:lnTo>
                <a:lnTo>
                  <a:pt x="2" y="34"/>
                </a:lnTo>
                <a:lnTo>
                  <a:pt x="2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2" y="20"/>
                </a:lnTo>
                <a:lnTo>
                  <a:pt x="2" y="16"/>
                </a:lnTo>
                <a:lnTo>
                  <a:pt x="3" y="14"/>
                </a:lnTo>
                <a:lnTo>
                  <a:pt x="4" y="11"/>
                </a:lnTo>
                <a:lnTo>
                  <a:pt x="7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6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762280" y="3749760"/>
            <a:ext cx="450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15900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72268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6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7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7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6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362400" y="3749760"/>
            <a:ext cx="450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75912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32280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6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6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962520" y="3749760"/>
            <a:ext cx="450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35924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922560" y="3710160"/>
            <a:ext cx="8280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6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6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562640" y="3749760"/>
            <a:ext cx="10508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55948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522680" y="3710160"/>
            <a:ext cx="8280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1" y="28"/>
                </a:lnTo>
                <a:lnTo>
                  <a:pt x="51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5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5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1" y="20"/>
                </a:lnTo>
                <a:lnTo>
                  <a:pt x="51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762520" y="3749760"/>
            <a:ext cx="45108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15960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72292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0" y="28"/>
                </a:lnTo>
                <a:lnTo>
                  <a:pt x="50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5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5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0" y="20"/>
                </a:lnTo>
                <a:lnTo>
                  <a:pt x="50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362640" y="3749760"/>
            <a:ext cx="45108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75972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32304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0" y="28"/>
                </a:lnTo>
                <a:lnTo>
                  <a:pt x="50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5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5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0" y="20"/>
                </a:lnTo>
                <a:lnTo>
                  <a:pt x="50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962760" y="3749760"/>
            <a:ext cx="450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359480" y="3695760"/>
            <a:ext cx="54000" cy="108000"/>
          </a:xfrm>
          <a:custGeom>
            <a:avLst/>
            <a:gdLst/>
            <a:ahLst/>
            <a:rect l="l" t="t" r="r" b="b"/>
            <a:pathLst>
              <a:path w="34" h="68">
                <a:moveTo>
                  <a:pt x="0" y="0"/>
                </a:moveTo>
                <a:lnTo>
                  <a:pt x="34" y="34"/>
                </a:lnTo>
                <a:lnTo>
                  <a:pt x="0" y="68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923160" y="3710160"/>
            <a:ext cx="82440" cy="79200"/>
          </a:xfrm>
          <a:custGeom>
            <a:avLst/>
            <a:gdLst/>
            <a:ahLst/>
            <a:rect l="l" t="t" r="r" b="b"/>
            <a:pathLst>
              <a:path w="52" h="50">
                <a:moveTo>
                  <a:pt x="52" y="25"/>
                </a:moveTo>
                <a:lnTo>
                  <a:pt x="50" y="28"/>
                </a:lnTo>
                <a:lnTo>
                  <a:pt x="50" y="31"/>
                </a:lnTo>
                <a:lnTo>
                  <a:pt x="49" y="34"/>
                </a:lnTo>
                <a:lnTo>
                  <a:pt x="49" y="36"/>
                </a:lnTo>
                <a:lnTo>
                  <a:pt x="48" y="39"/>
                </a:lnTo>
                <a:lnTo>
                  <a:pt x="45" y="41"/>
                </a:lnTo>
                <a:lnTo>
                  <a:pt x="44" y="43"/>
                </a:lnTo>
                <a:lnTo>
                  <a:pt x="42" y="45"/>
                </a:lnTo>
                <a:lnTo>
                  <a:pt x="39" y="46"/>
                </a:lnTo>
                <a:lnTo>
                  <a:pt x="37" y="48"/>
                </a:lnTo>
                <a:lnTo>
                  <a:pt x="34" y="49"/>
                </a:lnTo>
                <a:lnTo>
                  <a:pt x="32" y="50"/>
                </a:lnTo>
                <a:lnTo>
                  <a:pt x="29" y="50"/>
                </a:lnTo>
                <a:lnTo>
                  <a:pt x="25" y="50"/>
                </a:lnTo>
                <a:lnTo>
                  <a:pt x="23" y="50"/>
                </a:lnTo>
                <a:lnTo>
                  <a:pt x="20" y="50"/>
                </a:lnTo>
                <a:lnTo>
                  <a:pt x="18" y="49"/>
                </a:lnTo>
                <a:lnTo>
                  <a:pt x="15" y="48"/>
                </a:lnTo>
                <a:lnTo>
                  <a:pt x="13" y="46"/>
                </a:lnTo>
                <a:lnTo>
                  <a:pt x="10" y="45"/>
                </a:lnTo>
                <a:lnTo>
                  <a:pt x="8" y="43"/>
                </a:lnTo>
                <a:lnTo>
                  <a:pt x="6" y="41"/>
                </a:lnTo>
                <a:lnTo>
                  <a:pt x="4" y="39"/>
                </a:lnTo>
                <a:lnTo>
                  <a:pt x="3" y="36"/>
                </a:lnTo>
                <a:lnTo>
                  <a:pt x="1" y="34"/>
                </a:lnTo>
                <a:lnTo>
                  <a:pt x="1" y="31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1" y="20"/>
                </a:lnTo>
                <a:lnTo>
                  <a:pt x="1" y="16"/>
                </a:lnTo>
                <a:lnTo>
                  <a:pt x="3" y="14"/>
                </a:lnTo>
                <a:lnTo>
                  <a:pt x="4" y="11"/>
                </a:lnTo>
                <a:lnTo>
                  <a:pt x="6" y="10"/>
                </a:lnTo>
                <a:lnTo>
                  <a:pt x="8" y="7"/>
                </a:lnTo>
                <a:lnTo>
                  <a:pt x="10" y="5"/>
                </a:lnTo>
                <a:lnTo>
                  <a:pt x="13" y="4"/>
                </a:lnTo>
                <a:lnTo>
                  <a:pt x="15" y="2"/>
                </a:lnTo>
                <a:lnTo>
                  <a:pt x="18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9" y="0"/>
                </a:lnTo>
                <a:lnTo>
                  <a:pt x="32" y="0"/>
                </a:lnTo>
                <a:lnTo>
                  <a:pt x="34" y="1"/>
                </a:lnTo>
                <a:lnTo>
                  <a:pt x="37" y="2"/>
                </a:lnTo>
                <a:lnTo>
                  <a:pt x="39" y="4"/>
                </a:lnTo>
                <a:lnTo>
                  <a:pt x="42" y="5"/>
                </a:lnTo>
                <a:lnTo>
                  <a:pt x="44" y="7"/>
                </a:lnTo>
                <a:lnTo>
                  <a:pt x="45" y="10"/>
                </a:lnTo>
                <a:lnTo>
                  <a:pt x="48" y="11"/>
                </a:lnTo>
                <a:lnTo>
                  <a:pt x="49" y="14"/>
                </a:lnTo>
                <a:lnTo>
                  <a:pt x="49" y="16"/>
                </a:lnTo>
                <a:lnTo>
                  <a:pt x="50" y="20"/>
                </a:lnTo>
                <a:lnTo>
                  <a:pt x="50" y="23"/>
                </a:lnTo>
                <a:lnTo>
                  <a:pt x="52" y="2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992120" y="311148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967160" y="31114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49160" y="4010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943520" y="4010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329840" y="401004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516640" y="4010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467240" y="30114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472160" y="3011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973160" y="4010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534760" y="4010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41300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3" y="73"/>
                </a:lnTo>
                <a:lnTo>
                  <a:pt x="10" y="54"/>
                </a:lnTo>
                <a:lnTo>
                  <a:pt x="21" y="35"/>
                </a:lnTo>
                <a:lnTo>
                  <a:pt x="37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7" y="168"/>
                </a:lnTo>
                <a:lnTo>
                  <a:pt x="21" y="153"/>
                </a:lnTo>
                <a:lnTo>
                  <a:pt x="10" y="136"/>
                </a:lnTo>
                <a:lnTo>
                  <a:pt x="3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01312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612880" y="3600360"/>
            <a:ext cx="30024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213000" y="3600360"/>
            <a:ext cx="30024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13120" y="3600360"/>
            <a:ext cx="30024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41324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4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4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61348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3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3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21360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3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3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13720" y="3600360"/>
            <a:ext cx="29988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3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3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413480" y="3600360"/>
            <a:ext cx="300240" cy="29844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0" y="94"/>
                </a:moveTo>
                <a:lnTo>
                  <a:pt x="2" y="73"/>
                </a:lnTo>
                <a:lnTo>
                  <a:pt x="10" y="54"/>
                </a:lnTo>
                <a:lnTo>
                  <a:pt x="21" y="35"/>
                </a:lnTo>
                <a:lnTo>
                  <a:pt x="36" y="21"/>
                </a:lnTo>
                <a:lnTo>
                  <a:pt x="54" y="10"/>
                </a:lnTo>
                <a:lnTo>
                  <a:pt x="74" y="2"/>
                </a:lnTo>
                <a:lnTo>
                  <a:pt x="94" y="0"/>
                </a:lnTo>
                <a:lnTo>
                  <a:pt x="116" y="2"/>
                </a:lnTo>
                <a:lnTo>
                  <a:pt x="136" y="10"/>
                </a:lnTo>
                <a:lnTo>
                  <a:pt x="153" y="21"/>
                </a:lnTo>
                <a:lnTo>
                  <a:pt x="169" y="35"/>
                </a:lnTo>
                <a:lnTo>
                  <a:pt x="180" y="54"/>
                </a:lnTo>
                <a:lnTo>
                  <a:pt x="186" y="73"/>
                </a:lnTo>
                <a:lnTo>
                  <a:pt x="189" y="94"/>
                </a:lnTo>
                <a:lnTo>
                  <a:pt x="186" y="115"/>
                </a:lnTo>
                <a:lnTo>
                  <a:pt x="180" y="136"/>
                </a:lnTo>
                <a:lnTo>
                  <a:pt x="169" y="153"/>
                </a:lnTo>
                <a:lnTo>
                  <a:pt x="153" y="168"/>
                </a:lnTo>
                <a:lnTo>
                  <a:pt x="136" y="180"/>
                </a:lnTo>
                <a:lnTo>
                  <a:pt x="116" y="186"/>
                </a:lnTo>
                <a:lnTo>
                  <a:pt x="94" y="188"/>
                </a:lnTo>
                <a:lnTo>
                  <a:pt x="74" y="186"/>
                </a:lnTo>
                <a:lnTo>
                  <a:pt x="54" y="180"/>
                </a:lnTo>
                <a:lnTo>
                  <a:pt x="36" y="168"/>
                </a:lnTo>
                <a:lnTo>
                  <a:pt x="21" y="153"/>
                </a:lnTo>
                <a:lnTo>
                  <a:pt x="10" y="136"/>
                </a:lnTo>
                <a:lnTo>
                  <a:pt x="2" y="115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AAB0-7B7A-4902-B5CE-A9AFB94D208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03961-AC22-4713-84C9-1E7D8A6BADD1}" type="datetime1">
              <a:rPr lang="en-US"/>
              <a:t>07/28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ode Consolid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2" name=""/>
          <p:cNvSpPr/>
          <p:nvPr/>
        </p:nvSpPr>
        <p:spPr>
          <a:xfrm>
            <a:off x="0" y="2057400"/>
            <a:ext cx="9144000" cy="32767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4562640" y="3956040"/>
            <a:ext cx="1125360" cy="127800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622840" y="3862440"/>
            <a:ext cx="146160" cy="203040"/>
          </a:xfrm>
          <a:custGeom>
            <a:avLst/>
            <a:gdLst/>
            <a:ahLst/>
            <a:rect l="l" t="t" r="r" b="b"/>
            <a:pathLst>
              <a:path w="92" h="128">
                <a:moveTo>
                  <a:pt x="0" y="23"/>
                </a:moveTo>
                <a:lnTo>
                  <a:pt x="92" y="0"/>
                </a:lnTo>
                <a:lnTo>
                  <a:pt x="49" y="128"/>
                </a:lnTo>
                <a:lnTo>
                  <a:pt x="47" y="122"/>
                </a:lnTo>
                <a:lnTo>
                  <a:pt x="47" y="113"/>
                </a:lnTo>
                <a:lnTo>
                  <a:pt x="45" y="105"/>
                </a:lnTo>
                <a:lnTo>
                  <a:pt x="43" y="98"/>
                </a:lnTo>
                <a:lnTo>
                  <a:pt x="42" y="90"/>
                </a:lnTo>
                <a:lnTo>
                  <a:pt x="39" y="84"/>
                </a:lnTo>
                <a:lnTo>
                  <a:pt x="37" y="77"/>
                </a:lnTo>
                <a:lnTo>
                  <a:pt x="34" y="71"/>
                </a:lnTo>
                <a:lnTo>
                  <a:pt x="31" y="65"/>
                </a:lnTo>
                <a:lnTo>
                  <a:pt x="27" y="59"/>
                </a:lnTo>
                <a:lnTo>
                  <a:pt x="24" y="52"/>
                </a:lnTo>
                <a:lnTo>
                  <a:pt x="20" y="46"/>
                </a:lnTo>
                <a:lnTo>
                  <a:pt x="16" y="42"/>
                </a:lnTo>
                <a:lnTo>
                  <a:pt x="12" y="36"/>
                </a:lnTo>
                <a:lnTo>
                  <a:pt x="8" y="31"/>
                </a:lnTo>
                <a:lnTo>
                  <a:pt x="4" y="27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4562640" y="371160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4603680" y="366228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4646520" y="3616200"/>
            <a:ext cx="190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4686480" y="3565080"/>
            <a:ext cx="187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4727520" y="3519000"/>
            <a:ext cx="2052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4770360" y="346824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4811760" y="3422160"/>
            <a:ext cx="2052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4851360" y="337644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4892760" y="3325320"/>
            <a:ext cx="2052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4935600" y="3279600"/>
            <a:ext cx="190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4975200" y="3228480"/>
            <a:ext cx="205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5016600" y="3182400"/>
            <a:ext cx="2196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flipV="1">
            <a:off x="5057640" y="3136680"/>
            <a:ext cx="2088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5097600" y="308628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V="1">
            <a:off x="5140440" y="3039840"/>
            <a:ext cx="2052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5181480" y="2989440"/>
            <a:ext cx="19080" cy="266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5222880" y="29433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V="1">
            <a:off x="5262480" y="2896920"/>
            <a:ext cx="2232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5303880" y="284652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5346720" y="2800080"/>
            <a:ext cx="1908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5388120" y="274932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5427720" y="270360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5468760" y="265752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V="1">
            <a:off x="5510160" y="26067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5553000" y="2560680"/>
            <a:ext cx="190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5592600" y="250956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5634000" y="246384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5675400" y="241776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5715000" y="236700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V="1">
            <a:off x="5757840" y="2320920"/>
            <a:ext cx="190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721480" y="2236680"/>
            <a:ext cx="126720" cy="181080"/>
          </a:xfrm>
          <a:custGeom>
            <a:avLst/>
            <a:gdLst/>
            <a:ahLst/>
            <a:rect l="l" t="t" r="r" b="b"/>
            <a:pathLst>
              <a:path w="80" h="114">
                <a:moveTo>
                  <a:pt x="0" y="23"/>
                </a:moveTo>
                <a:lnTo>
                  <a:pt x="80" y="0"/>
                </a:lnTo>
                <a:lnTo>
                  <a:pt x="43" y="114"/>
                </a:lnTo>
                <a:lnTo>
                  <a:pt x="43" y="107"/>
                </a:lnTo>
                <a:lnTo>
                  <a:pt x="42" y="101"/>
                </a:lnTo>
                <a:lnTo>
                  <a:pt x="41" y="95"/>
                </a:lnTo>
                <a:lnTo>
                  <a:pt x="39" y="88"/>
                </a:lnTo>
                <a:lnTo>
                  <a:pt x="37" y="82"/>
                </a:lnTo>
                <a:lnTo>
                  <a:pt x="35" y="76"/>
                </a:lnTo>
                <a:lnTo>
                  <a:pt x="33" y="69"/>
                </a:lnTo>
                <a:lnTo>
                  <a:pt x="30" y="63"/>
                </a:lnTo>
                <a:lnTo>
                  <a:pt x="27" y="57"/>
                </a:lnTo>
                <a:lnTo>
                  <a:pt x="25" y="53"/>
                </a:lnTo>
                <a:lnTo>
                  <a:pt x="22" y="49"/>
                </a:lnTo>
                <a:lnTo>
                  <a:pt x="19" y="42"/>
                </a:lnTo>
                <a:lnTo>
                  <a:pt x="15" y="38"/>
                </a:lnTo>
                <a:lnTo>
                  <a:pt x="11" y="34"/>
                </a:lnTo>
                <a:lnTo>
                  <a:pt x="8" y="30"/>
                </a:lnTo>
                <a:lnTo>
                  <a:pt x="4" y="28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flipV="1">
            <a:off x="3919680" y="2329920"/>
            <a:ext cx="1204920" cy="140508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059440" y="2236680"/>
            <a:ext cx="145800" cy="206640"/>
          </a:xfrm>
          <a:custGeom>
            <a:avLst/>
            <a:gdLst/>
            <a:ahLst/>
            <a:rect l="l" t="t" r="r" b="b"/>
            <a:pathLst>
              <a:path w="92" h="130">
                <a:moveTo>
                  <a:pt x="0" y="28"/>
                </a:moveTo>
                <a:lnTo>
                  <a:pt x="92" y="0"/>
                </a:lnTo>
                <a:lnTo>
                  <a:pt x="50" y="130"/>
                </a:lnTo>
                <a:lnTo>
                  <a:pt x="50" y="122"/>
                </a:lnTo>
                <a:lnTo>
                  <a:pt x="49" y="116"/>
                </a:lnTo>
                <a:lnTo>
                  <a:pt x="46" y="107"/>
                </a:lnTo>
                <a:lnTo>
                  <a:pt x="45" y="101"/>
                </a:lnTo>
                <a:lnTo>
                  <a:pt x="43" y="93"/>
                </a:lnTo>
                <a:lnTo>
                  <a:pt x="41" y="86"/>
                </a:lnTo>
                <a:lnTo>
                  <a:pt x="38" y="80"/>
                </a:lnTo>
                <a:lnTo>
                  <a:pt x="35" y="74"/>
                </a:lnTo>
                <a:lnTo>
                  <a:pt x="31" y="65"/>
                </a:lnTo>
                <a:lnTo>
                  <a:pt x="28" y="61"/>
                </a:lnTo>
                <a:lnTo>
                  <a:pt x="24" y="55"/>
                </a:lnTo>
                <a:lnTo>
                  <a:pt x="22" y="49"/>
                </a:lnTo>
                <a:lnTo>
                  <a:pt x="18" y="44"/>
                </a:lnTo>
                <a:lnTo>
                  <a:pt x="14" y="38"/>
                </a:lnTo>
                <a:lnTo>
                  <a:pt x="10" y="34"/>
                </a:lnTo>
                <a:lnTo>
                  <a:pt x="6" y="3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V="1">
            <a:off x="1990800" y="5210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2033640" y="516060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2075040" y="511488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2117880" y="50673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2157480" y="5021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2198520" y="497376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2241720" y="4924080"/>
            <a:ext cx="187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2282760" y="487836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V="1">
            <a:off x="2325600" y="483084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2365200" y="478476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2406600" y="473868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2449440" y="468756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2490840" y="464184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2533680" y="459432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2573280" y="454824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V="1">
            <a:off x="2614680" y="450216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V="1">
            <a:off x="2657520" y="445104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2698920" y="440532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2741760" y="435780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2781360" y="431172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V="1">
            <a:off x="2822400" y="426564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V="1">
            <a:off x="2865600" y="4214520"/>
            <a:ext cx="187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2905200" y="416880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2948040" y="4121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2989440" y="407520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 flipV="1">
            <a:off x="3030480" y="402912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3073320" y="397800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3112920" y="3941640"/>
            <a:ext cx="1296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068640" y="3862440"/>
            <a:ext cx="128520" cy="176040"/>
          </a:xfrm>
          <a:custGeom>
            <a:avLst/>
            <a:gdLst/>
            <a:ahLst/>
            <a:rect l="l" t="t" r="r" b="b"/>
            <a:pathLst>
              <a:path w="81" h="111">
                <a:moveTo>
                  <a:pt x="0" y="21"/>
                </a:moveTo>
                <a:lnTo>
                  <a:pt x="81" y="0"/>
                </a:lnTo>
                <a:lnTo>
                  <a:pt x="43" y="111"/>
                </a:lnTo>
                <a:lnTo>
                  <a:pt x="43" y="105"/>
                </a:lnTo>
                <a:lnTo>
                  <a:pt x="42" y="98"/>
                </a:lnTo>
                <a:lnTo>
                  <a:pt x="41" y="92"/>
                </a:lnTo>
                <a:lnTo>
                  <a:pt x="39" y="86"/>
                </a:lnTo>
                <a:lnTo>
                  <a:pt x="36" y="80"/>
                </a:lnTo>
                <a:lnTo>
                  <a:pt x="35" y="73"/>
                </a:lnTo>
                <a:lnTo>
                  <a:pt x="32" y="67"/>
                </a:lnTo>
                <a:lnTo>
                  <a:pt x="30" y="61"/>
                </a:lnTo>
                <a:lnTo>
                  <a:pt x="27" y="57"/>
                </a:lnTo>
                <a:lnTo>
                  <a:pt x="24" y="50"/>
                </a:lnTo>
                <a:lnTo>
                  <a:pt x="22" y="46"/>
                </a:lnTo>
                <a:lnTo>
                  <a:pt x="19" y="40"/>
                </a:lnTo>
                <a:lnTo>
                  <a:pt x="15" y="36"/>
                </a:lnTo>
                <a:lnTo>
                  <a:pt x="12" y="31"/>
                </a:lnTo>
                <a:lnTo>
                  <a:pt x="8" y="27"/>
                </a:lnTo>
                <a:lnTo>
                  <a:pt x="4" y="23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V="1">
            <a:off x="1347840" y="3956040"/>
            <a:ext cx="1125360" cy="127800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2408400" y="3862440"/>
            <a:ext cx="145800" cy="203040"/>
          </a:xfrm>
          <a:custGeom>
            <a:avLst/>
            <a:gdLst/>
            <a:ahLst/>
            <a:rect l="l" t="t" r="r" b="b"/>
            <a:pathLst>
              <a:path w="92" h="128">
                <a:moveTo>
                  <a:pt x="0" y="23"/>
                </a:moveTo>
                <a:lnTo>
                  <a:pt x="92" y="0"/>
                </a:lnTo>
                <a:lnTo>
                  <a:pt x="49" y="128"/>
                </a:lnTo>
                <a:lnTo>
                  <a:pt x="48" y="122"/>
                </a:lnTo>
                <a:lnTo>
                  <a:pt x="48" y="113"/>
                </a:lnTo>
                <a:lnTo>
                  <a:pt x="45" y="105"/>
                </a:lnTo>
                <a:lnTo>
                  <a:pt x="43" y="98"/>
                </a:lnTo>
                <a:lnTo>
                  <a:pt x="42" y="90"/>
                </a:lnTo>
                <a:lnTo>
                  <a:pt x="39" y="84"/>
                </a:lnTo>
                <a:lnTo>
                  <a:pt x="37" y="77"/>
                </a:lnTo>
                <a:lnTo>
                  <a:pt x="34" y="71"/>
                </a:lnTo>
                <a:lnTo>
                  <a:pt x="31" y="65"/>
                </a:lnTo>
                <a:lnTo>
                  <a:pt x="27" y="59"/>
                </a:lnTo>
                <a:lnTo>
                  <a:pt x="25" y="52"/>
                </a:lnTo>
                <a:lnTo>
                  <a:pt x="21" y="46"/>
                </a:lnTo>
                <a:lnTo>
                  <a:pt x="16" y="42"/>
                </a:lnTo>
                <a:lnTo>
                  <a:pt x="12" y="36"/>
                </a:lnTo>
                <a:lnTo>
                  <a:pt x="8" y="31"/>
                </a:lnTo>
                <a:lnTo>
                  <a:pt x="4" y="27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 flipV="1">
            <a:off x="704880" y="5210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V="1">
            <a:off x="747720" y="516060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789120" y="511488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V="1">
            <a:off x="831960" y="50673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871560" y="5021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V="1">
            <a:off x="912960" y="497376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V="1">
            <a:off x="955800" y="492408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996840" y="487836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1039680" y="483084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V="1">
            <a:off x="1079640" y="478476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V="1">
            <a:off x="1120680" y="473868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1163520" y="468756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1204920" y="464184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1247760" y="459432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1287360" y="454824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1328760" y="450216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1371600" y="445104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1413000" y="440532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1455840" y="435780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1495440" y="431172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1536840" y="426564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1579680" y="421452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1620720" y="416880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1663560" y="412128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V="1">
            <a:off x="1703520" y="407520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1744560" y="402912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V="1">
            <a:off x="1787400" y="397800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V="1">
            <a:off x="1827360" y="3941640"/>
            <a:ext cx="1404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1782720" y="3862440"/>
            <a:ext cx="128520" cy="176040"/>
          </a:xfrm>
          <a:custGeom>
            <a:avLst/>
            <a:gdLst/>
            <a:ahLst/>
            <a:rect l="l" t="t" r="r" b="b"/>
            <a:pathLst>
              <a:path w="81" h="111">
                <a:moveTo>
                  <a:pt x="0" y="21"/>
                </a:moveTo>
                <a:lnTo>
                  <a:pt x="81" y="0"/>
                </a:lnTo>
                <a:lnTo>
                  <a:pt x="43" y="111"/>
                </a:lnTo>
                <a:lnTo>
                  <a:pt x="43" y="105"/>
                </a:lnTo>
                <a:lnTo>
                  <a:pt x="42" y="98"/>
                </a:lnTo>
                <a:lnTo>
                  <a:pt x="41" y="92"/>
                </a:lnTo>
                <a:lnTo>
                  <a:pt x="39" y="86"/>
                </a:lnTo>
                <a:lnTo>
                  <a:pt x="37" y="80"/>
                </a:lnTo>
                <a:lnTo>
                  <a:pt x="35" y="73"/>
                </a:lnTo>
                <a:lnTo>
                  <a:pt x="33" y="67"/>
                </a:lnTo>
                <a:lnTo>
                  <a:pt x="30" y="61"/>
                </a:lnTo>
                <a:lnTo>
                  <a:pt x="27" y="57"/>
                </a:lnTo>
                <a:lnTo>
                  <a:pt x="24" y="50"/>
                </a:lnTo>
                <a:lnTo>
                  <a:pt x="22" y="46"/>
                </a:lnTo>
                <a:lnTo>
                  <a:pt x="19" y="40"/>
                </a:lnTo>
                <a:lnTo>
                  <a:pt x="15" y="36"/>
                </a:lnTo>
                <a:lnTo>
                  <a:pt x="12" y="31"/>
                </a:lnTo>
                <a:lnTo>
                  <a:pt x="8" y="27"/>
                </a:lnTo>
                <a:lnTo>
                  <a:pt x="4" y="23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61920" y="3956040"/>
            <a:ext cx="1125360" cy="127800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122480" y="3862440"/>
            <a:ext cx="145800" cy="203040"/>
          </a:xfrm>
          <a:custGeom>
            <a:avLst/>
            <a:gdLst/>
            <a:ahLst/>
            <a:rect l="l" t="t" r="r" b="b"/>
            <a:pathLst>
              <a:path w="92" h="128">
                <a:moveTo>
                  <a:pt x="0" y="23"/>
                </a:moveTo>
                <a:lnTo>
                  <a:pt x="92" y="0"/>
                </a:lnTo>
                <a:lnTo>
                  <a:pt x="49" y="128"/>
                </a:lnTo>
                <a:lnTo>
                  <a:pt x="48" y="122"/>
                </a:lnTo>
                <a:lnTo>
                  <a:pt x="48" y="113"/>
                </a:lnTo>
                <a:lnTo>
                  <a:pt x="45" y="105"/>
                </a:lnTo>
                <a:lnTo>
                  <a:pt x="44" y="98"/>
                </a:lnTo>
                <a:lnTo>
                  <a:pt x="42" y="90"/>
                </a:lnTo>
                <a:lnTo>
                  <a:pt x="39" y="84"/>
                </a:lnTo>
                <a:lnTo>
                  <a:pt x="37" y="77"/>
                </a:lnTo>
                <a:lnTo>
                  <a:pt x="34" y="71"/>
                </a:lnTo>
                <a:lnTo>
                  <a:pt x="31" y="65"/>
                </a:lnTo>
                <a:lnTo>
                  <a:pt x="27" y="59"/>
                </a:lnTo>
                <a:lnTo>
                  <a:pt x="25" y="52"/>
                </a:lnTo>
                <a:lnTo>
                  <a:pt x="21" y="46"/>
                </a:lnTo>
                <a:lnTo>
                  <a:pt x="17" y="42"/>
                </a:lnTo>
                <a:lnTo>
                  <a:pt x="12" y="36"/>
                </a:lnTo>
                <a:lnTo>
                  <a:pt x="8" y="31"/>
                </a:lnTo>
                <a:lnTo>
                  <a:pt x="4" y="27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7777080" y="371160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7816680" y="3662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7859880" y="361620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7900920" y="356508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7942320" y="3519000"/>
            <a:ext cx="2052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V="1">
            <a:off x="7985160" y="346824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8024760" y="3422160"/>
            <a:ext cx="2232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V="1">
            <a:off x="8066160" y="337644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8107200" y="3325320"/>
            <a:ext cx="2088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8150400" y="3279600"/>
            <a:ext cx="187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V="1">
            <a:off x="8190000" y="322848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flipV="1">
            <a:off x="8231040" y="3182400"/>
            <a:ext cx="20880" cy="24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8272440" y="3136680"/>
            <a:ext cx="2052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8312040" y="308628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8354880" y="3039840"/>
            <a:ext cx="1908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V="1">
            <a:off x="8396280" y="2989440"/>
            <a:ext cx="19080" cy="266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8437680" y="29433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8477280" y="2896920"/>
            <a:ext cx="2232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8518680" y="284652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8561520" y="2800080"/>
            <a:ext cx="19080" cy="219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8601120" y="2749320"/>
            <a:ext cx="205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8642520" y="270360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8683560" y="265752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V="1">
            <a:off x="8723160" y="260676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8766000" y="256068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8807400" y="250956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8848800" y="246384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V="1">
            <a:off x="8888400" y="241776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V="1">
            <a:off x="8929800" y="236700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8972640" y="2320920"/>
            <a:ext cx="190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8935920" y="2236680"/>
            <a:ext cx="127080" cy="181080"/>
          </a:xfrm>
          <a:custGeom>
            <a:avLst/>
            <a:gdLst/>
            <a:ahLst/>
            <a:rect l="l" t="t" r="r" b="b"/>
            <a:pathLst>
              <a:path w="80" h="114">
                <a:moveTo>
                  <a:pt x="0" y="23"/>
                </a:moveTo>
                <a:lnTo>
                  <a:pt x="80" y="0"/>
                </a:lnTo>
                <a:lnTo>
                  <a:pt x="43" y="114"/>
                </a:lnTo>
                <a:lnTo>
                  <a:pt x="43" y="107"/>
                </a:lnTo>
                <a:lnTo>
                  <a:pt x="42" y="101"/>
                </a:lnTo>
                <a:lnTo>
                  <a:pt x="41" y="95"/>
                </a:lnTo>
                <a:lnTo>
                  <a:pt x="39" y="88"/>
                </a:lnTo>
                <a:lnTo>
                  <a:pt x="37" y="82"/>
                </a:lnTo>
                <a:lnTo>
                  <a:pt x="35" y="76"/>
                </a:lnTo>
                <a:lnTo>
                  <a:pt x="32" y="69"/>
                </a:lnTo>
                <a:lnTo>
                  <a:pt x="30" y="63"/>
                </a:lnTo>
                <a:lnTo>
                  <a:pt x="27" y="57"/>
                </a:lnTo>
                <a:lnTo>
                  <a:pt x="24" y="53"/>
                </a:lnTo>
                <a:lnTo>
                  <a:pt x="22" y="49"/>
                </a:lnTo>
                <a:lnTo>
                  <a:pt x="19" y="42"/>
                </a:lnTo>
                <a:lnTo>
                  <a:pt x="15" y="38"/>
                </a:lnTo>
                <a:lnTo>
                  <a:pt x="11" y="34"/>
                </a:lnTo>
                <a:lnTo>
                  <a:pt x="8" y="30"/>
                </a:lnTo>
                <a:lnTo>
                  <a:pt x="4" y="28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V="1">
            <a:off x="7134120" y="2329920"/>
            <a:ext cx="1203480" cy="1405080"/>
          </a:xfrm>
          <a:prstGeom prst="line">
            <a:avLst/>
          </a:prstGeom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8273880" y="2236680"/>
            <a:ext cx="146160" cy="206640"/>
          </a:xfrm>
          <a:custGeom>
            <a:avLst/>
            <a:gdLst/>
            <a:ahLst/>
            <a:rect l="l" t="t" r="r" b="b"/>
            <a:pathLst>
              <a:path w="92" h="130">
                <a:moveTo>
                  <a:pt x="0" y="28"/>
                </a:moveTo>
                <a:lnTo>
                  <a:pt x="92" y="0"/>
                </a:lnTo>
                <a:lnTo>
                  <a:pt x="50" y="130"/>
                </a:lnTo>
                <a:lnTo>
                  <a:pt x="50" y="122"/>
                </a:lnTo>
                <a:lnTo>
                  <a:pt x="49" y="116"/>
                </a:lnTo>
                <a:lnTo>
                  <a:pt x="46" y="107"/>
                </a:lnTo>
                <a:lnTo>
                  <a:pt x="44" y="101"/>
                </a:lnTo>
                <a:lnTo>
                  <a:pt x="43" y="93"/>
                </a:lnTo>
                <a:lnTo>
                  <a:pt x="40" y="86"/>
                </a:lnTo>
                <a:lnTo>
                  <a:pt x="38" y="80"/>
                </a:lnTo>
                <a:lnTo>
                  <a:pt x="35" y="74"/>
                </a:lnTo>
                <a:lnTo>
                  <a:pt x="31" y="65"/>
                </a:lnTo>
                <a:lnTo>
                  <a:pt x="28" y="61"/>
                </a:lnTo>
                <a:lnTo>
                  <a:pt x="24" y="55"/>
                </a:lnTo>
                <a:lnTo>
                  <a:pt x="22" y="49"/>
                </a:lnTo>
                <a:lnTo>
                  <a:pt x="17" y="44"/>
                </a:lnTo>
                <a:lnTo>
                  <a:pt x="13" y="38"/>
                </a:lnTo>
                <a:lnTo>
                  <a:pt x="9" y="34"/>
                </a:lnTo>
                <a:lnTo>
                  <a:pt x="5" y="3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V="1">
            <a:off x="5205240" y="521028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5248440" y="5160600"/>
            <a:ext cx="187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V="1">
            <a:off x="5289480" y="511488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5332320" y="506736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V="1">
            <a:off x="5372280" y="502128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5413320" y="4973760"/>
            <a:ext cx="205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5456160" y="492408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V="1">
            <a:off x="5495760" y="487836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5538960" y="483084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5580000" y="478476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5621400" y="473868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V="1">
            <a:off x="5664240" y="468756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5703840" y="464184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5746680" y="459432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V="1">
            <a:off x="5788080" y="454824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V="1">
            <a:off x="5829480" y="450216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V="1">
            <a:off x="5872320" y="4451040"/>
            <a:ext cx="1872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5911920" y="4405320"/>
            <a:ext cx="223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V="1">
            <a:off x="5954760" y="435780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5996160" y="431172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 flipV="1">
            <a:off x="6037200" y="4265640"/>
            <a:ext cx="2088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V="1">
            <a:off x="6080040" y="421452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6119640" y="4168800"/>
            <a:ext cx="2232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6162840" y="4121280"/>
            <a:ext cx="2196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6203880" y="4075200"/>
            <a:ext cx="20880" cy="237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 flipV="1">
            <a:off x="6245280" y="4029120"/>
            <a:ext cx="20520" cy="223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flipV="1">
            <a:off x="6288120" y="3978000"/>
            <a:ext cx="19080" cy="27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V="1">
            <a:off x="6327720" y="3941640"/>
            <a:ext cx="12600" cy="144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6283440" y="3862440"/>
            <a:ext cx="128520" cy="176040"/>
          </a:xfrm>
          <a:custGeom>
            <a:avLst/>
            <a:gdLst/>
            <a:ahLst/>
            <a:rect l="l" t="t" r="r" b="b"/>
            <a:pathLst>
              <a:path w="81" h="111">
                <a:moveTo>
                  <a:pt x="0" y="21"/>
                </a:moveTo>
                <a:lnTo>
                  <a:pt x="81" y="0"/>
                </a:lnTo>
                <a:lnTo>
                  <a:pt x="43" y="111"/>
                </a:lnTo>
                <a:lnTo>
                  <a:pt x="43" y="105"/>
                </a:lnTo>
                <a:lnTo>
                  <a:pt x="42" y="98"/>
                </a:lnTo>
                <a:lnTo>
                  <a:pt x="40" y="92"/>
                </a:lnTo>
                <a:lnTo>
                  <a:pt x="39" y="86"/>
                </a:lnTo>
                <a:lnTo>
                  <a:pt x="36" y="80"/>
                </a:lnTo>
                <a:lnTo>
                  <a:pt x="35" y="73"/>
                </a:lnTo>
                <a:lnTo>
                  <a:pt x="32" y="67"/>
                </a:lnTo>
                <a:lnTo>
                  <a:pt x="30" y="61"/>
                </a:lnTo>
                <a:lnTo>
                  <a:pt x="27" y="57"/>
                </a:lnTo>
                <a:lnTo>
                  <a:pt x="24" y="50"/>
                </a:lnTo>
                <a:lnTo>
                  <a:pt x="21" y="46"/>
                </a:lnTo>
                <a:lnTo>
                  <a:pt x="19" y="40"/>
                </a:lnTo>
                <a:lnTo>
                  <a:pt x="15" y="36"/>
                </a:lnTo>
                <a:lnTo>
                  <a:pt x="12" y="31"/>
                </a:lnTo>
                <a:lnTo>
                  <a:pt x="8" y="27"/>
                </a:lnTo>
                <a:lnTo>
                  <a:pt x="4" y="23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34784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933560" y="3646440"/>
            <a:ext cx="57240" cy="179280"/>
          </a:xfrm>
          <a:custGeom>
            <a:avLst/>
            <a:gdLst/>
            <a:ahLst/>
            <a:rect l="l" t="t" r="r" b="b"/>
            <a:pathLst>
              <a:path w="36" h="113">
                <a:moveTo>
                  <a:pt x="0" y="0"/>
                </a:moveTo>
                <a:lnTo>
                  <a:pt x="36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305000" y="3668760"/>
            <a:ext cx="8712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9" y="69"/>
                </a:lnTo>
                <a:lnTo>
                  <a:pt x="47" y="72"/>
                </a:lnTo>
                <a:lnTo>
                  <a:pt x="45" y="76"/>
                </a:lnTo>
                <a:lnTo>
                  <a:pt x="42" y="78"/>
                </a:lnTo>
                <a:lnTo>
                  <a:pt x="39" y="80"/>
                </a:lnTo>
                <a:lnTo>
                  <a:pt x="37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2" y="84"/>
                </a:lnTo>
                <a:lnTo>
                  <a:pt x="19" y="82"/>
                </a:lnTo>
                <a:lnTo>
                  <a:pt x="16" y="80"/>
                </a:lnTo>
                <a:lnTo>
                  <a:pt x="14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4" y="7"/>
                </a:lnTo>
                <a:lnTo>
                  <a:pt x="16" y="4"/>
                </a:lnTo>
                <a:lnTo>
                  <a:pt x="19" y="2"/>
                </a:lnTo>
                <a:lnTo>
                  <a:pt x="22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7" y="2"/>
                </a:lnTo>
                <a:lnTo>
                  <a:pt x="39" y="4"/>
                </a:lnTo>
                <a:lnTo>
                  <a:pt x="42" y="7"/>
                </a:lnTo>
                <a:lnTo>
                  <a:pt x="45" y="9"/>
                </a:lnTo>
                <a:lnTo>
                  <a:pt x="47" y="13"/>
                </a:lnTo>
                <a:lnTo>
                  <a:pt x="49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99080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2576520" y="3646440"/>
            <a:ext cx="57240" cy="179280"/>
          </a:xfrm>
          <a:custGeom>
            <a:avLst/>
            <a:gdLst/>
            <a:ahLst/>
            <a:rect l="l" t="t" r="r" b="b"/>
            <a:pathLst>
              <a:path w="36" h="113">
                <a:moveTo>
                  <a:pt x="0" y="0"/>
                </a:moveTo>
                <a:lnTo>
                  <a:pt x="36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947960" y="3668760"/>
            <a:ext cx="8712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9" y="69"/>
                </a:lnTo>
                <a:lnTo>
                  <a:pt x="47" y="72"/>
                </a:lnTo>
                <a:lnTo>
                  <a:pt x="45" y="76"/>
                </a:lnTo>
                <a:lnTo>
                  <a:pt x="42" y="78"/>
                </a:lnTo>
                <a:lnTo>
                  <a:pt x="39" y="80"/>
                </a:lnTo>
                <a:lnTo>
                  <a:pt x="37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2" y="84"/>
                </a:lnTo>
                <a:lnTo>
                  <a:pt x="19" y="82"/>
                </a:lnTo>
                <a:lnTo>
                  <a:pt x="16" y="80"/>
                </a:lnTo>
                <a:lnTo>
                  <a:pt x="14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4" y="7"/>
                </a:lnTo>
                <a:lnTo>
                  <a:pt x="16" y="4"/>
                </a:lnTo>
                <a:lnTo>
                  <a:pt x="19" y="2"/>
                </a:lnTo>
                <a:lnTo>
                  <a:pt x="22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7" y="2"/>
                </a:lnTo>
                <a:lnTo>
                  <a:pt x="39" y="4"/>
                </a:lnTo>
                <a:lnTo>
                  <a:pt x="42" y="7"/>
                </a:lnTo>
                <a:lnTo>
                  <a:pt x="45" y="9"/>
                </a:lnTo>
                <a:lnTo>
                  <a:pt x="47" y="13"/>
                </a:lnTo>
                <a:lnTo>
                  <a:pt x="49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63376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219480" y="3646440"/>
            <a:ext cx="57240" cy="179280"/>
          </a:xfrm>
          <a:custGeom>
            <a:avLst/>
            <a:gdLst/>
            <a:ahLst/>
            <a:rect l="l" t="t" r="r" b="b"/>
            <a:pathLst>
              <a:path w="36" h="113">
                <a:moveTo>
                  <a:pt x="0" y="0"/>
                </a:moveTo>
                <a:lnTo>
                  <a:pt x="36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590920" y="3668760"/>
            <a:ext cx="8712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9" y="69"/>
                </a:lnTo>
                <a:lnTo>
                  <a:pt x="47" y="72"/>
                </a:lnTo>
                <a:lnTo>
                  <a:pt x="45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2" y="84"/>
                </a:lnTo>
                <a:lnTo>
                  <a:pt x="19" y="82"/>
                </a:lnTo>
                <a:lnTo>
                  <a:pt x="16" y="80"/>
                </a:lnTo>
                <a:lnTo>
                  <a:pt x="14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4" y="7"/>
                </a:lnTo>
                <a:lnTo>
                  <a:pt x="16" y="4"/>
                </a:lnTo>
                <a:lnTo>
                  <a:pt x="19" y="2"/>
                </a:lnTo>
                <a:lnTo>
                  <a:pt x="22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5" y="9"/>
                </a:lnTo>
                <a:lnTo>
                  <a:pt x="47" y="13"/>
                </a:lnTo>
                <a:lnTo>
                  <a:pt x="49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27672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862440" y="3646440"/>
            <a:ext cx="57240" cy="179280"/>
          </a:xfrm>
          <a:custGeom>
            <a:avLst/>
            <a:gdLst/>
            <a:ahLst/>
            <a:rect l="l" t="t" r="r" b="b"/>
            <a:pathLst>
              <a:path w="36" h="113">
                <a:moveTo>
                  <a:pt x="0" y="0"/>
                </a:moveTo>
                <a:lnTo>
                  <a:pt x="36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233880" y="3668760"/>
            <a:ext cx="8712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9" y="69"/>
                </a:lnTo>
                <a:lnTo>
                  <a:pt x="47" y="72"/>
                </a:lnTo>
                <a:lnTo>
                  <a:pt x="45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2" y="84"/>
                </a:lnTo>
                <a:lnTo>
                  <a:pt x="19" y="82"/>
                </a:lnTo>
                <a:lnTo>
                  <a:pt x="16" y="80"/>
                </a:lnTo>
                <a:lnTo>
                  <a:pt x="13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3" y="7"/>
                </a:lnTo>
                <a:lnTo>
                  <a:pt x="16" y="4"/>
                </a:lnTo>
                <a:lnTo>
                  <a:pt x="19" y="2"/>
                </a:lnTo>
                <a:lnTo>
                  <a:pt x="22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5" y="9"/>
                </a:lnTo>
                <a:lnTo>
                  <a:pt x="47" y="13"/>
                </a:lnTo>
                <a:lnTo>
                  <a:pt x="49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91968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503600" y="3646440"/>
            <a:ext cx="59040" cy="179280"/>
          </a:xfrm>
          <a:custGeom>
            <a:avLst/>
            <a:gdLst/>
            <a:ahLst/>
            <a:rect l="l" t="t" r="r" b="b"/>
            <a:pathLst>
              <a:path w="37" h="113">
                <a:moveTo>
                  <a:pt x="0" y="0"/>
                </a:moveTo>
                <a:lnTo>
                  <a:pt x="37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876840" y="3668760"/>
            <a:ext cx="8712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9" y="69"/>
                </a:lnTo>
                <a:lnTo>
                  <a:pt x="47" y="72"/>
                </a:lnTo>
                <a:lnTo>
                  <a:pt x="45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2" y="84"/>
                </a:lnTo>
                <a:lnTo>
                  <a:pt x="19" y="82"/>
                </a:lnTo>
                <a:lnTo>
                  <a:pt x="16" y="80"/>
                </a:lnTo>
                <a:lnTo>
                  <a:pt x="13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3" y="7"/>
                </a:lnTo>
                <a:lnTo>
                  <a:pt x="16" y="4"/>
                </a:lnTo>
                <a:lnTo>
                  <a:pt x="19" y="2"/>
                </a:lnTo>
                <a:lnTo>
                  <a:pt x="22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5" y="9"/>
                </a:lnTo>
                <a:lnTo>
                  <a:pt x="47" y="13"/>
                </a:lnTo>
                <a:lnTo>
                  <a:pt x="49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84820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6432480" y="3646440"/>
            <a:ext cx="58680" cy="179280"/>
          </a:xfrm>
          <a:custGeom>
            <a:avLst/>
            <a:gdLst/>
            <a:ahLst/>
            <a:rect l="l" t="t" r="r" b="b"/>
            <a:pathLst>
              <a:path w="37" h="113">
                <a:moveTo>
                  <a:pt x="0" y="0"/>
                </a:moveTo>
                <a:lnTo>
                  <a:pt x="37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805360" y="3668760"/>
            <a:ext cx="8748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3" y="57"/>
                </a:lnTo>
                <a:lnTo>
                  <a:pt x="53" y="61"/>
                </a:lnTo>
                <a:lnTo>
                  <a:pt x="51" y="65"/>
                </a:lnTo>
                <a:lnTo>
                  <a:pt x="48" y="69"/>
                </a:lnTo>
                <a:lnTo>
                  <a:pt x="47" y="72"/>
                </a:lnTo>
                <a:lnTo>
                  <a:pt x="44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1" y="84"/>
                </a:lnTo>
                <a:lnTo>
                  <a:pt x="19" y="82"/>
                </a:lnTo>
                <a:lnTo>
                  <a:pt x="16" y="80"/>
                </a:lnTo>
                <a:lnTo>
                  <a:pt x="13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3" y="7"/>
                </a:lnTo>
                <a:lnTo>
                  <a:pt x="16" y="4"/>
                </a:lnTo>
                <a:lnTo>
                  <a:pt x="19" y="2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4" y="9"/>
                </a:lnTo>
                <a:lnTo>
                  <a:pt x="47" y="13"/>
                </a:lnTo>
                <a:lnTo>
                  <a:pt x="48" y="17"/>
                </a:lnTo>
                <a:lnTo>
                  <a:pt x="51" y="19"/>
                </a:lnTo>
                <a:lnTo>
                  <a:pt x="53" y="23"/>
                </a:lnTo>
                <a:lnTo>
                  <a:pt x="53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49116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075440" y="3646440"/>
            <a:ext cx="58680" cy="179280"/>
          </a:xfrm>
          <a:custGeom>
            <a:avLst/>
            <a:gdLst/>
            <a:ahLst/>
            <a:rect l="l" t="t" r="r" b="b"/>
            <a:pathLst>
              <a:path w="37" h="113">
                <a:moveTo>
                  <a:pt x="0" y="0"/>
                </a:moveTo>
                <a:lnTo>
                  <a:pt x="37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448320" y="3668760"/>
            <a:ext cx="8748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2" y="57"/>
                </a:lnTo>
                <a:lnTo>
                  <a:pt x="52" y="61"/>
                </a:lnTo>
                <a:lnTo>
                  <a:pt x="51" y="65"/>
                </a:lnTo>
                <a:lnTo>
                  <a:pt x="48" y="69"/>
                </a:lnTo>
                <a:lnTo>
                  <a:pt x="47" y="72"/>
                </a:lnTo>
                <a:lnTo>
                  <a:pt x="44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1" y="84"/>
                </a:lnTo>
                <a:lnTo>
                  <a:pt x="19" y="82"/>
                </a:lnTo>
                <a:lnTo>
                  <a:pt x="16" y="80"/>
                </a:lnTo>
                <a:lnTo>
                  <a:pt x="13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3" y="7"/>
                </a:lnTo>
                <a:lnTo>
                  <a:pt x="16" y="4"/>
                </a:lnTo>
                <a:lnTo>
                  <a:pt x="19" y="2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4" y="9"/>
                </a:lnTo>
                <a:lnTo>
                  <a:pt x="47" y="13"/>
                </a:lnTo>
                <a:lnTo>
                  <a:pt x="48" y="17"/>
                </a:lnTo>
                <a:lnTo>
                  <a:pt x="51" y="19"/>
                </a:lnTo>
                <a:lnTo>
                  <a:pt x="52" y="23"/>
                </a:lnTo>
                <a:lnTo>
                  <a:pt x="52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134120" y="3735360"/>
            <a:ext cx="6429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718400" y="3646440"/>
            <a:ext cx="58680" cy="179280"/>
          </a:xfrm>
          <a:custGeom>
            <a:avLst/>
            <a:gdLst/>
            <a:ahLst/>
            <a:rect l="l" t="t" r="r" b="b"/>
            <a:pathLst>
              <a:path w="37" h="113">
                <a:moveTo>
                  <a:pt x="0" y="0"/>
                </a:moveTo>
                <a:lnTo>
                  <a:pt x="37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091280" y="3668760"/>
            <a:ext cx="87480" cy="133200"/>
          </a:xfrm>
          <a:custGeom>
            <a:avLst/>
            <a:gdLst/>
            <a:ahLst/>
            <a:rect l="l" t="t" r="r" b="b"/>
            <a:pathLst>
              <a:path w="55" h="84">
                <a:moveTo>
                  <a:pt x="55" y="42"/>
                </a:moveTo>
                <a:lnTo>
                  <a:pt x="54" y="46"/>
                </a:lnTo>
                <a:lnTo>
                  <a:pt x="54" y="53"/>
                </a:lnTo>
                <a:lnTo>
                  <a:pt x="52" y="57"/>
                </a:lnTo>
                <a:lnTo>
                  <a:pt x="52" y="61"/>
                </a:lnTo>
                <a:lnTo>
                  <a:pt x="51" y="65"/>
                </a:lnTo>
                <a:lnTo>
                  <a:pt x="48" y="69"/>
                </a:lnTo>
                <a:lnTo>
                  <a:pt x="47" y="72"/>
                </a:lnTo>
                <a:lnTo>
                  <a:pt x="44" y="76"/>
                </a:lnTo>
                <a:lnTo>
                  <a:pt x="42" y="78"/>
                </a:lnTo>
                <a:lnTo>
                  <a:pt x="39" y="80"/>
                </a:lnTo>
                <a:lnTo>
                  <a:pt x="36" y="82"/>
                </a:lnTo>
                <a:lnTo>
                  <a:pt x="34" y="84"/>
                </a:lnTo>
                <a:lnTo>
                  <a:pt x="31" y="84"/>
                </a:lnTo>
                <a:lnTo>
                  <a:pt x="27" y="84"/>
                </a:lnTo>
                <a:lnTo>
                  <a:pt x="24" y="84"/>
                </a:lnTo>
                <a:lnTo>
                  <a:pt x="21" y="84"/>
                </a:lnTo>
                <a:lnTo>
                  <a:pt x="19" y="82"/>
                </a:lnTo>
                <a:lnTo>
                  <a:pt x="16" y="80"/>
                </a:lnTo>
                <a:lnTo>
                  <a:pt x="13" y="78"/>
                </a:lnTo>
                <a:lnTo>
                  <a:pt x="11" y="76"/>
                </a:lnTo>
                <a:lnTo>
                  <a:pt x="8" y="72"/>
                </a:lnTo>
                <a:lnTo>
                  <a:pt x="7" y="69"/>
                </a:lnTo>
                <a:lnTo>
                  <a:pt x="4" y="65"/>
                </a:lnTo>
                <a:lnTo>
                  <a:pt x="3" y="61"/>
                </a:lnTo>
                <a:lnTo>
                  <a:pt x="1" y="57"/>
                </a:lnTo>
                <a:lnTo>
                  <a:pt x="1" y="53"/>
                </a:lnTo>
                <a:lnTo>
                  <a:pt x="0" y="46"/>
                </a:lnTo>
                <a:lnTo>
                  <a:pt x="0" y="42"/>
                </a:lnTo>
                <a:lnTo>
                  <a:pt x="0" y="38"/>
                </a:lnTo>
                <a:lnTo>
                  <a:pt x="1" y="34"/>
                </a:lnTo>
                <a:lnTo>
                  <a:pt x="1" y="27"/>
                </a:lnTo>
                <a:lnTo>
                  <a:pt x="3" y="23"/>
                </a:lnTo>
                <a:lnTo>
                  <a:pt x="4" y="19"/>
                </a:lnTo>
                <a:lnTo>
                  <a:pt x="7" y="17"/>
                </a:lnTo>
                <a:lnTo>
                  <a:pt x="8" y="13"/>
                </a:lnTo>
                <a:lnTo>
                  <a:pt x="11" y="9"/>
                </a:lnTo>
                <a:lnTo>
                  <a:pt x="13" y="7"/>
                </a:lnTo>
                <a:lnTo>
                  <a:pt x="16" y="4"/>
                </a:lnTo>
                <a:lnTo>
                  <a:pt x="19" y="2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1" y="0"/>
                </a:lnTo>
                <a:lnTo>
                  <a:pt x="34" y="0"/>
                </a:lnTo>
                <a:lnTo>
                  <a:pt x="36" y="2"/>
                </a:lnTo>
                <a:lnTo>
                  <a:pt x="39" y="4"/>
                </a:lnTo>
                <a:lnTo>
                  <a:pt x="42" y="7"/>
                </a:lnTo>
                <a:lnTo>
                  <a:pt x="44" y="9"/>
                </a:lnTo>
                <a:lnTo>
                  <a:pt x="47" y="13"/>
                </a:lnTo>
                <a:lnTo>
                  <a:pt x="48" y="17"/>
                </a:lnTo>
                <a:lnTo>
                  <a:pt x="51" y="19"/>
                </a:lnTo>
                <a:lnTo>
                  <a:pt x="52" y="23"/>
                </a:lnTo>
                <a:lnTo>
                  <a:pt x="52" y="27"/>
                </a:lnTo>
                <a:lnTo>
                  <a:pt x="54" y="34"/>
                </a:lnTo>
                <a:lnTo>
                  <a:pt x="54" y="38"/>
                </a:lnTo>
                <a:lnTo>
                  <a:pt x="55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022360" y="2670120"/>
            <a:ext cx="1105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8208720" y="2670120"/>
            <a:ext cx="197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75920" y="4168800"/>
            <a:ext cx="262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968720" y="4168800"/>
            <a:ext cx="284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097640" y="416880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584680" y="4168800"/>
            <a:ext cx="284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459320" y="2503440"/>
            <a:ext cx="284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679880" y="2503440"/>
            <a:ext cx="262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688000" y="3613320"/>
            <a:ext cx="2249640" cy="249120"/>
          </a:xfrm>
          <a:prstGeom prst="rect">
            <a:avLst/>
          </a:prstGeom>
          <a:solidFill>
            <a:srgbClr val="1a1a1a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722840" y="3735360"/>
            <a:ext cx="9651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629320" y="3646440"/>
            <a:ext cx="58680" cy="179280"/>
          </a:xfrm>
          <a:custGeom>
            <a:avLst/>
            <a:gdLst/>
            <a:ahLst/>
            <a:rect l="l" t="t" r="r" b="b"/>
            <a:pathLst>
              <a:path w="37" h="113">
                <a:moveTo>
                  <a:pt x="0" y="0"/>
                </a:moveTo>
                <a:lnTo>
                  <a:pt x="37" y="56"/>
                </a:lnTo>
                <a:lnTo>
                  <a:pt x="0" y="113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187280" y="3613320"/>
            <a:ext cx="3535560" cy="249120"/>
          </a:xfrm>
          <a:prstGeom prst="rect">
            <a:avLst/>
          </a:prstGeom>
          <a:solidFill>
            <a:srgbClr val="1a1a1a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761840" y="4168800"/>
            <a:ext cx="262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388960" y="4168800"/>
            <a:ext cx="3070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A183-5F28-475E-8813-A2B1E20FF39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17EA6-92D3-4783-8282-6351E34B8BFC}" type="datetime1">
              <a:rPr lang="en-US"/>
              <a:t>07/28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Flight Networks and Shortest Path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rtest paths on flight networks correspond t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cost itineraries for passeng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ximum profit aircraft ro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cost crew work schedules (on crew-feasible paths onl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ortant to be able to determine shortest paths in flight net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30F3-F7A3-4657-8D74-48734ED65C2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D6A82-3396-40AA-B390-0333579789E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Shortest Path Challenges in Flight Network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ight networks are larg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ousands of flight arcs and ground arcs; thousands of flight arcs and tens of thousands connection ar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many airline optimization problems, 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repeatedl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st find shortest path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st consider only “feasible” paths when determining shortest p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ady time” (not “arrival time”) of flight arrival nodes ensures feasibility of aircraft ro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asible crew work schedules correspond to a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mal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bset of possible network path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890280" indent="-18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dentify the shortest “feasible” paths (i.e.,  feasible work schedules) using multi-label shortest path algorith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0087-33A2-448D-8419-AE10B1EE581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61870-7D6B-40DE-A34D-9A4B37E86E0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/>
          <p:nvPr/>
        </p:nvSpPr>
        <p:spPr>
          <a:xfrm>
            <a:off x="1911240" y="419724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444760" y="3892680"/>
            <a:ext cx="21600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01960" y="419724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835280" y="4807080"/>
            <a:ext cx="21564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368440" y="5035680"/>
            <a:ext cx="21600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901960" y="473076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2133720" y="4038120"/>
            <a:ext cx="304560" cy="228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2666880" y="4038480"/>
            <a:ext cx="228600" cy="152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048120" y="4419720"/>
            <a:ext cx="0" cy="3045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 flipH="1">
            <a:off x="2590920" y="4952880"/>
            <a:ext cx="380880" cy="152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 flipV="1">
            <a:off x="2057040" y="4952880"/>
            <a:ext cx="304920" cy="152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V="1">
            <a:off x="1905120" y="4419720"/>
            <a:ext cx="75960" cy="3808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58520" y="2666880"/>
            <a:ext cx="197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yclic Netwo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7626240" y="450216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8159760" y="419724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8616960" y="450216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7550280" y="5111640"/>
            <a:ext cx="21564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8083440" y="534024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8616960" y="5035680"/>
            <a:ext cx="21600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V="1">
            <a:off x="7848720" y="4343040"/>
            <a:ext cx="30456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8381880" y="434340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8763120" y="47242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H="1">
            <a:off x="8305920" y="5257800"/>
            <a:ext cx="38088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H="1" flipV="1">
            <a:off x="7772040" y="5257440"/>
            <a:ext cx="30492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flipV="1">
            <a:off x="7620120" y="4723920"/>
            <a:ext cx="7596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025600" y="2362320"/>
            <a:ext cx="208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cyclic Netwo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844560" y="541656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5645160" y="290196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578480" y="3435480"/>
            <a:ext cx="21564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940440" y="34354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397640" y="41212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330960" y="34354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1149480" y="5873760"/>
            <a:ext cx="21564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1530360" y="52642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111640" y="41212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673360" y="587376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 flipV="1">
            <a:off x="1066680" y="5410080"/>
            <a:ext cx="457200" cy="763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H="1">
            <a:off x="1294920" y="5486400"/>
            <a:ext cx="304920" cy="3808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 flipH="1" flipV="1">
            <a:off x="990360" y="5638320"/>
            <a:ext cx="152280" cy="228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752480" y="5410080"/>
            <a:ext cx="91440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543800" y="289548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V="1">
            <a:off x="4800600" y="3048120"/>
            <a:ext cx="83808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4800600" y="358128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800600" y="3657600"/>
            <a:ext cx="30492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5867280" y="297180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867280" y="3048120"/>
            <a:ext cx="45720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553080" y="358128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7162920" y="3123720"/>
            <a:ext cx="45720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V="1">
            <a:off x="5334120" y="3657600"/>
            <a:ext cx="99036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5334120" y="4191120"/>
            <a:ext cx="2057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162920" y="3581280"/>
            <a:ext cx="30456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V="1">
            <a:off x="7543800" y="3124080"/>
            <a:ext cx="152280" cy="99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920880" y="3359160"/>
            <a:ext cx="21564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225440" y="381636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1606680" y="32068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V="1">
            <a:off x="1143000" y="3352680"/>
            <a:ext cx="457200" cy="763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H="1">
            <a:off x="1371240" y="3429000"/>
            <a:ext cx="304920" cy="3808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flipH="1" flipV="1">
            <a:off x="1066680" y="3580920"/>
            <a:ext cx="152640" cy="228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425840" y="488304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730760" y="534024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111640" y="473076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flipV="1">
            <a:off x="4648320" y="4800240"/>
            <a:ext cx="45720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648320" y="5105520"/>
            <a:ext cx="15228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flipV="1">
            <a:off x="4876920" y="4952520"/>
            <a:ext cx="30456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483240" y="473076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873760" y="52642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5492880" y="57214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711840" y="57214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093080" y="52642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102360" y="57214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397640" y="57214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705720" y="4876920"/>
            <a:ext cx="45720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flipH="1">
            <a:off x="6095520" y="4876920"/>
            <a:ext cx="38124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5714640" y="5410080"/>
            <a:ext cx="1522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095880" y="5410080"/>
            <a:ext cx="7632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H="1">
            <a:off x="6933960" y="5410080"/>
            <a:ext cx="1522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315200" y="5486400"/>
            <a:ext cx="15228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cyclic Directed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me-line and Connection networks are acyclic directed net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4328-9D23-4ACE-825C-15E0826EC5A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70FDB-B131-4A05-A063-C4D141C82B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cyclic Networks and Shortest Path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fficient algorithms exist for finding shortest paths on acyclic net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mount of work is directly proportional to the number of arcs in the network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pological ordering necess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ider a network no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d le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n(j)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note its numb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nodes of a network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re topologically ordered if for each arc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k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, n(j) &lt; n(k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8BDA-E129-4110-9569-624160EF75A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C8833-90A2-4E37-8589-0FC40603D2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"/>
          <p:cNvSpPr/>
          <p:nvPr/>
        </p:nvSpPr>
        <p:spPr>
          <a:xfrm>
            <a:off x="1073160" y="2825640"/>
            <a:ext cx="21600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1606680" y="2521080"/>
            <a:ext cx="21564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2063880" y="2825640"/>
            <a:ext cx="21564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996840" y="3435480"/>
            <a:ext cx="21600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530360" y="3664080"/>
            <a:ext cx="216000" cy="21564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063880" y="3359160"/>
            <a:ext cx="215640" cy="216000"/>
          </a:xfrm>
          <a:prstGeom prst="ellipse">
            <a:avLst/>
          </a:prstGeom>
          <a:solidFill>
            <a:srgbClr val="33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 flipV="1">
            <a:off x="1295280" y="2666520"/>
            <a:ext cx="30492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1828800" y="2666880"/>
            <a:ext cx="228600" cy="152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 flipH="1">
            <a:off x="1752120" y="3581280"/>
            <a:ext cx="381240" cy="152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 flipH="1" flipV="1">
            <a:off x="1219320" y="3581280"/>
            <a:ext cx="304560" cy="152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1066680" y="3048120"/>
            <a:ext cx="7632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5568840" y="25210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502160" y="305424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864480" y="3054240"/>
            <a:ext cx="21564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321680" y="3740040"/>
            <a:ext cx="21564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254640" y="3054240"/>
            <a:ext cx="21600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5035680" y="3740040"/>
            <a:ext cx="215640" cy="21600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7473960" y="2521080"/>
            <a:ext cx="216000" cy="215640"/>
          </a:xfrm>
          <a:prstGeom prst="ellipse">
            <a:avLst/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 flipV="1">
            <a:off x="4724280" y="2666880"/>
            <a:ext cx="83844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724280" y="3200400"/>
            <a:ext cx="1524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724280" y="3276720"/>
            <a:ext cx="30492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791320" y="2590920"/>
            <a:ext cx="1752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791320" y="2666880"/>
            <a:ext cx="45720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477120" y="320040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 flipV="1">
            <a:off x="7086600" y="2743200"/>
            <a:ext cx="45720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V="1">
            <a:off x="5257800" y="3276360"/>
            <a:ext cx="99072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257800" y="3809880"/>
            <a:ext cx="2057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7086600" y="3200400"/>
            <a:ext cx="30492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 flipV="1">
            <a:off x="7467480" y="2743200"/>
            <a:ext cx="152640" cy="99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530360" y="450216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920880" y="50356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39640" y="54928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1758960" y="54928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2139840" y="50356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149480" y="54928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444760" y="54928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1752480" y="4648320"/>
            <a:ext cx="45720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 flipH="1">
            <a:off x="1143000" y="4648320"/>
            <a:ext cx="38088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761760" y="5181480"/>
            <a:ext cx="1522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1143000" y="5181480"/>
            <a:ext cx="7632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H="1">
            <a:off x="1981080" y="5181480"/>
            <a:ext cx="15264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2362320" y="5257800"/>
            <a:ext cx="15228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052280" y="27892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585440" y="2484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2042640" y="27892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975960" y="33987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1509480" y="3627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2042640" y="332280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481280" y="30178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014440" y="37036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547960" y="2484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233760" y="30178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43240" y="30178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300440" y="370368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453080" y="2484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1509480" y="446580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2118960" y="49989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242388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73808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12824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51876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99640" y="49989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873760" y="4959360"/>
            <a:ext cx="216000" cy="21600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264280" y="54928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883040" y="59500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102360" y="59500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483240" y="54928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5492880" y="5950080"/>
            <a:ext cx="21564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788160" y="5950080"/>
            <a:ext cx="216000" cy="215640"/>
          </a:xfrm>
          <a:prstGeom prst="ellipse">
            <a:avLst/>
          </a:prstGeom>
          <a:solidFill>
            <a:srgbClr val="00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095880" y="5105520"/>
            <a:ext cx="45720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H="1">
            <a:off x="5486400" y="5105520"/>
            <a:ext cx="38088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5105160" y="5638680"/>
            <a:ext cx="1522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5486400" y="5638680"/>
            <a:ext cx="7632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6324480" y="5638680"/>
            <a:ext cx="15264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6705720" y="5715000"/>
            <a:ext cx="15228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5852880" y="492300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46236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6767280" y="5913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081480" y="5913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5471640" y="5913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62160" y="59133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243040" y="5456160"/>
            <a:ext cx="261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opological Ordering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0" name=""/>
          <p:cNvSpPr txBox="1"/>
          <p:nvPr/>
        </p:nvSpPr>
        <p:spPr>
          <a:xfrm>
            <a:off x="4952880" y="2743200"/>
            <a:ext cx="3812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1" name=""/>
          <p:cNvSpPr txBox="1"/>
          <p:nvPr/>
        </p:nvSpPr>
        <p:spPr>
          <a:xfrm>
            <a:off x="5029200" y="3048120"/>
            <a:ext cx="3808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4800600" y="3429000"/>
            <a:ext cx="3808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3" name=""/>
          <p:cNvSpPr txBox="1"/>
          <p:nvPr/>
        </p:nvSpPr>
        <p:spPr>
          <a:xfrm>
            <a:off x="5334120" y="3505320"/>
            <a:ext cx="3808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4" name=""/>
          <p:cNvSpPr txBox="1"/>
          <p:nvPr/>
        </p:nvSpPr>
        <p:spPr>
          <a:xfrm>
            <a:off x="5867280" y="3657600"/>
            <a:ext cx="3812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5" name=""/>
          <p:cNvSpPr txBox="1"/>
          <p:nvPr/>
        </p:nvSpPr>
        <p:spPr>
          <a:xfrm>
            <a:off x="5791320" y="2743200"/>
            <a:ext cx="3808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6" name=""/>
          <p:cNvSpPr txBox="1"/>
          <p:nvPr/>
        </p:nvSpPr>
        <p:spPr>
          <a:xfrm>
            <a:off x="6172200" y="2438280"/>
            <a:ext cx="38088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6477120" y="3124080"/>
            <a:ext cx="38088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7086600" y="2819520"/>
            <a:ext cx="3808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9" name=""/>
          <p:cNvSpPr txBox="1"/>
          <p:nvPr/>
        </p:nvSpPr>
        <p:spPr>
          <a:xfrm>
            <a:off x="7010280" y="3276720"/>
            <a:ext cx="3812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0" name=""/>
          <p:cNvSpPr txBox="1"/>
          <p:nvPr/>
        </p:nvSpPr>
        <p:spPr>
          <a:xfrm>
            <a:off x="7391520" y="3124080"/>
            <a:ext cx="38088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X</a:t>
            </a:r>
            <a:endParaRPr b="0" lang="en-US" sz="2400" spc="1" strike="noStrike">
              <a:ln w="0">
                <a:noFill/>
              </a:ln>
              <a:blipFill rotWithShape="0">
                <a:blip r:embed="rId2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DD3E-C812-4350-B703-DB97CF17FDA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A02AF-B964-4E61-B0B5-D672A4CCE25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206J/16.77J/ESD.215J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l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gn-up She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yllab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chedule Planning Proc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ight Networ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44280" indent="-198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ime-line network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44280" indent="-198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nection network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yclic Networ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test Paths on Acyclic Networ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lti-label Shortest Paths on Acyclic Networ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9338-D943-4D35-AFE8-BC2E680AA3E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81F91-9DE9-473A-8499-FED8DF1C58E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opological Ordering Algorithm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iven an acyclic graph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, let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n= 1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n(j)=0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r each nod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peat until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n=|N|+1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(wher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|N|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s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e number of nodes i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lect any nod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no incoming arcs 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(j) = 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(j) = 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lete all arcs outgoing from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 = n+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0079-7C84-4F4F-85B0-8B0503B167C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E4EB5-AD70-4F44-8C11-43AFF181E8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"/>
          <p:cNvSpPr/>
          <p:nvPr/>
        </p:nvSpPr>
        <p:spPr>
          <a:xfrm>
            <a:off x="6192720" y="3835440"/>
            <a:ext cx="169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3162240" y="3835440"/>
            <a:ext cx="2597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571680" y="3606840"/>
            <a:ext cx="42516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2243160" y="615456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253280" y="613584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2719440" y="360216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5748480" y="3621240"/>
            <a:ext cx="42516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4567320" y="613584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690560" y="148752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7881840" y="365904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281640" y="148752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1442880" y="363996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 flipV="1">
            <a:off x="865080" y="1843200"/>
            <a:ext cx="876240" cy="1790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2065320" y="1900080"/>
            <a:ext cx="819000" cy="1714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 flipV="1">
            <a:off x="2674800" y="1861920"/>
            <a:ext cx="3676680" cy="4476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3170160" y="3843360"/>
            <a:ext cx="1447920" cy="236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 flipV="1">
            <a:off x="4923000" y="3995280"/>
            <a:ext cx="933120" cy="2171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1779480" y="4052880"/>
            <a:ext cx="647640" cy="2095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6732720" y="1690560"/>
            <a:ext cx="1257120" cy="198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6180120" y="3824280"/>
            <a:ext cx="1200240" cy="2324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601200" y="36180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1725120" y="1465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458720" y="3637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2285640" y="6172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773080" y="35989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601880" y="61135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802120" y="3637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316200" y="1465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7287840" y="61326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878240" y="36752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 rot="17880000">
            <a:off x="837720" y="2586960"/>
            <a:ext cx="48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 rot="21540000">
            <a:off x="936000" y="349704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 rot="3420000">
            <a:off x="3341160" y="397656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 rot="4260000">
            <a:off x="1859400" y="435708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 rot="3360000">
            <a:off x="7122600" y="21096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 rot="3660000">
            <a:off x="2328120" y="21924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rot="21540000">
            <a:off x="5799960" y="602748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 rot="21540000">
            <a:off x="3317040" y="60210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rot="21540000">
            <a:off x="6724080" y="35226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 rot="21540000">
            <a:off x="3558240" y="346824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 rot="21540000">
            <a:off x="1948680" y="35100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rot="21540000">
            <a:off x="3815640" y="136044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 rot="3420000">
            <a:off x="6557400" y="431964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rot="18480000">
            <a:off x="4954680" y="260964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 rot="17880000">
            <a:off x="4999320" y="4620600"/>
            <a:ext cx="3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133720" y="1676520"/>
            <a:ext cx="4141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944640" y="3835440"/>
            <a:ext cx="485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879560" y="3835440"/>
            <a:ext cx="831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2693880" y="6327720"/>
            <a:ext cx="1889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5014800" y="6327720"/>
            <a:ext cx="2235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hortest Paths on Acyclic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4" name=""/>
          <p:cNvSpPr/>
          <p:nvPr/>
        </p:nvSpPr>
        <p:spPr>
          <a:xfrm>
            <a:off x="421920" y="314964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0" y="6019920"/>
            <a:ext cx="2125800" cy="305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n(j):  l(j), p(j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298160" y="106668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450800" y="320040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2136600" y="563868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2898360" y="312408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422600" y="548640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5565600" y="312408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175080" y="99072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7546680" y="5638680"/>
            <a:ext cx="80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9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7927200" y="3124080"/>
            <a:ext cx="89676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0: inf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380880" y="3124080"/>
            <a:ext cx="83844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0,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1295280" y="1066680"/>
            <a:ext cx="83844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: 10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1447920" y="320040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: 0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172200" y="99072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: 10,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2895480" y="3124080"/>
            <a:ext cx="83844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: 11,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2895480" y="3124080"/>
            <a:ext cx="83844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: 0,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2133720" y="563868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: 1,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172200" y="99072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: 2, 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419720" y="548640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: 1, 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562720" y="312408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: 1,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4419720" y="548640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: 1,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5562720" y="312408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: 1,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543800" y="563868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9: 1, 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924680" y="3124080"/>
            <a:ext cx="9144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0: 1,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543800" y="5638680"/>
            <a:ext cx="83808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9: 1, 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924680" y="3124080"/>
            <a:ext cx="9144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0: 1,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E37C-3B2C-4D75-BE34-B248AB3E4EB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EB0D3-20FC-40F6-B4AA-48F3176E73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Shortest Path Algorithm for Acyclic Network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cyclic grap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(j)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note the length of the shortest path to nod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, p(j)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note the predecessor node of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 the shortest path 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(jk)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st of arc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(j)=infinity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(j)= -1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nod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G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=1, and 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(1)= 0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(1)=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&lt;|N|+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lec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(j) = 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arc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(k)=min(l(k), l(j)+c(jk)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846720" indent="-178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(k)=l(j)+c(jk)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(k)=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 = n+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73CE-382F-4FC5-8C8D-D5C85AD0D8B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7A253-C3AC-4AF0-9A1A-FCC1E20507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ltiple Label (Constrained) Shortest Paths on Acyclic Network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ider the objective of finding the minimum cost path with flying time 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less than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specified valu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t label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note the flying time on 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 no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d label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note the cost of pa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 no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for any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ly paths with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&lt; F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t any no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are considered (the rest are excluded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label set must be maintained at nod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ach non-dominated path to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 path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’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s dominated by path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p’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 &gt; l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p’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 &gt; t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’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s not dominated by any path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j,  p’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s 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non-dominated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the worst case, a label set is maintained at each node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r each path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o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F96F-A5D1-47DF-8FF0-E95B11A1CD7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1278E-6692-4E82-9BF4-C7B79605BB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onstrained Shortest Paths and Crew Schedul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bel sets are used to ensure that the shortest path is a “feasible” pa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bels are used to count the number of work hours in a day, the number of hours a crew is away from their home base, the number of flights in a given day, the number of hours rest in a 24 hour period, etc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some applications, there are over 2 dozen labels in a label se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y paths are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non-domin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onential growth in the number of label sets (one set for each non-dominated path) at each no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A909-3CED-48DA-8A45-420FA85AB3E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1E4C6-0DAA-46AE-809D-5147EF351A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/>
          <p:nvPr/>
        </p:nvSpPr>
        <p:spPr>
          <a:xfrm>
            <a:off x="6192720" y="3835440"/>
            <a:ext cx="169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3162240" y="3835440"/>
            <a:ext cx="2597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571680" y="3606840"/>
            <a:ext cx="42516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2243160" y="615456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7253280" y="613584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2719440" y="360216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748480" y="3621240"/>
            <a:ext cx="42516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4567320" y="6135840"/>
            <a:ext cx="425520" cy="4251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690560" y="148752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7881840" y="365904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281640" y="148752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442880" y="3639960"/>
            <a:ext cx="425520" cy="4255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V="1">
            <a:off x="865080" y="1843200"/>
            <a:ext cx="876240" cy="1790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065320" y="1900080"/>
            <a:ext cx="819000" cy="1714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2674800" y="1861920"/>
            <a:ext cx="3676680" cy="4476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170160" y="3843360"/>
            <a:ext cx="1447920" cy="2362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 flipV="1">
            <a:off x="4923000" y="3995280"/>
            <a:ext cx="933120" cy="2171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1779480" y="4052880"/>
            <a:ext cx="647640" cy="2095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732720" y="1690560"/>
            <a:ext cx="1257120" cy="198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180120" y="3824280"/>
            <a:ext cx="1200240" cy="2324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01200" y="36180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725120" y="1465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1458720" y="3637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2285640" y="6172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773080" y="35989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4601880" y="611352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5802120" y="3637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6316200" y="14652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287840" y="61326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878240" y="36752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 rot="17880000">
            <a:off x="789840" y="2507760"/>
            <a:ext cx="66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0, 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 rot="21540000">
            <a:off x="936000" y="3497400"/>
            <a:ext cx="528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 rot="3420000">
            <a:off x="3297960" y="405144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rot="4260000">
            <a:off x="1846440" y="447444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rot="3360000">
            <a:off x="7080480" y="218412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5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 rot="3660000">
            <a:off x="2280240" y="226836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 rot="21540000">
            <a:off x="5800680" y="602784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 rot="21540000">
            <a:off x="3317760" y="602136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 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rot="21540000">
            <a:off x="6723000" y="352260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 4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rot="21540000">
            <a:off x="3558960" y="346860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rot="21540000">
            <a:off x="1947600" y="351000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rot="21540000">
            <a:off x="3814560" y="136044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0,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 rot="3420000">
            <a:off x="6514200" y="439416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 rot="18480000">
            <a:off x="4919760" y="253620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2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 rot="17880000">
            <a:off x="4951440" y="4541040"/>
            <a:ext cx="572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1,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2133720" y="1676520"/>
            <a:ext cx="4141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944640" y="3835440"/>
            <a:ext cx="485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1879560" y="3835440"/>
            <a:ext cx="831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693880" y="6327720"/>
            <a:ext cx="1889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5014800" y="6327720"/>
            <a:ext cx="2235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hortest Paths on Acyclic Network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8" name=""/>
          <p:cNvSpPr/>
          <p:nvPr/>
        </p:nvSpPr>
        <p:spPr>
          <a:xfrm>
            <a:off x="1080" y="31240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0" y="6095880"/>
            <a:ext cx="2133720" cy="334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p: l</a:t>
            </a:r>
            <a:r>
              <a:rPr b="0" i="1" lang="en-US" sz="1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(j), l</a:t>
            </a:r>
            <a:r>
              <a:rPr b="0" i="1" lang="en-US" sz="1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1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(j), p</a:t>
            </a:r>
            <a:r>
              <a:rPr b="0" i="1" lang="en-US" sz="1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(j), pp</a:t>
            </a:r>
            <a:r>
              <a:rPr b="0" i="1" lang="en-US" sz="1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(j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296360" y="10666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1449000" y="320040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2134800" y="56386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2895480" y="3124080"/>
            <a:ext cx="137160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4420800" y="548640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5563800" y="31240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6173280" y="99072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544880" y="56386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809840" y="3124080"/>
            <a:ext cx="1332720" cy="3056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inf, inf, -1, 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0, 0, 0, 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1295280" y="10666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0, 0, 1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447920" y="320040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0, 0, 1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6172200" y="99072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0, 1, 2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89548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1, 1, 2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289548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0, 1, 3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133720" y="5638680"/>
            <a:ext cx="144756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1, 3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172200" y="6094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: 2, 3, 4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4419720" y="548640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3, 4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556272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3, 5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419720" y="548640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3, 5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56272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3, 5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7543800" y="56386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6, 6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7772400" y="3124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: 1, 7, 7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7543800" y="51814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: 2, 4, 7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7772400" y="259092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: 11, 6, 8,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7772400" y="1981080"/>
            <a:ext cx="1371600" cy="305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: 3, 8, 8,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0" y="5715000"/>
            <a:ext cx="2133720" cy="305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Max value of label 2 =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7620120" y="1905120"/>
            <a:ext cx="933480" cy="4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feasi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58" name=""/>
          <p:cNvSpPr txBox="1"/>
          <p:nvPr/>
        </p:nvSpPr>
        <p:spPr>
          <a:xfrm>
            <a:off x="7772400" y="2362320"/>
            <a:ext cx="1009800" cy="4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minat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81F5-C7D6-4610-838D-A21E9B38BB2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0BE53F-677B-4803-ADE3-E09447F1ADE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nstrained Shortest Path Notation for Acyclic Network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ven acyclic grap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value of label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e.g., length, flying time, etc.)  on label s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predecessor node for label s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p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predecessor label set for label s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(jk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cost of arc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maximum possible number of non-dominated label sets at any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p(j)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otes the number of non-dominated label sets for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BAD3-DBD6-4FDD-89F9-378A2FA2BFE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AFDF74-A51C-42AF-B12E-9A1823B527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nstrained Shortest Path Algorithm for Acyclic Network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 = 1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j)=infinity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p(j)=0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j)= -1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j)= -1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nod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=1 and 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t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p(1)=1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)= 0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k,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)=0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)=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n&lt;|N|+1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527400" indent="-20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lec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(i) = 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27400" indent="-20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each non-dominate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nod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770760" indent="-162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ach arc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j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np(j)= np(j)+1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np(j)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=i, pp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np(j)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=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014120" indent="-162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r each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k,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Garamond"/>
              </a:rPr>
              <a:t>np(j)</a:t>
            </a:r>
            <a:r>
              <a:rPr b="0" i="1" lang="en-US" sz="1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(j)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=l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en-US" sz="18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(i)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+c(ij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770760" indent="-162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np(j)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&gt;l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Garamond"/>
              </a:rPr>
              <a:t>s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(j)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som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=1,..,np(j)-1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n dominated and set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np(j)= np(j)-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27400" indent="-20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 = n+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F261-A70B-4B56-AA6C-A75BD5C675D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5D60C-376C-49FF-AA18-A1F44AA7E8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-913680" bIns="-9136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1440" y="4618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359000" y="461880"/>
            <a:ext cx="6021000" cy="5488200"/>
            <a:chOff x="1359000" y="461880"/>
            <a:chExt cx="6021000" cy="5488200"/>
          </a:xfrm>
        </p:grpSpPr>
        <p:grpSp>
          <p:nvGrpSpPr>
            <p:cNvPr id="57" name=""/>
            <p:cNvGrpSpPr/>
            <p:nvPr/>
          </p:nvGrpSpPr>
          <p:grpSpPr>
            <a:xfrm>
              <a:off x="1359000" y="461880"/>
              <a:ext cx="6018480" cy="5487120"/>
              <a:chOff x="1359000" y="461880"/>
              <a:chExt cx="6018480" cy="5487120"/>
            </a:xfrm>
          </p:grpSpPr>
          <p:sp>
            <p:nvSpPr>
              <p:cNvPr id="58" name=""/>
              <p:cNvSpPr/>
              <p:nvPr/>
            </p:nvSpPr>
            <p:spPr>
              <a:xfrm>
                <a:off x="1359000" y="461880"/>
                <a:ext cx="6018480" cy="1047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359000" y="566640"/>
                <a:ext cx="6018480" cy="1047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359000" y="671400"/>
                <a:ext cx="6018480" cy="1069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359000" y="778320"/>
                <a:ext cx="6018480" cy="104760"/>
              </a:xfrm>
              <a:prstGeom prst="rect">
                <a:avLst/>
              </a:prstGeom>
              <a:solidFill>
                <a:srgbClr val="9a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359000" y="883080"/>
                <a:ext cx="6018480" cy="105840"/>
              </a:xfrm>
              <a:prstGeom prst="rect">
                <a:avLst/>
              </a:prstGeom>
              <a:solidFill>
                <a:srgbClr val="9a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359000" y="988920"/>
                <a:ext cx="6018480" cy="104760"/>
              </a:xfrm>
              <a:prstGeom prst="rect">
                <a:avLst/>
              </a:prstGeom>
              <a:solidFill>
                <a:srgbClr val="9b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359000" y="1094040"/>
                <a:ext cx="6018480" cy="106920"/>
              </a:xfrm>
              <a:prstGeom prst="rect">
                <a:avLst/>
              </a:prstGeom>
              <a:solidFill>
                <a:srgbClr val="9b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359000" y="1200960"/>
                <a:ext cx="6018480" cy="104760"/>
              </a:xfrm>
              <a:prstGeom prst="rect">
                <a:avLst/>
              </a:prstGeom>
              <a:solidFill>
                <a:srgbClr val="9c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359000" y="1305720"/>
                <a:ext cx="6018480" cy="104760"/>
              </a:xfrm>
              <a:prstGeom prst="rect">
                <a:avLst/>
              </a:prstGeom>
              <a:solidFill>
                <a:srgbClr val="9c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59000" y="1410840"/>
                <a:ext cx="6018480" cy="105840"/>
              </a:xfrm>
              <a:prstGeom prst="rect">
                <a:avLst/>
              </a:prstGeom>
              <a:solidFill>
                <a:srgbClr val="9d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359000" y="1516680"/>
                <a:ext cx="6018480" cy="105840"/>
              </a:xfrm>
              <a:prstGeom prst="rect">
                <a:avLst/>
              </a:prstGeom>
              <a:solidFill>
                <a:srgbClr val="9e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359000" y="1622520"/>
                <a:ext cx="6018480" cy="105840"/>
              </a:xfrm>
              <a:prstGeom prst="rect">
                <a:avLst/>
              </a:prstGeom>
              <a:solidFill>
                <a:srgbClr val="9fd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59000" y="1728720"/>
                <a:ext cx="6018480" cy="104760"/>
              </a:xfrm>
              <a:prstGeom prst="rect">
                <a:avLst/>
              </a:prstGeom>
              <a:solidFill>
                <a:srgbClr val="a0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359000" y="1833480"/>
                <a:ext cx="6018480" cy="104760"/>
              </a:xfrm>
              <a:prstGeom prst="rect">
                <a:avLst/>
              </a:prstGeom>
              <a:solidFill>
                <a:srgbClr val="a1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359000" y="1938240"/>
                <a:ext cx="6018480" cy="105840"/>
              </a:xfrm>
              <a:prstGeom prst="rect">
                <a:avLst/>
              </a:prstGeom>
              <a:solidFill>
                <a:srgbClr val="a2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359000" y="2044080"/>
                <a:ext cx="6018480" cy="105840"/>
              </a:xfrm>
              <a:prstGeom prst="rect">
                <a:avLst/>
              </a:prstGeom>
              <a:solidFill>
                <a:srgbClr val="a4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59000" y="2150280"/>
                <a:ext cx="6018480" cy="105840"/>
              </a:xfrm>
              <a:prstGeom prst="rect">
                <a:avLst/>
              </a:prstGeom>
              <a:solidFill>
                <a:srgbClr val="a5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59000" y="2256120"/>
                <a:ext cx="6018480" cy="104760"/>
              </a:xfrm>
              <a:prstGeom prst="rect">
                <a:avLst/>
              </a:prstGeom>
              <a:solidFill>
                <a:srgbClr val="a6d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359000" y="2360880"/>
                <a:ext cx="6018480" cy="104760"/>
              </a:xfrm>
              <a:prstGeom prst="rect">
                <a:avLst/>
              </a:prstGeom>
              <a:solidFill>
                <a:srgbClr val="a8d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59000" y="2466000"/>
                <a:ext cx="6018480" cy="106920"/>
              </a:xfrm>
              <a:prstGeom prst="rect">
                <a:avLst/>
              </a:prstGeom>
              <a:solidFill>
                <a:srgbClr val="a9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359000" y="2572920"/>
                <a:ext cx="6018480" cy="104760"/>
              </a:xfrm>
              <a:prstGeom prst="rect">
                <a:avLst/>
              </a:prstGeom>
              <a:solidFill>
                <a:srgbClr val="ab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359000" y="2677680"/>
                <a:ext cx="6018480" cy="104760"/>
              </a:xfrm>
              <a:prstGeom prst="rect">
                <a:avLst/>
              </a:prstGeom>
              <a:solidFill>
                <a:srgbClr val="ac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359000" y="2782800"/>
                <a:ext cx="6018480" cy="105840"/>
              </a:xfrm>
              <a:prstGeom prst="rect">
                <a:avLst/>
              </a:prstGeom>
              <a:solidFill>
                <a:srgbClr val="ae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359000" y="2888640"/>
                <a:ext cx="6018480" cy="105840"/>
              </a:xfrm>
              <a:prstGeom prst="rect">
                <a:avLst/>
              </a:prstGeom>
              <a:solidFill>
                <a:srgbClr val="b0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359000" y="2994480"/>
                <a:ext cx="6018480" cy="105840"/>
              </a:xfrm>
              <a:prstGeom prst="rect">
                <a:avLst/>
              </a:prstGeom>
              <a:solidFill>
                <a:srgbClr val="b1e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359000" y="3100680"/>
                <a:ext cx="6018480" cy="104760"/>
              </a:xfrm>
              <a:prstGeom prst="rect">
                <a:avLst/>
              </a:prstGeom>
              <a:solidFill>
                <a:srgbClr val="b3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359000" y="3205440"/>
                <a:ext cx="6018480" cy="104760"/>
              </a:xfrm>
              <a:prstGeom prst="rect">
                <a:avLst/>
              </a:prstGeom>
              <a:solidFill>
                <a:srgbClr val="b5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359000" y="3310200"/>
                <a:ext cx="6018480" cy="105840"/>
              </a:xfrm>
              <a:prstGeom prst="rect">
                <a:avLst/>
              </a:prstGeom>
              <a:solidFill>
                <a:srgbClr val="b6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359000" y="3416040"/>
                <a:ext cx="6018480" cy="105840"/>
              </a:xfrm>
              <a:prstGeom prst="rect">
                <a:avLst/>
              </a:prstGeom>
              <a:solidFill>
                <a:srgbClr val="b8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359000" y="3522240"/>
                <a:ext cx="6018480" cy="105840"/>
              </a:xfrm>
              <a:prstGeom prst="rect">
                <a:avLst/>
              </a:prstGeom>
              <a:solidFill>
                <a:srgbClr val="b9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359000" y="3628080"/>
                <a:ext cx="6018480" cy="104760"/>
              </a:xfrm>
              <a:prstGeom prst="rect">
                <a:avLst/>
              </a:prstGeom>
              <a:solidFill>
                <a:srgbClr val="bb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359000" y="3732840"/>
                <a:ext cx="6018480" cy="104760"/>
              </a:xfrm>
              <a:prstGeom prst="rect">
                <a:avLst/>
              </a:prstGeom>
              <a:solidFill>
                <a:srgbClr val="bc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359000" y="3837600"/>
                <a:ext cx="6018480" cy="106920"/>
              </a:xfrm>
              <a:prstGeom prst="rect">
                <a:avLst/>
              </a:prstGeom>
              <a:solidFill>
                <a:srgbClr val="be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359000" y="3944520"/>
                <a:ext cx="6018480" cy="104760"/>
              </a:xfrm>
              <a:prstGeom prst="rect">
                <a:avLst/>
              </a:prstGeom>
              <a:solidFill>
                <a:srgbClr val="bf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359000" y="4049280"/>
                <a:ext cx="6018480" cy="104760"/>
              </a:xfrm>
              <a:prstGeom prst="rect">
                <a:avLst/>
              </a:prstGeom>
              <a:solidFill>
                <a:srgbClr val="c0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359000" y="4154400"/>
                <a:ext cx="6018480" cy="105840"/>
              </a:xfrm>
              <a:prstGeom prst="rect">
                <a:avLst/>
              </a:prstGeom>
              <a:solidFill>
                <a:srgbClr val="c1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359000" y="4260240"/>
                <a:ext cx="6018480" cy="105840"/>
              </a:xfrm>
              <a:prstGeom prst="rect">
                <a:avLst/>
              </a:prstGeom>
              <a:solidFill>
                <a:srgbClr val="c3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359000" y="4366080"/>
                <a:ext cx="6018480" cy="105840"/>
              </a:xfrm>
              <a:prstGeom prst="rect">
                <a:avLst/>
              </a:prstGeom>
              <a:solidFill>
                <a:srgbClr val="c4f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359000" y="4472280"/>
                <a:ext cx="6018480" cy="104760"/>
              </a:xfrm>
              <a:prstGeom prst="rect">
                <a:avLst/>
              </a:prstGeom>
              <a:solidFill>
                <a:srgbClr val="c5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359000" y="4577040"/>
                <a:ext cx="6018480" cy="104760"/>
              </a:xfrm>
              <a:prstGeom prst="rect">
                <a:avLst/>
              </a:prstGeom>
              <a:solidFill>
                <a:srgbClr val="c6f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359000" y="4681800"/>
                <a:ext cx="6018480" cy="105840"/>
              </a:xfrm>
              <a:prstGeom prst="rect">
                <a:avLst/>
              </a:prstGeom>
              <a:solidFill>
                <a:srgbClr val="c6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359000" y="4787640"/>
                <a:ext cx="6018480" cy="105840"/>
              </a:xfrm>
              <a:prstGeom prst="rect">
                <a:avLst/>
              </a:prstGeom>
              <a:solidFill>
                <a:srgbClr val="c7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359000" y="4893840"/>
                <a:ext cx="6018480" cy="105840"/>
              </a:xfrm>
              <a:prstGeom prst="rect">
                <a:avLst/>
              </a:prstGeom>
              <a:solidFill>
                <a:srgbClr val="c8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59000" y="4999680"/>
                <a:ext cx="6018480" cy="104760"/>
              </a:xfrm>
              <a:prstGeom prst="rect">
                <a:avLst/>
              </a:prstGeom>
              <a:solidFill>
                <a:srgbClr val="c8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59000" y="5104440"/>
                <a:ext cx="6018480" cy="104760"/>
              </a:xfrm>
              <a:prstGeom prst="rect">
                <a:avLst/>
              </a:prstGeom>
              <a:solidFill>
                <a:srgbClr val="c9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359000" y="5209560"/>
                <a:ext cx="6018480" cy="106920"/>
              </a:xfrm>
              <a:prstGeom prst="rect">
                <a:avLst/>
              </a:prstGeom>
              <a:solidFill>
                <a:srgbClr val="ca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59000" y="5316480"/>
                <a:ext cx="6018480" cy="104760"/>
              </a:xfrm>
              <a:prstGeom prst="rect">
                <a:avLst/>
              </a:prstGeom>
              <a:solidFill>
                <a:srgbClr val="ca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359000" y="5421240"/>
                <a:ext cx="6018480" cy="105840"/>
              </a:xfrm>
              <a:prstGeom prst="rect">
                <a:avLst/>
              </a:prstGeom>
              <a:solidFill>
                <a:srgbClr val="ca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359000" y="5527440"/>
                <a:ext cx="6018480" cy="104760"/>
              </a:xfrm>
              <a:prstGeom prst="rect">
                <a:avLst/>
              </a:prstGeom>
              <a:solidFill>
                <a:srgbClr val="cb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59000" y="5632200"/>
                <a:ext cx="6018480" cy="106920"/>
              </a:xfrm>
              <a:prstGeom prst="rect">
                <a:avLst/>
              </a:prstGeom>
              <a:solidFill>
                <a:srgbClr val="cb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59000" y="5739480"/>
                <a:ext cx="6018480" cy="104760"/>
              </a:xfrm>
              <a:prstGeom prst="rect">
                <a:avLst/>
              </a:prstGeom>
              <a:solidFill>
                <a:srgbClr val="cb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359000" y="5844240"/>
                <a:ext cx="6018480" cy="104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1359000" y="461880"/>
              <a:ext cx="6021000" cy="5488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379680" y="804960"/>
            <a:ext cx="1946520" cy="34452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1440" y="860400"/>
            <a:ext cx="1180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eet Plan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0480" y="8604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5160" y="1604880"/>
            <a:ext cx="4468680" cy="148752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98960" y="1655640"/>
            <a:ext cx="79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edul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09480" y="1655640"/>
            <a:ext cx="72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30720" y="16556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87760" y="18302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73440" y="18302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75840" y="1830240"/>
            <a:ext cx="163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ute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51600" y="18302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87760" y="20066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73440" y="20066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76560" y="2006640"/>
            <a:ext cx="189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edule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79920" y="20066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65360" y="2197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19440" y="2197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53080" y="2181240"/>
            <a:ext cx="163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equency Plan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16600" y="21812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65360" y="23716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19440" y="23716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6680" y="2355840"/>
            <a:ext cx="1966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metable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57960" y="23558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65360" y="25462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19440" y="25462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55240" y="2532240"/>
            <a:ext cx="142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eet Assign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65680" y="25322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65360" y="272736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19440" y="272736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55960" y="2711520"/>
            <a:ext cx="147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rcraft Ro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27600" y="2711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53160" y="3776760"/>
            <a:ext cx="2333520" cy="34452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26400" y="3832200"/>
            <a:ext cx="1405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w Schedul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13440" y="38322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53160" y="4462560"/>
            <a:ext cx="2333520" cy="45864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28200" y="4513320"/>
            <a:ext cx="1454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rport Resour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48520" y="4692600"/>
            <a:ext cx="105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92760" y="46926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54120" y="3776760"/>
            <a:ext cx="2332080" cy="34452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45400" y="3832200"/>
            <a:ext cx="58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c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90960" y="38322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54120" y="4462560"/>
            <a:ext cx="2332080" cy="45864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65120" y="4513320"/>
            <a:ext cx="76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enu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46600" y="4692600"/>
            <a:ext cx="105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90840" y="46926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54120" y="5262480"/>
            <a:ext cx="2332080" cy="45900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75560" y="5313240"/>
            <a:ext cx="82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es an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91600" y="5492880"/>
            <a:ext cx="98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44760" y="54928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53160" y="5262480"/>
            <a:ext cx="2333520" cy="45900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24160" y="5318280"/>
            <a:ext cx="1614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ions Contro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78680" y="53182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76160" y="461880"/>
            <a:ext cx="583920" cy="5488200"/>
            <a:chOff x="776160" y="461880"/>
            <a:chExt cx="583920" cy="5488200"/>
          </a:xfrm>
        </p:grpSpPr>
        <p:grpSp>
          <p:nvGrpSpPr>
            <p:cNvPr id="164" name=""/>
            <p:cNvGrpSpPr/>
            <p:nvPr/>
          </p:nvGrpSpPr>
          <p:grpSpPr>
            <a:xfrm>
              <a:off x="776160" y="461880"/>
              <a:ext cx="581760" cy="5486760"/>
              <a:chOff x="776160" y="461880"/>
              <a:chExt cx="581760" cy="5486760"/>
            </a:xfrm>
          </p:grpSpPr>
          <p:sp>
            <p:nvSpPr>
              <p:cNvPr id="165" name=""/>
              <p:cNvSpPr/>
              <p:nvPr/>
            </p:nvSpPr>
            <p:spPr>
              <a:xfrm>
                <a:off x="776160" y="461880"/>
                <a:ext cx="581760" cy="42840"/>
              </a:xfrm>
              <a:prstGeom prst="rect">
                <a:avLst/>
              </a:prstGeom>
              <a:solidFill>
                <a:srgbClr val="010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76160" y="504720"/>
                <a:ext cx="581760" cy="42480"/>
              </a:xfrm>
              <a:prstGeom prst="rect">
                <a:avLst/>
              </a:prstGeom>
              <a:solidFill>
                <a:srgbClr val="020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76160" y="547200"/>
                <a:ext cx="581760" cy="41760"/>
              </a:xfrm>
              <a:prstGeom prst="rect">
                <a:avLst/>
              </a:prstGeom>
              <a:solidFill>
                <a:srgbClr val="0307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76160" y="589320"/>
                <a:ext cx="581760" cy="43920"/>
              </a:xfrm>
              <a:prstGeom prst="rect">
                <a:avLst/>
              </a:prstGeom>
              <a:solidFill>
                <a:srgbClr val="0408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76160" y="633240"/>
                <a:ext cx="581760" cy="42840"/>
              </a:xfrm>
              <a:prstGeom prst="rect">
                <a:avLst/>
              </a:prstGeom>
              <a:solidFill>
                <a:srgbClr val="0409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76160" y="676080"/>
                <a:ext cx="581760" cy="42480"/>
              </a:xfrm>
              <a:prstGeom prst="rect">
                <a:avLst/>
              </a:prstGeom>
              <a:solidFill>
                <a:srgbClr val="050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76160" y="718920"/>
                <a:ext cx="581760" cy="42840"/>
              </a:xfrm>
              <a:prstGeom prst="rect">
                <a:avLst/>
              </a:prstGeom>
              <a:solidFill>
                <a:srgbClr val="060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76160" y="761760"/>
                <a:ext cx="581760" cy="42840"/>
              </a:xfrm>
              <a:prstGeom prst="rect">
                <a:avLst/>
              </a:prstGeom>
              <a:solidFill>
                <a:srgbClr val="060d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76160" y="804600"/>
                <a:ext cx="581760" cy="42840"/>
              </a:xfrm>
              <a:prstGeom prst="rect">
                <a:avLst/>
              </a:prstGeom>
              <a:solidFill>
                <a:srgbClr val="070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76160" y="847440"/>
                <a:ext cx="581760" cy="42480"/>
              </a:xfrm>
              <a:prstGeom prst="rect">
                <a:avLst/>
              </a:prstGeom>
              <a:solidFill>
                <a:srgbClr val="070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76160" y="890280"/>
                <a:ext cx="581760" cy="41760"/>
              </a:xfrm>
              <a:prstGeom prst="rect">
                <a:avLst/>
              </a:prstGeom>
              <a:solidFill>
                <a:srgbClr val="0810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76160" y="932040"/>
                <a:ext cx="581760" cy="45000"/>
              </a:xfrm>
              <a:prstGeom prst="rect">
                <a:avLst/>
              </a:prstGeom>
              <a:solidFill>
                <a:srgbClr val="0811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76160" y="977040"/>
                <a:ext cx="581760" cy="41760"/>
              </a:xfrm>
              <a:prstGeom prst="rect">
                <a:avLst/>
              </a:prstGeom>
              <a:solidFill>
                <a:srgbClr val="0912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76160" y="1019160"/>
                <a:ext cx="581760" cy="42480"/>
              </a:xfrm>
              <a:prstGeom prst="rect">
                <a:avLst/>
              </a:prstGeom>
              <a:solidFill>
                <a:srgbClr val="0913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76160" y="1061640"/>
                <a:ext cx="581760" cy="42840"/>
              </a:xfrm>
              <a:prstGeom prst="rect">
                <a:avLst/>
              </a:prstGeom>
              <a:solidFill>
                <a:srgbClr val="0a14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76160" y="1104840"/>
                <a:ext cx="581760" cy="42840"/>
              </a:xfrm>
              <a:prstGeom prst="rect">
                <a:avLst/>
              </a:prstGeom>
              <a:solidFill>
                <a:srgbClr val="0a15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76160" y="1147680"/>
                <a:ext cx="581760" cy="42840"/>
              </a:xfrm>
              <a:prstGeom prst="rect">
                <a:avLst/>
              </a:prstGeom>
              <a:solidFill>
                <a:srgbClr val="0b1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76160" y="1190520"/>
                <a:ext cx="581760" cy="42480"/>
              </a:xfrm>
              <a:prstGeom prst="rect">
                <a:avLst/>
              </a:prstGeom>
              <a:solidFill>
                <a:srgbClr val="0b1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76160" y="1233360"/>
                <a:ext cx="581760" cy="41760"/>
              </a:xfrm>
              <a:prstGeom prst="rect">
                <a:avLst/>
              </a:prstGeom>
              <a:solidFill>
                <a:srgbClr val="0c1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76160" y="1275120"/>
                <a:ext cx="581760" cy="45000"/>
              </a:xfrm>
              <a:prstGeom prst="rect">
                <a:avLst/>
              </a:prstGeom>
              <a:solidFill>
                <a:srgbClr val="0c1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76160" y="1320120"/>
                <a:ext cx="581760" cy="41760"/>
              </a:xfrm>
              <a:prstGeom prst="rect">
                <a:avLst/>
              </a:prstGeom>
              <a:solidFill>
                <a:srgbClr val="0d1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76160" y="1361880"/>
                <a:ext cx="581760" cy="42480"/>
              </a:xfrm>
              <a:prstGeom prst="rect">
                <a:avLst/>
              </a:prstGeom>
              <a:solidFill>
                <a:srgbClr val="0d1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76160" y="1404720"/>
                <a:ext cx="581760" cy="42840"/>
              </a:xfrm>
              <a:prstGeom prst="rect">
                <a:avLst/>
              </a:prstGeom>
              <a:solidFill>
                <a:srgbClr val="0e1c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76160" y="1447560"/>
                <a:ext cx="581760" cy="42840"/>
              </a:xfrm>
              <a:prstGeom prst="rect">
                <a:avLst/>
              </a:prstGeom>
              <a:solidFill>
                <a:srgbClr val="0e1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76160" y="1490400"/>
                <a:ext cx="581760" cy="42840"/>
              </a:xfrm>
              <a:prstGeom prst="rect">
                <a:avLst/>
              </a:prstGeom>
              <a:solidFill>
                <a:srgbClr val="0f1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76160" y="1533600"/>
                <a:ext cx="581760" cy="42480"/>
              </a:xfrm>
              <a:prstGeom prst="rect">
                <a:avLst/>
              </a:prstGeom>
              <a:solidFill>
                <a:srgbClr val="0f1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76160" y="1576080"/>
                <a:ext cx="581760" cy="41760"/>
              </a:xfrm>
              <a:prstGeom prst="rect">
                <a:avLst/>
              </a:prstGeom>
              <a:solidFill>
                <a:srgbClr val="102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76160" y="1617840"/>
                <a:ext cx="581760" cy="45000"/>
              </a:xfrm>
              <a:prstGeom prst="rect">
                <a:avLst/>
              </a:prstGeom>
              <a:solidFill>
                <a:srgbClr val="102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76160" y="1663200"/>
                <a:ext cx="581760" cy="41760"/>
              </a:xfrm>
              <a:prstGeom prst="rect">
                <a:avLst/>
              </a:prstGeom>
              <a:solidFill>
                <a:srgbClr val="112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76160" y="1704960"/>
                <a:ext cx="581760" cy="42480"/>
              </a:xfrm>
              <a:prstGeom prst="rect">
                <a:avLst/>
              </a:prstGeom>
              <a:solidFill>
                <a:srgbClr val="112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76160" y="1747800"/>
                <a:ext cx="581760" cy="42840"/>
              </a:xfrm>
              <a:prstGeom prst="rect">
                <a:avLst/>
              </a:prstGeom>
              <a:solidFill>
                <a:srgbClr val="1225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76160" y="1790640"/>
                <a:ext cx="581760" cy="42840"/>
              </a:xfrm>
              <a:prstGeom prst="rect">
                <a:avLst/>
              </a:prstGeom>
              <a:solidFill>
                <a:srgbClr val="1326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76160" y="1833480"/>
                <a:ext cx="581760" cy="42840"/>
              </a:xfrm>
              <a:prstGeom prst="rect">
                <a:avLst/>
              </a:prstGeom>
              <a:solidFill>
                <a:srgbClr val="1327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76160" y="1876320"/>
                <a:ext cx="581760" cy="42480"/>
              </a:xfrm>
              <a:prstGeom prst="rect">
                <a:avLst/>
              </a:prstGeom>
              <a:solidFill>
                <a:srgbClr val="142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76160" y="1919160"/>
                <a:ext cx="581760" cy="41760"/>
              </a:xfrm>
              <a:prstGeom prst="rect">
                <a:avLst/>
              </a:prstGeom>
              <a:solidFill>
                <a:srgbClr val="1429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76160" y="1960920"/>
                <a:ext cx="581760" cy="45000"/>
              </a:xfrm>
              <a:prstGeom prst="rect">
                <a:avLst/>
              </a:prstGeom>
              <a:solidFill>
                <a:srgbClr val="152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76160" y="2005920"/>
                <a:ext cx="581760" cy="41760"/>
              </a:xfrm>
              <a:prstGeom prst="rect">
                <a:avLst/>
              </a:prstGeom>
              <a:solidFill>
                <a:srgbClr val="152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76160" y="2048040"/>
                <a:ext cx="581760" cy="42480"/>
              </a:xfrm>
              <a:prstGeom prst="rect">
                <a:avLst/>
              </a:prstGeom>
              <a:solidFill>
                <a:srgbClr val="162c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76160" y="2090520"/>
                <a:ext cx="581760" cy="42840"/>
              </a:xfrm>
              <a:prstGeom prst="rect">
                <a:avLst/>
              </a:prstGeom>
              <a:solidFill>
                <a:srgbClr val="162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76160" y="2133360"/>
                <a:ext cx="581760" cy="42840"/>
              </a:xfrm>
              <a:prstGeom prst="rect">
                <a:avLst/>
              </a:prstGeom>
              <a:solidFill>
                <a:srgbClr val="172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76160" y="2176560"/>
                <a:ext cx="581760" cy="42840"/>
              </a:xfrm>
              <a:prstGeom prst="rect">
                <a:avLst/>
              </a:prstGeom>
              <a:solidFill>
                <a:srgbClr val="172f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76160" y="2219400"/>
                <a:ext cx="581760" cy="42480"/>
              </a:xfrm>
              <a:prstGeom prst="rect">
                <a:avLst/>
              </a:prstGeom>
              <a:solidFill>
                <a:srgbClr val="183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76160" y="2261880"/>
                <a:ext cx="581760" cy="41760"/>
              </a:xfrm>
              <a:prstGeom prst="rect">
                <a:avLst/>
              </a:prstGeom>
              <a:solidFill>
                <a:srgbClr val="1932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76160" y="2304000"/>
                <a:ext cx="581760" cy="45000"/>
              </a:xfrm>
              <a:prstGeom prst="rect">
                <a:avLst/>
              </a:prstGeom>
              <a:solidFill>
                <a:srgbClr val="1933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76160" y="2349000"/>
                <a:ext cx="581760" cy="41760"/>
              </a:xfrm>
              <a:prstGeom prst="rect">
                <a:avLst/>
              </a:prstGeom>
              <a:solidFill>
                <a:srgbClr val="1a3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76160" y="2390760"/>
                <a:ext cx="581760" cy="42480"/>
              </a:xfrm>
              <a:prstGeom prst="rect">
                <a:avLst/>
              </a:prstGeom>
              <a:solidFill>
                <a:srgbClr val="1a3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76160" y="2433600"/>
                <a:ext cx="581760" cy="42840"/>
              </a:xfrm>
              <a:prstGeom prst="rect">
                <a:avLst/>
              </a:prstGeom>
              <a:solidFill>
                <a:srgbClr val="1b36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6160" y="2476440"/>
                <a:ext cx="581760" cy="42840"/>
              </a:xfrm>
              <a:prstGeom prst="rect">
                <a:avLst/>
              </a:prstGeom>
              <a:solidFill>
                <a:srgbClr val="1b3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76160" y="2519280"/>
                <a:ext cx="581760" cy="42840"/>
              </a:xfrm>
              <a:prstGeom prst="rect">
                <a:avLst/>
              </a:prstGeom>
              <a:solidFill>
                <a:srgbClr val="1c3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76160" y="2562480"/>
                <a:ext cx="581760" cy="42480"/>
              </a:xfrm>
              <a:prstGeom prst="rect">
                <a:avLst/>
              </a:prstGeom>
              <a:solidFill>
                <a:srgbClr val="1c3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76160" y="2604960"/>
                <a:ext cx="581760" cy="41760"/>
              </a:xfrm>
              <a:prstGeom prst="rect">
                <a:avLst/>
              </a:prstGeom>
              <a:solidFill>
                <a:srgbClr val="1d3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76160" y="2646720"/>
                <a:ext cx="581760" cy="45000"/>
              </a:xfrm>
              <a:prstGeom prst="rect">
                <a:avLst/>
              </a:prstGeom>
              <a:solidFill>
                <a:srgbClr val="1d3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76160" y="2692080"/>
                <a:ext cx="581760" cy="41760"/>
              </a:xfrm>
              <a:prstGeom prst="rect">
                <a:avLst/>
              </a:prstGeom>
              <a:solidFill>
                <a:srgbClr val="1e3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76160" y="2733840"/>
                <a:ext cx="581760" cy="42480"/>
              </a:xfrm>
              <a:prstGeom prst="rect">
                <a:avLst/>
              </a:prstGeom>
              <a:solidFill>
                <a:srgbClr val="1e3d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76160" y="2776320"/>
                <a:ext cx="581760" cy="42840"/>
              </a:xfrm>
              <a:prstGeom prst="rect">
                <a:avLst/>
              </a:prstGeom>
              <a:solidFill>
                <a:srgbClr val="1f3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76160" y="2819520"/>
                <a:ext cx="581760" cy="42840"/>
              </a:xfrm>
              <a:prstGeom prst="rect">
                <a:avLst/>
              </a:prstGeom>
              <a:solidFill>
                <a:srgbClr val="1f3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76160" y="2862360"/>
                <a:ext cx="581760" cy="42840"/>
              </a:xfrm>
              <a:prstGeom prst="rect">
                <a:avLst/>
              </a:prstGeom>
              <a:solidFill>
                <a:srgbClr val="2040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76160" y="2905200"/>
                <a:ext cx="581760" cy="42480"/>
              </a:xfrm>
              <a:prstGeom prst="rect">
                <a:avLst/>
              </a:prstGeom>
              <a:solidFill>
                <a:srgbClr val="2041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76160" y="2948040"/>
                <a:ext cx="581760" cy="42840"/>
              </a:xfrm>
              <a:prstGeom prst="rect">
                <a:avLst/>
              </a:prstGeom>
              <a:solidFill>
                <a:srgbClr val="214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76160" y="2990880"/>
                <a:ext cx="581760" cy="43920"/>
              </a:xfrm>
              <a:prstGeom prst="rect">
                <a:avLst/>
              </a:prstGeom>
              <a:solidFill>
                <a:srgbClr val="214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6160" y="3034800"/>
                <a:ext cx="581760" cy="41760"/>
              </a:xfrm>
              <a:prstGeom prst="rect">
                <a:avLst/>
              </a:prstGeom>
              <a:solidFill>
                <a:srgbClr val="224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76160" y="3076920"/>
                <a:ext cx="581760" cy="42480"/>
              </a:xfrm>
              <a:prstGeom prst="rect">
                <a:avLst/>
              </a:prstGeom>
              <a:solidFill>
                <a:srgbClr val="224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76160" y="3119400"/>
                <a:ext cx="581760" cy="42840"/>
              </a:xfrm>
              <a:prstGeom prst="rect">
                <a:avLst/>
              </a:prstGeom>
              <a:solidFill>
                <a:srgbClr val="234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76160" y="3162240"/>
                <a:ext cx="581760" cy="42840"/>
              </a:xfrm>
              <a:prstGeom prst="rect">
                <a:avLst/>
              </a:prstGeom>
              <a:solidFill>
                <a:srgbClr val="234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76160" y="3205440"/>
                <a:ext cx="581760" cy="42840"/>
              </a:xfrm>
              <a:prstGeom prst="rect">
                <a:avLst/>
              </a:prstGeom>
              <a:solidFill>
                <a:srgbClr val="244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76160" y="3248280"/>
                <a:ext cx="581760" cy="42480"/>
              </a:xfrm>
              <a:prstGeom prst="rect">
                <a:avLst/>
              </a:prstGeom>
              <a:solidFill>
                <a:srgbClr val="244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76160" y="3290760"/>
                <a:ext cx="581760" cy="42840"/>
              </a:xfrm>
              <a:prstGeom prst="rect">
                <a:avLst/>
              </a:prstGeom>
              <a:solidFill>
                <a:srgbClr val="254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76160" y="3333960"/>
                <a:ext cx="581760" cy="43920"/>
              </a:xfrm>
              <a:prstGeom prst="rect">
                <a:avLst/>
              </a:prstGeom>
              <a:solidFill>
                <a:srgbClr val="254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76160" y="3377880"/>
                <a:ext cx="581760" cy="41760"/>
              </a:xfrm>
              <a:prstGeom prst="rect">
                <a:avLst/>
              </a:prstGeom>
              <a:solidFill>
                <a:srgbClr val="264c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76160" y="3419640"/>
                <a:ext cx="581760" cy="42480"/>
              </a:xfrm>
              <a:prstGeom prst="rect">
                <a:avLst/>
              </a:prstGeom>
              <a:solidFill>
                <a:srgbClr val="264d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76160" y="3462480"/>
                <a:ext cx="581760" cy="42840"/>
              </a:xfrm>
              <a:prstGeom prst="rect">
                <a:avLst/>
              </a:prstGeom>
              <a:solidFill>
                <a:srgbClr val="274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76160" y="3505320"/>
                <a:ext cx="581760" cy="42840"/>
              </a:xfrm>
              <a:prstGeom prst="rect">
                <a:avLst/>
              </a:prstGeom>
              <a:solidFill>
                <a:srgbClr val="274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76160" y="3548160"/>
                <a:ext cx="581760" cy="42840"/>
              </a:xfrm>
              <a:prstGeom prst="rect">
                <a:avLst/>
              </a:prstGeom>
              <a:solidFill>
                <a:srgbClr val="274f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76160" y="3591360"/>
                <a:ext cx="581760" cy="42480"/>
              </a:xfrm>
              <a:prstGeom prst="rect">
                <a:avLst/>
              </a:prstGeom>
              <a:solidFill>
                <a:srgbClr val="285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6160" y="3633840"/>
                <a:ext cx="581760" cy="42840"/>
              </a:xfrm>
              <a:prstGeom prst="rect">
                <a:avLst/>
              </a:prstGeom>
              <a:solidFill>
                <a:srgbClr val="2851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6160" y="3676680"/>
                <a:ext cx="581760" cy="43920"/>
              </a:xfrm>
              <a:prstGeom prst="rect">
                <a:avLst/>
              </a:prstGeom>
              <a:solidFill>
                <a:srgbClr val="295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76160" y="3720960"/>
                <a:ext cx="581760" cy="42840"/>
              </a:xfrm>
              <a:prstGeom prst="rect">
                <a:avLst/>
              </a:prstGeom>
              <a:solidFill>
                <a:srgbClr val="2953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76160" y="3763800"/>
                <a:ext cx="581760" cy="41400"/>
              </a:xfrm>
              <a:prstGeom prst="rect">
                <a:avLst/>
              </a:prstGeom>
              <a:solidFill>
                <a:srgbClr val="2953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76160" y="3805200"/>
                <a:ext cx="581760" cy="42840"/>
              </a:xfrm>
              <a:prstGeom prst="rect">
                <a:avLst/>
              </a:prstGeom>
              <a:solidFill>
                <a:srgbClr val="2a54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76160" y="3848400"/>
                <a:ext cx="581760" cy="42840"/>
              </a:xfrm>
              <a:prstGeom prst="rect">
                <a:avLst/>
              </a:prstGeom>
              <a:solidFill>
                <a:srgbClr val="2a5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76160" y="3891240"/>
                <a:ext cx="581760" cy="42840"/>
              </a:xfrm>
              <a:prstGeom prst="rect">
                <a:avLst/>
              </a:prstGeom>
              <a:solidFill>
                <a:srgbClr val="2a5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76160" y="3934080"/>
                <a:ext cx="581760" cy="42480"/>
              </a:xfrm>
              <a:prstGeom prst="rect">
                <a:avLst/>
              </a:prstGeom>
              <a:solidFill>
                <a:srgbClr val="2b56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76160" y="3976920"/>
                <a:ext cx="581760" cy="42840"/>
              </a:xfrm>
              <a:prstGeom prst="rect">
                <a:avLst/>
              </a:prstGeom>
              <a:solidFill>
                <a:srgbClr val="2b57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76160" y="4019760"/>
                <a:ext cx="581760" cy="43920"/>
              </a:xfrm>
              <a:prstGeom prst="rect">
                <a:avLst/>
              </a:prstGeom>
              <a:solidFill>
                <a:srgbClr val="2b5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76160" y="4063680"/>
                <a:ext cx="581760" cy="42840"/>
              </a:xfrm>
              <a:prstGeom prst="rect">
                <a:avLst/>
              </a:prstGeom>
              <a:solidFill>
                <a:srgbClr val="2c5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76160" y="4106520"/>
                <a:ext cx="581760" cy="41400"/>
              </a:xfrm>
              <a:prstGeom prst="rect">
                <a:avLst/>
              </a:prstGeom>
              <a:solidFill>
                <a:srgbClr val="2c59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76160" y="4148280"/>
                <a:ext cx="581760" cy="42840"/>
              </a:xfrm>
              <a:prstGeom prst="rect">
                <a:avLst/>
              </a:prstGeom>
              <a:solidFill>
                <a:srgbClr val="2c59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76160" y="4191120"/>
                <a:ext cx="581760" cy="42840"/>
              </a:xfrm>
              <a:prstGeom prst="rect">
                <a:avLst/>
              </a:prstGeom>
              <a:solidFill>
                <a:srgbClr val="2d5a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76160" y="4234320"/>
                <a:ext cx="581760" cy="42840"/>
              </a:xfrm>
              <a:prstGeom prst="rect">
                <a:avLst/>
              </a:prstGeom>
              <a:solidFill>
                <a:srgbClr val="2d5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76160" y="4277160"/>
                <a:ext cx="581760" cy="42480"/>
              </a:xfrm>
              <a:prstGeom prst="rect">
                <a:avLst/>
              </a:prstGeom>
              <a:solidFill>
                <a:srgbClr val="2d5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76160" y="4319640"/>
                <a:ext cx="581760" cy="42840"/>
              </a:xfrm>
              <a:prstGeom prst="rect">
                <a:avLst/>
              </a:prstGeom>
              <a:solidFill>
                <a:srgbClr val="2e5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76160" y="4362840"/>
                <a:ext cx="581760" cy="43920"/>
              </a:xfrm>
              <a:prstGeom prst="rect">
                <a:avLst/>
              </a:prstGeom>
              <a:solidFill>
                <a:srgbClr val="2e5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76160" y="4406760"/>
                <a:ext cx="581760" cy="42840"/>
              </a:xfrm>
              <a:prstGeom prst="rect">
                <a:avLst/>
              </a:prstGeom>
              <a:solidFill>
                <a:srgbClr val="2e5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76160" y="4449600"/>
                <a:ext cx="581760" cy="41400"/>
              </a:xfrm>
              <a:prstGeom prst="rect">
                <a:avLst/>
              </a:prstGeom>
              <a:solidFill>
                <a:srgbClr val="2e5d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76160" y="4491360"/>
                <a:ext cx="581760" cy="42840"/>
              </a:xfrm>
              <a:prstGeom prst="rect">
                <a:avLst/>
              </a:prstGeom>
              <a:solidFill>
                <a:srgbClr val="2e5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76160" y="4534200"/>
                <a:ext cx="581760" cy="42840"/>
              </a:xfrm>
              <a:prstGeom prst="rect">
                <a:avLst/>
              </a:prstGeom>
              <a:solidFill>
                <a:srgbClr val="2f5e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76160" y="4577040"/>
                <a:ext cx="581760" cy="42840"/>
              </a:xfrm>
              <a:prstGeom prst="rect">
                <a:avLst/>
              </a:prstGeom>
              <a:solidFill>
                <a:srgbClr val="2f5e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76160" y="4619880"/>
                <a:ext cx="581760" cy="42480"/>
              </a:xfrm>
              <a:prstGeom prst="rect">
                <a:avLst/>
              </a:prstGeom>
              <a:solidFill>
                <a:srgbClr val="2f5f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76160" y="4662720"/>
                <a:ext cx="581760" cy="42840"/>
              </a:xfrm>
              <a:prstGeom prst="rect">
                <a:avLst/>
              </a:prstGeom>
              <a:solidFill>
                <a:srgbClr val="2f5f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76160" y="4705560"/>
                <a:ext cx="581760" cy="43920"/>
              </a:xfrm>
              <a:prstGeom prst="rect">
                <a:avLst/>
              </a:prstGeom>
              <a:solidFill>
                <a:srgbClr val="3060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76160" y="4749840"/>
                <a:ext cx="581760" cy="42840"/>
              </a:xfrm>
              <a:prstGeom prst="rect">
                <a:avLst/>
              </a:prstGeom>
              <a:solidFill>
                <a:srgbClr val="3060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76160" y="4792680"/>
                <a:ext cx="581760" cy="41400"/>
              </a:xfrm>
              <a:prstGeom prst="rect">
                <a:avLst/>
              </a:prstGeom>
              <a:solidFill>
                <a:srgbClr val="306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76160" y="4834080"/>
                <a:ext cx="581760" cy="42840"/>
              </a:xfrm>
              <a:prstGeom prst="rect">
                <a:avLst/>
              </a:prstGeom>
              <a:solidFill>
                <a:srgbClr val="3061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76160" y="4877280"/>
                <a:ext cx="581760" cy="42840"/>
              </a:xfrm>
              <a:prstGeom prst="rect">
                <a:avLst/>
              </a:prstGeom>
              <a:solidFill>
                <a:srgbClr val="3061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76160" y="4920120"/>
                <a:ext cx="581760" cy="42840"/>
              </a:xfrm>
              <a:prstGeom prst="rect">
                <a:avLst/>
              </a:prstGeom>
              <a:solidFill>
                <a:srgbClr val="306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76160" y="4962960"/>
                <a:ext cx="581760" cy="42480"/>
              </a:xfrm>
              <a:prstGeom prst="rect">
                <a:avLst/>
              </a:prstGeom>
              <a:solidFill>
                <a:srgbClr val="316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6160" y="5005800"/>
                <a:ext cx="581760" cy="42840"/>
              </a:xfrm>
              <a:prstGeom prst="rect">
                <a:avLst/>
              </a:prstGeom>
              <a:solidFill>
                <a:srgbClr val="3162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76160" y="5048640"/>
                <a:ext cx="581760" cy="43920"/>
              </a:xfrm>
              <a:prstGeom prst="rect">
                <a:avLst/>
              </a:prstGeom>
              <a:solidFill>
                <a:srgbClr val="3162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76160" y="5092560"/>
                <a:ext cx="581760" cy="42840"/>
              </a:xfrm>
              <a:prstGeom prst="rect">
                <a:avLst/>
              </a:prstGeom>
              <a:solidFill>
                <a:srgbClr val="3162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76160" y="5135400"/>
                <a:ext cx="581760" cy="41400"/>
              </a:xfrm>
              <a:prstGeom prst="rect">
                <a:avLst/>
              </a:prstGeom>
              <a:solidFill>
                <a:srgbClr val="3163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76160" y="517716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76160" y="522000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76160" y="526284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76160" y="5306040"/>
                <a:ext cx="581760" cy="42480"/>
              </a:xfrm>
              <a:prstGeom prst="rect">
                <a:avLst/>
              </a:prstGeom>
              <a:solidFill>
                <a:srgbClr val="326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76160" y="5348520"/>
                <a:ext cx="581760" cy="42840"/>
              </a:xfrm>
              <a:prstGeom prst="rect">
                <a:avLst/>
              </a:prstGeom>
              <a:solidFill>
                <a:srgbClr val="326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76160" y="5391720"/>
                <a:ext cx="581760" cy="4392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76160" y="5435640"/>
                <a:ext cx="581760" cy="4284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76160" y="5478480"/>
                <a:ext cx="581760" cy="4140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76160" y="5520240"/>
                <a:ext cx="581760" cy="4284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76160" y="5563080"/>
                <a:ext cx="581760" cy="4284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76160" y="5605920"/>
                <a:ext cx="581760" cy="4284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76160" y="5648760"/>
                <a:ext cx="581760" cy="4248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76160" y="569160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76160" y="5734440"/>
                <a:ext cx="581760" cy="4392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76160" y="577836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76160" y="5821560"/>
                <a:ext cx="581760" cy="4140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76160" y="586296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76160" y="5905800"/>
                <a:ext cx="581760" cy="428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776160" y="461880"/>
              <a:ext cx="583920" cy="5488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776160" y="4805280"/>
            <a:ext cx="584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370440" y="5090400"/>
            <a:ext cx="136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HORT TE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1029600" y="47192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76160" y="461880"/>
            <a:ext cx="584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407880" y="1116000"/>
            <a:ext cx="1256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ONG TER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1029600" y="353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378560" y="461880"/>
            <a:ext cx="583920" cy="5488200"/>
            <a:chOff x="7378560" y="461880"/>
            <a:chExt cx="583920" cy="5488200"/>
          </a:xfrm>
        </p:grpSpPr>
        <p:grpSp>
          <p:nvGrpSpPr>
            <p:cNvPr id="301" name=""/>
            <p:cNvGrpSpPr/>
            <p:nvPr/>
          </p:nvGrpSpPr>
          <p:grpSpPr>
            <a:xfrm>
              <a:off x="7378560" y="461880"/>
              <a:ext cx="581760" cy="5486760"/>
              <a:chOff x="7378560" y="461880"/>
              <a:chExt cx="581760" cy="5486760"/>
            </a:xfrm>
          </p:grpSpPr>
          <p:sp>
            <p:nvSpPr>
              <p:cNvPr id="302" name=""/>
              <p:cNvSpPr/>
              <p:nvPr/>
            </p:nvSpPr>
            <p:spPr>
              <a:xfrm>
                <a:off x="7378560" y="461880"/>
                <a:ext cx="581760" cy="42840"/>
              </a:xfrm>
              <a:prstGeom prst="rect">
                <a:avLst/>
              </a:prstGeom>
              <a:solidFill>
                <a:srgbClr val="010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378560" y="504720"/>
                <a:ext cx="581760" cy="42480"/>
              </a:xfrm>
              <a:prstGeom prst="rect">
                <a:avLst/>
              </a:prstGeom>
              <a:solidFill>
                <a:srgbClr val="020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378560" y="547200"/>
                <a:ext cx="581760" cy="41760"/>
              </a:xfrm>
              <a:prstGeom prst="rect">
                <a:avLst/>
              </a:prstGeom>
              <a:solidFill>
                <a:srgbClr val="0307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378560" y="589320"/>
                <a:ext cx="581760" cy="43920"/>
              </a:xfrm>
              <a:prstGeom prst="rect">
                <a:avLst/>
              </a:prstGeom>
              <a:solidFill>
                <a:srgbClr val="0408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378560" y="633240"/>
                <a:ext cx="581760" cy="42840"/>
              </a:xfrm>
              <a:prstGeom prst="rect">
                <a:avLst/>
              </a:prstGeom>
              <a:solidFill>
                <a:srgbClr val="0409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378560" y="676080"/>
                <a:ext cx="581760" cy="42480"/>
              </a:xfrm>
              <a:prstGeom prst="rect">
                <a:avLst/>
              </a:prstGeom>
              <a:solidFill>
                <a:srgbClr val="050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378560" y="718920"/>
                <a:ext cx="581760" cy="42840"/>
              </a:xfrm>
              <a:prstGeom prst="rect">
                <a:avLst/>
              </a:prstGeom>
              <a:solidFill>
                <a:srgbClr val="060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378560" y="761760"/>
                <a:ext cx="581760" cy="42840"/>
              </a:xfrm>
              <a:prstGeom prst="rect">
                <a:avLst/>
              </a:prstGeom>
              <a:solidFill>
                <a:srgbClr val="060d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378560" y="804600"/>
                <a:ext cx="581760" cy="42840"/>
              </a:xfrm>
              <a:prstGeom prst="rect">
                <a:avLst/>
              </a:prstGeom>
              <a:solidFill>
                <a:srgbClr val="070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378560" y="847440"/>
                <a:ext cx="581760" cy="42480"/>
              </a:xfrm>
              <a:prstGeom prst="rect">
                <a:avLst/>
              </a:prstGeom>
              <a:solidFill>
                <a:srgbClr val="070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378560" y="890280"/>
                <a:ext cx="581760" cy="41760"/>
              </a:xfrm>
              <a:prstGeom prst="rect">
                <a:avLst/>
              </a:prstGeom>
              <a:solidFill>
                <a:srgbClr val="0810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378560" y="932040"/>
                <a:ext cx="581760" cy="45000"/>
              </a:xfrm>
              <a:prstGeom prst="rect">
                <a:avLst/>
              </a:prstGeom>
              <a:solidFill>
                <a:srgbClr val="0811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378560" y="977040"/>
                <a:ext cx="581760" cy="41760"/>
              </a:xfrm>
              <a:prstGeom prst="rect">
                <a:avLst/>
              </a:prstGeom>
              <a:solidFill>
                <a:srgbClr val="0912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378560" y="1019160"/>
                <a:ext cx="581760" cy="42480"/>
              </a:xfrm>
              <a:prstGeom prst="rect">
                <a:avLst/>
              </a:prstGeom>
              <a:solidFill>
                <a:srgbClr val="0913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378560" y="1061640"/>
                <a:ext cx="581760" cy="42840"/>
              </a:xfrm>
              <a:prstGeom prst="rect">
                <a:avLst/>
              </a:prstGeom>
              <a:solidFill>
                <a:srgbClr val="0a14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378560" y="1104840"/>
                <a:ext cx="581760" cy="42840"/>
              </a:xfrm>
              <a:prstGeom prst="rect">
                <a:avLst/>
              </a:prstGeom>
              <a:solidFill>
                <a:srgbClr val="0a15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378560" y="1147680"/>
                <a:ext cx="581760" cy="42840"/>
              </a:xfrm>
              <a:prstGeom prst="rect">
                <a:avLst/>
              </a:prstGeom>
              <a:solidFill>
                <a:srgbClr val="0b1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378560" y="1190520"/>
                <a:ext cx="581760" cy="42480"/>
              </a:xfrm>
              <a:prstGeom prst="rect">
                <a:avLst/>
              </a:prstGeom>
              <a:solidFill>
                <a:srgbClr val="0b1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378560" y="1233360"/>
                <a:ext cx="581760" cy="41760"/>
              </a:xfrm>
              <a:prstGeom prst="rect">
                <a:avLst/>
              </a:prstGeom>
              <a:solidFill>
                <a:srgbClr val="0c1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378560" y="1275120"/>
                <a:ext cx="581760" cy="45000"/>
              </a:xfrm>
              <a:prstGeom prst="rect">
                <a:avLst/>
              </a:prstGeom>
              <a:solidFill>
                <a:srgbClr val="0c1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378560" y="1320120"/>
                <a:ext cx="581760" cy="41760"/>
              </a:xfrm>
              <a:prstGeom prst="rect">
                <a:avLst/>
              </a:prstGeom>
              <a:solidFill>
                <a:srgbClr val="0d1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378560" y="1361880"/>
                <a:ext cx="581760" cy="42480"/>
              </a:xfrm>
              <a:prstGeom prst="rect">
                <a:avLst/>
              </a:prstGeom>
              <a:solidFill>
                <a:srgbClr val="0d1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378560" y="1404720"/>
                <a:ext cx="581760" cy="42840"/>
              </a:xfrm>
              <a:prstGeom prst="rect">
                <a:avLst/>
              </a:prstGeom>
              <a:solidFill>
                <a:srgbClr val="0e1c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378560" y="1447560"/>
                <a:ext cx="581760" cy="42840"/>
              </a:xfrm>
              <a:prstGeom prst="rect">
                <a:avLst/>
              </a:prstGeom>
              <a:solidFill>
                <a:srgbClr val="0e1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378560" y="1490400"/>
                <a:ext cx="581760" cy="42840"/>
              </a:xfrm>
              <a:prstGeom prst="rect">
                <a:avLst/>
              </a:prstGeom>
              <a:solidFill>
                <a:srgbClr val="0f1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378560" y="1533600"/>
                <a:ext cx="581760" cy="42480"/>
              </a:xfrm>
              <a:prstGeom prst="rect">
                <a:avLst/>
              </a:prstGeom>
              <a:solidFill>
                <a:srgbClr val="0f1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378560" y="1576080"/>
                <a:ext cx="581760" cy="41760"/>
              </a:xfrm>
              <a:prstGeom prst="rect">
                <a:avLst/>
              </a:prstGeom>
              <a:solidFill>
                <a:srgbClr val="102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378560" y="1617840"/>
                <a:ext cx="581760" cy="45000"/>
              </a:xfrm>
              <a:prstGeom prst="rect">
                <a:avLst/>
              </a:prstGeom>
              <a:solidFill>
                <a:srgbClr val="102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378560" y="1663200"/>
                <a:ext cx="581760" cy="41760"/>
              </a:xfrm>
              <a:prstGeom prst="rect">
                <a:avLst/>
              </a:prstGeom>
              <a:solidFill>
                <a:srgbClr val="112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378560" y="1704960"/>
                <a:ext cx="581760" cy="42480"/>
              </a:xfrm>
              <a:prstGeom prst="rect">
                <a:avLst/>
              </a:prstGeom>
              <a:solidFill>
                <a:srgbClr val="112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378560" y="1747800"/>
                <a:ext cx="581760" cy="42840"/>
              </a:xfrm>
              <a:prstGeom prst="rect">
                <a:avLst/>
              </a:prstGeom>
              <a:solidFill>
                <a:srgbClr val="1225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378560" y="1790640"/>
                <a:ext cx="581760" cy="42840"/>
              </a:xfrm>
              <a:prstGeom prst="rect">
                <a:avLst/>
              </a:prstGeom>
              <a:solidFill>
                <a:srgbClr val="1326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378560" y="1833480"/>
                <a:ext cx="581760" cy="42840"/>
              </a:xfrm>
              <a:prstGeom prst="rect">
                <a:avLst/>
              </a:prstGeom>
              <a:solidFill>
                <a:srgbClr val="1327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378560" y="1876320"/>
                <a:ext cx="581760" cy="42480"/>
              </a:xfrm>
              <a:prstGeom prst="rect">
                <a:avLst/>
              </a:prstGeom>
              <a:solidFill>
                <a:srgbClr val="142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378560" y="1919160"/>
                <a:ext cx="581760" cy="41760"/>
              </a:xfrm>
              <a:prstGeom prst="rect">
                <a:avLst/>
              </a:prstGeom>
              <a:solidFill>
                <a:srgbClr val="1429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78560" y="1960920"/>
                <a:ext cx="581760" cy="45000"/>
              </a:xfrm>
              <a:prstGeom prst="rect">
                <a:avLst/>
              </a:prstGeom>
              <a:solidFill>
                <a:srgbClr val="152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378560" y="2005920"/>
                <a:ext cx="581760" cy="41760"/>
              </a:xfrm>
              <a:prstGeom prst="rect">
                <a:avLst/>
              </a:prstGeom>
              <a:solidFill>
                <a:srgbClr val="152b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378560" y="2048040"/>
                <a:ext cx="581760" cy="42480"/>
              </a:xfrm>
              <a:prstGeom prst="rect">
                <a:avLst/>
              </a:prstGeom>
              <a:solidFill>
                <a:srgbClr val="162c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378560" y="2090520"/>
                <a:ext cx="581760" cy="42840"/>
              </a:xfrm>
              <a:prstGeom prst="rect">
                <a:avLst/>
              </a:prstGeom>
              <a:solidFill>
                <a:srgbClr val="162d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378560" y="2133360"/>
                <a:ext cx="581760" cy="42840"/>
              </a:xfrm>
              <a:prstGeom prst="rect">
                <a:avLst/>
              </a:prstGeom>
              <a:solidFill>
                <a:srgbClr val="172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378560" y="2176560"/>
                <a:ext cx="581760" cy="42840"/>
              </a:xfrm>
              <a:prstGeom prst="rect">
                <a:avLst/>
              </a:prstGeom>
              <a:solidFill>
                <a:srgbClr val="172f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378560" y="2219400"/>
                <a:ext cx="581760" cy="42480"/>
              </a:xfrm>
              <a:prstGeom prst="rect">
                <a:avLst/>
              </a:prstGeom>
              <a:solidFill>
                <a:srgbClr val="183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378560" y="2261880"/>
                <a:ext cx="581760" cy="41760"/>
              </a:xfrm>
              <a:prstGeom prst="rect">
                <a:avLst/>
              </a:prstGeom>
              <a:solidFill>
                <a:srgbClr val="1932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378560" y="2304000"/>
                <a:ext cx="581760" cy="45000"/>
              </a:xfrm>
              <a:prstGeom prst="rect">
                <a:avLst/>
              </a:prstGeom>
              <a:solidFill>
                <a:srgbClr val="1933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378560" y="2349000"/>
                <a:ext cx="581760" cy="41760"/>
              </a:xfrm>
              <a:prstGeom prst="rect">
                <a:avLst/>
              </a:prstGeom>
              <a:solidFill>
                <a:srgbClr val="1a34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378560" y="2390760"/>
                <a:ext cx="581760" cy="42480"/>
              </a:xfrm>
              <a:prstGeom prst="rect">
                <a:avLst/>
              </a:prstGeom>
              <a:solidFill>
                <a:srgbClr val="1a35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378560" y="2433600"/>
                <a:ext cx="581760" cy="42840"/>
              </a:xfrm>
              <a:prstGeom prst="rect">
                <a:avLst/>
              </a:prstGeom>
              <a:solidFill>
                <a:srgbClr val="1b36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378560" y="2476440"/>
                <a:ext cx="581760" cy="42840"/>
              </a:xfrm>
              <a:prstGeom prst="rect">
                <a:avLst/>
              </a:prstGeom>
              <a:solidFill>
                <a:srgbClr val="1b3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378560" y="2519280"/>
                <a:ext cx="581760" cy="42840"/>
              </a:xfrm>
              <a:prstGeom prst="rect">
                <a:avLst/>
              </a:prstGeom>
              <a:solidFill>
                <a:srgbClr val="1c3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378560" y="2562480"/>
                <a:ext cx="581760" cy="42480"/>
              </a:xfrm>
              <a:prstGeom prst="rect">
                <a:avLst/>
              </a:prstGeom>
              <a:solidFill>
                <a:srgbClr val="1c3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378560" y="2604960"/>
                <a:ext cx="581760" cy="41760"/>
              </a:xfrm>
              <a:prstGeom prst="rect">
                <a:avLst/>
              </a:prstGeom>
              <a:solidFill>
                <a:srgbClr val="1d3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378560" y="2646720"/>
                <a:ext cx="581760" cy="45000"/>
              </a:xfrm>
              <a:prstGeom prst="rect">
                <a:avLst/>
              </a:prstGeom>
              <a:solidFill>
                <a:srgbClr val="1d3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378560" y="2692080"/>
                <a:ext cx="581760" cy="41760"/>
              </a:xfrm>
              <a:prstGeom prst="rect">
                <a:avLst/>
              </a:prstGeom>
              <a:solidFill>
                <a:srgbClr val="1e3c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378560" y="2733840"/>
                <a:ext cx="581760" cy="42480"/>
              </a:xfrm>
              <a:prstGeom prst="rect">
                <a:avLst/>
              </a:prstGeom>
              <a:solidFill>
                <a:srgbClr val="1e3d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378560" y="2776320"/>
                <a:ext cx="581760" cy="42840"/>
              </a:xfrm>
              <a:prstGeom prst="rect">
                <a:avLst/>
              </a:prstGeom>
              <a:solidFill>
                <a:srgbClr val="1f3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378560" y="2819520"/>
                <a:ext cx="581760" cy="42840"/>
              </a:xfrm>
              <a:prstGeom prst="rect">
                <a:avLst/>
              </a:prstGeom>
              <a:solidFill>
                <a:srgbClr val="1f3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378560" y="2862360"/>
                <a:ext cx="581760" cy="42840"/>
              </a:xfrm>
              <a:prstGeom prst="rect">
                <a:avLst/>
              </a:prstGeom>
              <a:solidFill>
                <a:srgbClr val="2040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378560" y="2905200"/>
                <a:ext cx="581760" cy="42480"/>
              </a:xfrm>
              <a:prstGeom prst="rect">
                <a:avLst/>
              </a:prstGeom>
              <a:solidFill>
                <a:srgbClr val="2041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378560" y="2948040"/>
                <a:ext cx="581760" cy="42840"/>
              </a:xfrm>
              <a:prstGeom prst="rect">
                <a:avLst/>
              </a:prstGeom>
              <a:solidFill>
                <a:srgbClr val="214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378560" y="2990880"/>
                <a:ext cx="581760" cy="43920"/>
              </a:xfrm>
              <a:prstGeom prst="rect">
                <a:avLst/>
              </a:prstGeom>
              <a:solidFill>
                <a:srgbClr val="214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78560" y="3034800"/>
                <a:ext cx="581760" cy="41760"/>
              </a:xfrm>
              <a:prstGeom prst="rect">
                <a:avLst/>
              </a:prstGeom>
              <a:solidFill>
                <a:srgbClr val="224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78560" y="3076920"/>
                <a:ext cx="581760" cy="42480"/>
              </a:xfrm>
              <a:prstGeom prst="rect">
                <a:avLst/>
              </a:prstGeom>
              <a:solidFill>
                <a:srgbClr val="2245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78560" y="3119400"/>
                <a:ext cx="581760" cy="42840"/>
              </a:xfrm>
              <a:prstGeom prst="rect">
                <a:avLst/>
              </a:prstGeom>
              <a:solidFill>
                <a:srgbClr val="2346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78560" y="3162240"/>
                <a:ext cx="581760" cy="42840"/>
              </a:xfrm>
              <a:prstGeom prst="rect">
                <a:avLst/>
              </a:prstGeom>
              <a:solidFill>
                <a:srgbClr val="2347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78560" y="3205440"/>
                <a:ext cx="581760" cy="42840"/>
              </a:xfrm>
              <a:prstGeom prst="rect">
                <a:avLst/>
              </a:prstGeom>
              <a:solidFill>
                <a:srgbClr val="2448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378560" y="3248280"/>
                <a:ext cx="581760" cy="42480"/>
              </a:xfrm>
              <a:prstGeom prst="rect">
                <a:avLst/>
              </a:prstGeom>
              <a:solidFill>
                <a:srgbClr val="244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378560" y="3290760"/>
                <a:ext cx="581760" cy="42840"/>
              </a:xfrm>
              <a:prstGeom prst="rect">
                <a:avLst/>
              </a:prstGeom>
              <a:solidFill>
                <a:srgbClr val="254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78560" y="3333960"/>
                <a:ext cx="581760" cy="43920"/>
              </a:xfrm>
              <a:prstGeom prst="rect">
                <a:avLst/>
              </a:prstGeom>
              <a:solidFill>
                <a:srgbClr val="254b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78560" y="3377880"/>
                <a:ext cx="581760" cy="41760"/>
              </a:xfrm>
              <a:prstGeom prst="rect">
                <a:avLst/>
              </a:prstGeom>
              <a:solidFill>
                <a:srgbClr val="264c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378560" y="3419640"/>
                <a:ext cx="581760" cy="42480"/>
              </a:xfrm>
              <a:prstGeom prst="rect">
                <a:avLst/>
              </a:prstGeom>
              <a:solidFill>
                <a:srgbClr val="264d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378560" y="3462480"/>
                <a:ext cx="581760" cy="42840"/>
              </a:xfrm>
              <a:prstGeom prst="rect">
                <a:avLst/>
              </a:prstGeom>
              <a:solidFill>
                <a:srgbClr val="274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378560" y="3505320"/>
                <a:ext cx="581760" cy="42840"/>
              </a:xfrm>
              <a:prstGeom prst="rect">
                <a:avLst/>
              </a:prstGeom>
              <a:solidFill>
                <a:srgbClr val="274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378560" y="3548160"/>
                <a:ext cx="581760" cy="42840"/>
              </a:xfrm>
              <a:prstGeom prst="rect">
                <a:avLst/>
              </a:prstGeom>
              <a:solidFill>
                <a:srgbClr val="274f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378560" y="3591360"/>
                <a:ext cx="581760" cy="42480"/>
              </a:xfrm>
              <a:prstGeom prst="rect">
                <a:avLst/>
              </a:prstGeom>
              <a:solidFill>
                <a:srgbClr val="285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378560" y="3633840"/>
                <a:ext cx="581760" cy="42840"/>
              </a:xfrm>
              <a:prstGeom prst="rect">
                <a:avLst/>
              </a:prstGeom>
              <a:solidFill>
                <a:srgbClr val="2851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378560" y="3676680"/>
                <a:ext cx="581760" cy="43920"/>
              </a:xfrm>
              <a:prstGeom prst="rect">
                <a:avLst/>
              </a:prstGeom>
              <a:solidFill>
                <a:srgbClr val="295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378560" y="3720960"/>
                <a:ext cx="581760" cy="42840"/>
              </a:xfrm>
              <a:prstGeom prst="rect">
                <a:avLst/>
              </a:prstGeom>
              <a:solidFill>
                <a:srgbClr val="2953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378560" y="3763800"/>
                <a:ext cx="581760" cy="41400"/>
              </a:xfrm>
              <a:prstGeom prst="rect">
                <a:avLst/>
              </a:prstGeom>
              <a:solidFill>
                <a:srgbClr val="2953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378560" y="3805200"/>
                <a:ext cx="581760" cy="42840"/>
              </a:xfrm>
              <a:prstGeom prst="rect">
                <a:avLst/>
              </a:prstGeom>
              <a:solidFill>
                <a:srgbClr val="2a54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378560" y="3848400"/>
                <a:ext cx="581760" cy="42840"/>
              </a:xfrm>
              <a:prstGeom prst="rect">
                <a:avLst/>
              </a:prstGeom>
              <a:solidFill>
                <a:srgbClr val="2a5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378560" y="3891240"/>
                <a:ext cx="581760" cy="42840"/>
              </a:xfrm>
              <a:prstGeom prst="rect">
                <a:avLst/>
              </a:prstGeom>
              <a:solidFill>
                <a:srgbClr val="2a55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378560" y="3934080"/>
                <a:ext cx="581760" cy="42480"/>
              </a:xfrm>
              <a:prstGeom prst="rect">
                <a:avLst/>
              </a:prstGeom>
              <a:solidFill>
                <a:srgbClr val="2b56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78560" y="3976920"/>
                <a:ext cx="581760" cy="42840"/>
              </a:xfrm>
              <a:prstGeom prst="rect">
                <a:avLst/>
              </a:prstGeom>
              <a:solidFill>
                <a:srgbClr val="2b57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378560" y="4019760"/>
                <a:ext cx="581760" cy="43920"/>
              </a:xfrm>
              <a:prstGeom prst="rect">
                <a:avLst/>
              </a:prstGeom>
              <a:solidFill>
                <a:srgbClr val="2b5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378560" y="4063680"/>
                <a:ext cx="581760" cy="42840"/>
              </a:xfrm>
              <a:prstGeom prst="rect">
                <a:avLst/>
              </a:prstGeom>
              <a:solidFill>
                <a:srgbClr val="2c58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378560" y="4106520"/>
                <a:ext cx="581760" cy="41400"/>
              </a:xfrm>
              <a:prstGeom prst="rect">
                <a:avLst/>
              </a:prstGeom>
              <a:solidFill>
                <a:srgbClr val="2c59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378560" y="4148280"/>
                <a:ext cx="581760" cy="42840"/>
              </a:xfrm>
              <a:prstGeom prst="rect">
                <a:avLst/>
              </a:prstGeom>
              <a:solidFill>
                <a:srgbClr val="2c59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378560" y="4191120"/>
                <a:ext cx="581760" cy="42840"/>
              </a:xfrm>
              <a:prstGeom prst="rect">
                <a:avLst/>
              </a:prstGeom>
              <a:solidFill>
                <a:srgbClr val="2d5a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378560" y="4234320"/>
                <a:ext cx="581760" cy="42840"/>
              </a:xfrm>
              <a:prstGeom prst="rect">
                <a:avLst/>
              </a:prstGeom>
              <a:solidFill>
                <a:srgbClr val="2d5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378560" y="4277160"/>
                <a:ext cx="581760" cy="42480"/>
              </a:xfrm>
              <a:prstGeom prst="rect">
                <a:avLst/>
              </a:prstGeom>
              <a:solidFill>
                <a:srgbClr val="2d5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378560" y="4319640"/>
                <a:ext cx="581760" cy="42840"/>
              </a:xfrm>
              <a:prstGeom prst="rect">
                <a:avLst/>
              </a:prstGeom>
              <a:solidFill>
                <a:srgbClr val="2e5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378560" y="4362840"/>
                <a:ext cx="581760" cy="43920"/>
              </a:xfrm>
              <a:prstGeom prst="rect">
                <a:avLst/>
              </a:prstGeom>
              <a:solidFill>
                <a:srgbClr val="2e5c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378560" y="4406760"/>
                <a:ext cx="581760" cy="42840"/>
              </a:xfrm>
              <a:prstGeom prst="rect">
                <a:avLst/>
              </a:prstGeom>
              <a:solidFill>
                <a:srgbClr val="2e5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378560" y="4449600"/>
                <a:ext cx="581760" cy="41400"/>
              </a:xfrm>
              <a:prstGeom prst="rect">
                <a:avLst/>
              </a:prstGeom>
              <a:solidFill>
                <a:srgbClr val="2e5d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378560" y="4491360"/>
                <a:ext cx="581760" cy="42840"/>
              </a:xfrm>
              <a:prstGeom prst="rect">
                <a:avLst/>
              </a:prstGeom>
              <a:solidFill>
                <a:srgbClr val="2e5d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378560" y="4534200"/>
                <a:ext cx="581760" cy="42840"/>
              </a:xfrm>
              <a:prstGeom prst="rect">
                <a:avLst/>
              </a:prstGeom>
              <a:solidFill>
                <a:srgbClr val="2f5e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378560" y="4577040"/>
                <a:ext cx="581760" cy="42840"/>
              </a:xfrm>
              <a:prstGeom prst="rect">
                <a:avLst/>
              </a:prstGeom>
              <a:solidFill>
                <a:srgbClr val="2f5e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378560" y="4619880"/>
                <a:ext cx="581760" cy="42480"/>
              </a:xfrm>
              <a:prstGeom prst="rect">
                <a:avLst/>
              </a:prstGeom>
              <a:solidFill>
                <a:srgbClr val="2f5f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378560" y="4662720"/>
                <a:ext cx="581760" cy="42840"/>
              </a:xfrm>
              <a:prstGeom prst="rect">
                <a:avLst/>
              </a:prstGeom>
              <a:solidFill>
                <a:srgbClr val="2f5f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378560" y="4705560"/>
                <a:ext cx="581760" cy="43920"/>
              </a:xfrm>
              <a:prstGeom prst="rect">
                <a:avLst/>
              </a:prstGeom>
              <a:solidFill>
                <a:srgbClr val="3060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378560" y="4749840"/>
                <a:ext cx="581760" cy="42840"/>
              </a:xfrm>
              <a:prstGeom prst="rect">
                <a:avLst/>
              </a:prstGeom>
              <a:solidFill>
                <a:srgbClr val="3060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378560" y="4792680"/>
                <a:ext cx="581760" cy="41400"/>
              </a:xfrm>
              <a:prstGeom prst="rect">
                <a:avLst/>
              </a:prstGeom>
              <a:solidFill>
                <a:srgbClr val="306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378560" y="4834080"/>
                <a:ext cx="581760" cy="42840"/>
              </a:xfrm>
              <a:prstGeom prst="rect">
                <a:avLst/>
              </a:prstGeom>
              <a:solidFill>
                <a:srgbClr val="3061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378560" y="4877280"/>
                <a:ext cx="581760" cy="42840"/>
              </a:xfrm>
              <a:prstGeom prst="rect">
                <a:avLst/>
              </a:prstGeom>
              <a:solidFill>
                <a:srgbClr val="3061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378560" y="4920120"/>
                <a:ext cx="581760" cy="42840"/>
              </a:xfrm>
              <a:prstGeom prst="rect">
                <a:avLst/>
              </a:prstGeom>
              <a:solidFill>
                <a:srgbClr val="3061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378560" y="4962960"/>
                <a:ext cx="581760" cy="42480"/>
              </a:xfrm>
              <a:prstGeom prst="rect">
                <a:avLst/>
              </a:prstGeom>
              <a:solidFill>
                <a:srgbClr val="3162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378560" y="5005800"/>
                <a:ext cx="581760" cy="42840"/>
              </a:xfrm>
              <a:prstGeom prst="rect">
                <a:avLst/>
              </a:prstGeom>
              <a:solidFill>
                <a:srgbClr val="3162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378560" y="5048640"/>
                <a:ext cx="581760" cy="43920"/>
              </a:xfrm>
              <a:prstGeom prst="rect">
                <a:avLst/>
              </a:prstGeom>
              <a:solidFill>
                <a:srgbClr val="3162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378560" y="5092560"/>
                <a:ext cx="581760" cy="42840"/>
              </a:xfrm>
              <a:prstGeom prst="rect">
                <a:avLst/>
              </a:prstGeom>
              <a:solidFill>
                <a:srgbClr val="3162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378560" y="5135400"/>
                <a:ext cx="581760" cy="41400"/>
              </a:xfrm>
              <a:prstGeom prst="rect">
                <a:avLst/>
              </a:prstGeom>
              <a:solidFill>
                <a:srgbClr val="3163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378560" y="517716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378560" y="522000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378560" y="5262840"/>
                <a:ext cx="581760" cy="42840"/>
              </a:xfrm>
              <a:prstGeom prst="rect">
                <a:avLst/>
              </a:prstGeom>
              <a:solidFill>
                <a:srgbClr val="3163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378560" y="5306040"/>
                <a:ext cx="581760" cy="42480"/>
              </a:xfrm>
              <a:prstGeom prst="rect">
                <a:avLst/>
              </a:prstGeom>
              <a:solidFill>
                <a:srgbClr val="326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378560" y="5348520"/>
                <a:ext cx="581760" cy="42840"/>
              </a:xfrm>
              <a:prstGeom prst="rect">
                <a:avLst/>
              </a:prstGeom>
              <a:solidFill>
                <a:srgbClr val="3264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378560" y="5391720"/>
                <a:ext cx="581760" cy="4392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378560" y="5435640"/>
                <a:ext cx="581760" cy="4284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378560" y="5478480"/>
                <a:ext cx="581760" cy="4140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378560" y="5520240"/>
                <a:ext cx="581760" cy="42840"/>
              </a:xfrm>
              <a:prstGeom prst="rect">
                <a:avLst/>
              </a:prstGeom>
              <a:solidFill>
                <a:srgbClr val="3264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78560" y="5563080"/>
                <a:ext cx="581760" cy="4284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78560" y="5605920"/>
                <a:ext cx="581760" cy="4284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378560" y="5648760"/>
                <a:ext cx="581760" cy="42480"/>
              </a:xfrm>
              <a:prstGeom prst="rect">
                <a:avLst/>
              </a:prstGeom>
              <a:solidFill>
                <a:srgbClr val="3265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378560" y="569160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78560" y="5734440"/>
                <a:ext cx="581760" cy="4392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78560" y="577836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378560" y="5821560"/>
                <a:ext cx="581760" cy="4140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378560" y="5862960"/>
                <a:ext cx="581760" cy="42840"/>
              </a:xfrm>
              <a:prstGeom prst="rect">
                <a:avLst/>
              </a:prstGeom>
              <a:solidFill>
                <a:srgbClr val="326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378560" y="5905800"/>
                <a:ext cx="581760" cy="428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7378560" y="461880"/>
              <a:ext cx="583920" cy="5488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7378560" y="4805280"/>
            <a:ext cx="584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rot="5400000">
            <a:off x="7129800" y="5060520"/>
            <a:ext cx="107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ACT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rot="5400000">
            <a:off x="7643520" y="580428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8560" y="461880"/>
            <a:ext cx="584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5400000">
            <a:off x="7071480" y="97992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5400000">
            <a:off x="7643520" y="130680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268880" y="1147680"/>
            <a:ext cx="167760" cy="456840"/>
            <a:chOff x="4268880" y="1147680"/>
            <a:chExt cx="167760" cy="456840"/>
          </a:xfrm>
        </p:grpSpPr>
        <p:sp>
          <p:nvSpPr>
            <p:cNvPr id="438" name=""/>
            <p:cNvSpPr/>
            <p:nvPr/>
          </p:nvSpPr>
          <p:spPr>
            <a:xfrm>
              <a:off x="4351320" y="1147680"/>
              <a:ext cx="2160" cy="360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68880" y="1505880"/>
              <a:ext cx="167760" cy="9864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0" y="0"/>
                  </a:moveTo>
                  <a:lnTo>
                    <a:pt x="40" y="83"/>
                  </a:lnTo>
                  <a:lnTo>
                    <a:pt x="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4417920" y="3090960"/>
            <a:ext cx="1800" cy="342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717640" y="3433680"/>
            <a:ext cx="3302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2635200" y="3433680"/>
            <a:ext cx="169560" cy="344520"/>
            <a:chOff x="2635200" y="3433680"/>
            <a:chExt cx="169560" cy="344520"/>
          </a:xfrm>
        </p:grpSpPr>
        <p:sp>
          <p:nvSpPr>
            <p:cNvPr id="443" name=""/>
            <p:cNvSpPr/>
            <p:nvPr/>
          </p:nvSpPr>
          <p:spPr>
            <a:xfrm>
              <a:off x="2717640" y="3433680"/>
              <a:ext cx="1800" cy="24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35200" y="3678120"/>
              <a:ext cx="169560" cy="10008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0" y="0"/>
                  </a:moveTo>
                  <a:lnTo>
                    <a:pt x="39" y="84"/>
                  </a:lnTo>
                  <a:lnTo>
                    <a:pt x="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937120" y="3433680"/>
            <a:ext cx="166320" cy="344520"/>
            <a:chOff x="5937120" y="3433680"/>
            <a:chExt cx="166320" cy="344520"/>
          </a:xfrm>
        </p:grpSpPr>
        <p:sp>
          <p:nvSpPr>
            <p:cNvPr id="446" name=""/>
            <p:cNvSpPr/>
            <p:nvPr/>
          </p:nvSpPr>
          <p:spPr>
            <a:xfrm>
              <a:off x="6019200" y="3433680"/>
              <a:ext cx="2160" cy="24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937120" y="3678120"/>
              <a:ext cx="166320" cy="100080"/>
            </a:xfrm>
            <a:custGeom>
              <a:avLst/>
              <a:gdLst/>
              <a:ahLst/>
              <a:rect l="l" t="t" r="r" b="b"/>
              <a:pathLst>
                <a:path w="79" h="84">
                  <a:moveTo>
                    <a:pt x="0" y="0"/>
                  </a:moveTo>
                  <a:lnTo>
                    <a:pt x="40" y="84"/>
                  </a:lnTo>
                  <a:lnTo>
                    <a:pt x="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2635200" y="4119480"/>
            <a:ext cx="169560" cy="344520"/>
            <a:chOff x="2635200" y="4119480"/>
            <a:chExt cx="169560" cy="344520"/>
          </a:xfrm>
        </p:grpSpPr>
        <p:sp>
          <p:nvSpPr>
            <p:cNvPr id="449" name=""/>
            <p:cNvSpPr/>
            <p:nvPr/>
          </p:nvSpPr>
          <p:spPr>
            <a:xfrm>
              <a:off x="2717640" y="4119480"/>
              <a:ext cx="1800" cy="24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35200" y="4363920"/>
              <a:ext cx="169560" cy="10008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0" y="0"/>
                  </a:moveTo>
                  <a:lnTo>
                    <a:pt x="39" y="84"/>
                  </a:lnTo>
                  <a:lnTo>
                    <a:pt x="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2635200" y="4919760"/>
            <a:ext cx="169560" cy="342360"/>
            <a:chOff x="2635200" y="4919760"/>
            <a:chExt cx="169560" cy="342360"/>
          </a:xfrm>
        </p:grpSpPr>
        <p:sp>
          <p:nvSpPr>
            <p:cNvPr id="452" name=""/>
            <p:cNvSpPr/>
            <p:nvPr/>
          </p:nvSpPr>
          <p:spPr>
            <a:xfrm>
              <a:off x="2717640" y="4919760"/>
              <a:ext cx="1800" cy="24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35200" y="5163480"/>
              <a:ext cx="169560" cy="98640"/>
            </a:xfrm>
            <a:custGeom>
              <a:avLst/>
              <a:gdLst/>
              <a:ahLst/>
              <a:rect l="l" t="t" r="r" b="b"/>
              <a:pathLst>
                <a:path w="80" h="83">
                  <a:moveTo>
                    <a:pt x="0" y="0"/>
                  </a:moveTo>
                  <a:lnTo>
                    <a:pt x="39" y="83"/>
                  </a:lnTo>
                  <a:lnTo>
                    <a:pt x="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5937120" y="4119480"/>
            <a:ext cx="166320" cy="344520"/>
            <a:chOff x="5937120" y="4119480"/>
            <a:chExt cx="166320" cy="344520"/>
          </a:xfrm>
        </p:grpSpPr>
        <p:sp>
          <p:nvSpPr>
            <p:cNvPr id="455" name=""/>
            <p:cNvSpPr/>
            <p:nvPr/>
          </p:nvSpPr>
          <p:spPr>
            <a:xfrm>
              <a:off x="6019200" y="4119480"/>
              <a:ext cx="2160" cy="24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937120" y="4363920"/>
              <a:ext cx="166320" cy="100080"/>
            </a:xfrm>
            <a:custGeom>
              <a:avLst/>
              <a:gdLst/>
              <a:ahLst/>
              <a:rect l="l" t="t" r="r" b="b"/>
              <a:pathLst>
                <a:path w="79" h="84">
                  <a:moveTo>
                    <a:pt x="0" y="0"/>
                  </a:moveTo>
                  <a:lnTo>
                    <a:pt x="40" y="84"/>
                  </a:lnTo>
                  <a:lnTo>
                    <a:pt x="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5937120" y="4919760"/>
            <a:ext cx="166320" cy="342360"/>
            <a:chOff x="5937120" y="4919760"/>
            <a:chExt cx="166320" cy="342360"/>
          </a:xfrm>
        </p:grpSpPr>
        <p:sp>
          <p:nvSpPr>
            <p:cNvPr id="458" name=""/>
            <p:cNvSpPr/>
            <p:nvPr/>
          </p:nvSpPr>
          <p:spPr>
            <a:xfrm>
              <a:off x="6019200" y="4919760"/>
              <a:ext cx="2160" cy="246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937120" y="5163480"/>
              <a:ext cx="166320" cy="9864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0" y="0"/>
                  </a:moveTo>
                  <a:lnTo>
                    <a:pt x="40" y="83"/>
                  </a:lnTo>
                  <a:lnTo>
                    <a:pt x="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0" y="2405160"/>
            <a:ext cx="77940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-475200" y="2791440"/>
            <a:ext cx="1598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ime Horiz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288360" y="23428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961400" y="2176560"/>
            <a:ext cx="77796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5400000">
            <a:off x="7396560" y="3203640"/>
            <a:ext cx="200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ypes of Decis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5400000">
            <a:off x="8365320" y="37609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C781-24EA-484D-9AA3-9063AE8FC87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A836D-5BA5-4BF8-8BBF-2D6DF6B66DF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4191120" y="3733920"/>
            <a:ext cx="4343400" cy="990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oute individual aircraft hon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intenance restri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91120" y="2666880"/>
            <a:ext cx="43434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sign aircraft types to flight leg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ch that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contribu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maxi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91120" y="2666880"/>
            <a:ext cx="434340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 flight specifies origin, destination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nd departure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91120" y="3733920"/>
            <a:ext cx="434340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ntribution = Revenue - C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irline Schedule Plann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"/>
          <p:cNvSpPr/>
          <p:nvPr/>
        </p:nvSpPr>
        <p:spPr>
          <a:xfrm>
            <a:off x="1371600" y="1828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chedule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371600" y="2286000"/>
            <a:ext cx="2666880" cy="1145520"/>
            <a:chOff x="1371600" y="2286000"/>
            <a:chExt cx="2666880" cy="1145520"/>
          </a:xfrm>
        </p:grpSpPr>
        <p:sp>
          <p:nvSpPr>
            <p:cNvPr id="475" name=""/>
            <p:cNvSpPr/>
            <p:nvPr/>
          </p:nvSpPr>
          <p:spPr>
            <a:xfrm>
              <a:off x="1371600" y="2971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66880" y="2286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1371600" y="3429000"/>
            <a:ext cx="2666880" cy="1145520"/>
            <a:chOff x="1371600" y="3429000"/>
            <a:chExt cx="2666880" cy="1145520"/>
          </a:xfrm>
        </p:grpSpPr>
        <p:sp>
          <p:nvSpPr>
            <p:cNvPr id="478" name=""/>
            <p:cNvSpPr/>
            <p:nvPr/>
          </p:nvSpPr>
          <p:spPr>
            <a:xfrm>
              <a:off x="1371600" y="4114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666880" y="3429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1371600" y="4572000"/>
            <a:ext cx="2666880" cy="1145520"/>
            <a:chOff x="1371600" y="4572000"/>
            <a:chExt cx="2666880" cy="1145520"/>
          </a:xfrm>
        </p:grpSpPr>
        <p:sp>
          <p:nvSpPr>
            <p:cNvPr id="481" name=""/>
            <p:cNvSpPr/>
            <p:nvPr/>
          </p:nvSpPr>
          <p:spPr>
            <a:xfrm>
              <a:off x="1371600" y="52578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66880" y="457200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4191120" y="1600200"/>
            <a:ext cx="43434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lect optimal set of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flight leg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 a sche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91120" y="4800600"/>
            <a:ext cx="434340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sign crew (pilots and/or fligh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ttendants) to flight le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5E58-F5EE-44DC-BE0E-013C88401C2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1BF53-D4FD-4CC1-BEF5-476490D4FB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irlin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ning:  Integ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"/>
          <p:cNvSpPr/>
          <p:nvPr/>
        </p:nvSpPr>
        <p:spPr>
          <a:xfrm>
            <a:off x="685800" y="1676520"/>
            <a:ext cx="7772400" cy="468612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954080" y="1752480"/>
            <a:ext cx="5104800" cy="4267080"/>
            <a:chOff x="1954080" y="1752480"/>
            <a:chExt cx="5104800" cy="4267080"/>
          </a:xfrm>
        </p:grpSpPr>
        <p:sp>
          <p:nvSpPr>
            <p:cNvPr id="488" name=""/>
            <p:cNvSpPr/>
            <p:nvPr/>
          </p:nvSpPr>
          <p:spPr>
            <a:xfrm>
              <a:off x="1954080" y="1752480"/>
              <a:ext cx="510480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chedule Desig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54080" y="2971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954080" y="4114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954080" y="5257440"/>
              <a:ext cx="51048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28720" y="2590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28720" y="3733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28720" y="4876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1101-7D84-4D79-96E9-30EFCEA262E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21744-0C41-47B4-9D3A-110ED52EDA8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irlin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chedule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ning:  Integr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219320" y="1752480"/>
            <a:ext cx="5104440" cy="4267080"/>
            <a:chOff x="1219320" y="1752480"/>
            <a:chExt cx="5104440" cy="4267080"/>
          </a:xfrm>
        </p:grpSpPr>
        <p:sp>
          <p:nvSpPr>
            <p:cNvPr id="497" name=""/>
            <p:cNvSpPr/>
            <p:nvPr/>
          </p:nvSpPr>
          <p:spPr>
            <a:xfrm>
              <a:off x="1219320" y="1752480"/>
              <a:ext cx="510444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chedule Desig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19320" y="2971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leet Assign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219320" y="4114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ircraft Rou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219320" y="5257440"/>
              <a:ext cx="510444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rew Schedu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693600" y="2590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693600" y="3733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693600" y="48765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6324480" y="337176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543800" y="3371760"/>
            <a:ext cx="0" cy="1200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6324120" y="45720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24480" y="200016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43800" y="200016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324120" y="314316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324480" y="46782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43800" y="4678200"/>
            <a:ext cx="0" cy="1036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6324120" y="57150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324480" y="3371760"/>
            <a:ext cx="1727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051760" y="3371760"/>
            <a:ext cx="0" cy="2648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6324480" y="6019920"/>
            <a:ext cx="1727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D457-F148-4524-AAB1-A7B7D108A6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EBA89D-E8ED-49B0-98FE-6E44941081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Flight Schedu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Minimum turn times = 30 minu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447920" y="2209680"/>
          <a:ext cx="6476760" cy="42674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6002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light No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rig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stin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p. Ti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rival Ti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: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: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: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: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: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7: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: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: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C169-CBD0-4A98-86ED-11DC137FEC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CD2C3-2561-49E6-8637-6ADCCDDB14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Time-Space Flight Network Nod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ssociated with each nod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s a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cation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l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a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m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t(j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Departure Nod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rresponds to a flight departure from locatio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l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t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j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n Arrival Nod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orresponds to a flight arrival at locatio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l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t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j) – min_turn_tim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86800" indent="-225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t(j)= arrival time of flight + min_turn_time = flight ready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A2DA-FC5C-47DB-B3E9-1C663A0D7E1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4CCB8-F1C3-46BA-BBEC-B02EB6DAD5DC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ime-Space Flight Network Arc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ssociated with each arc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jk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(with endnodes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j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)  is an aircraft movement in space and ti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Flight Arc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jk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presents a flight departing locatio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l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t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nd arriving at locatio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l(k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t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k) – min_turn_ti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Ground Arc or Connection Arc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jk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epresents an aircraft on the ground at location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l(j) (= l(k)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rom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j)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until time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t(k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nhart 1.206J/16.77J/ESD.215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81FF-5D21-48FD-89F8-515F8C79D45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32F78-0295-40E3-8C98-9EC5B2903D59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03:11:32Z</dcterms:created>
  <dc:creator>Andrew P. Armacost</dc:creator>
  <dc:description/>
  <dc:language>en-US</dc:language>
  <cp:lastModifiedBy>CEE</cp:lastModifiedBy>
  <cp:lastPrinted>2000-05-28T17:01:40Z</cp:lastPrinted>
  <dcterms:modified xsi:type="dcterms:W3CDTF">2004-01-15T22:43:04Z</dcterms:modified>
  <cp:revision>309</cp:revision>
  <dc:subject/>
  <dc:title>Thesis Proposal Meeting</dc:title>
</cp:coreProperties>
</file>